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542-FCD0-4895-A68D-CA641408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0D2-D887-452C-A891-A71E2A6C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D80-BD33-4D6F-AB93-B7707D31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C4F-33C1-4B19-B7F2-24E38066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306-76C2-4B0D-9005-1C6C8599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FB0-079A-48A7-B2FF-232E8691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00F-DB77-4CE6-A112-596CA4BA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298-5594-4B29-B097-DD0C60BB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A74-E1B4-41A4-BCD9-7543062F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B60-9E12-47CF-85B7-9B5DFE86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E37-1CA2-46E4-B397-FF71C9B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7AD-73DF-4513-9261-F03B9604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72E5-9DDE-40FE-8918-702B267FB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84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52280"/>
            <a:ext cx="60984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52280"/>
            <a:ext cx="60984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52280"/>
            <a:ext cx="60984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1" idx="6"/>
            <a:endCxn id="42" idx="2"/>
          </p:cNvCxnSpPr>
          <p:nvPr/>
        </p:nvCxnSpPr>
        <p:spPr>
          <a:xfrm>
            <a:off x="762120" y="457200"/>
            <a:ext cx="533520" cy="3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2" idx="6"/>
            <a:endCxn id="43" idx="2"/>
          </p:cNvCxnSpPr>
          <p:nvPr/>
        </p:nvCxnSpPr>
        <p:spPr>
          <a:xfrm>
            <a:off x="1905120" y="457200"/>
            <a:ext cx="609840" cy="3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6"/>
            <a:endCxn id="44" idx="2"/>
          </p:cNvCxnSpPr>
          <p:nvPr/>
        </p:nvCxnSpPr>
        <p:spPr>
          <a:xfrm>
            <a:off x="3124080" y="457200"/>
            <a:ext cx="610200" cy="3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4" idx="6"/>
            <a:endCxn id="45" idx="2"/>
          </p:cNvCxnSpPr>
          <p:nvPr/>
        </p:nvCxnSpPr>
        <p:spPr>
          <a:xfrm>
            <a:off x="4343400" y="457200"/>
            <a:ext cx="533880" cy="3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6"/>
            <a:endCxn id="46" idx="2"/>
          </p:cNvCxnSpPr>
          <p:nvPr/>
        </p:nvCxnSpPr>
        <p:spPr>
          <a:xfrm>
            <a:off x="5486400" y="457200"/>
            <a:ext cx="609840" cy="3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6" idx="6"/>
            <a:endCxn id="47" idx="2"/>
          </p:cNvCxnSpPr>
          <p:nvPr/>
        </p:nvCxnSpPr>
        <p:spPr>
          <a:xfrm>
            <a:off x="6705720" y="457200"/>
            <a:ext cx="533520" cy="3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6"/>
            <a:endCxn id="48" idx="2"/>
          </p:cNvCxnSpPr>
          <p:nvPr/>
        </p:nvCxnSpPr>
        <p:spPr>
          <a:xfrm>
            <a:off x="7848720" y="457200"/>
            <a:ext cx="457560" cy="3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52280" y="990720"/>
            <a:ext cx="60984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990720"/>
            <a:ext cx="60984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99072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99072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99072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990720"/>
            <a:ext cx="60984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990720"/>
            <a:ext cx="60984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05920" y="99072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6" idx="6"/>
            <a:endCxn id="57" idx="2"/>
          </p:cNvCxnSpPr>
          <p:nvPr/>
        </p:nvCxnSpPr>
        <p:spPr>
          <a:xfrm>
            <a:off x="762120" y="1295640"/>
            <a:ext cx="533520" cy="36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6"/>
            <a:endCxn id="58" idx="2"/>
          </p:cNvCxnSpPr>
          <p:nvPr/>
        </p:nvCxnSpPr>
        <p:spPr>
          <a:xfrm>
            <a:off x="1905120" y="1295640"/>
            <a:ext cx="609840" cy="36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6"/>
            <a:endCxn id="59" idx="2"/>
          </p:cNvCxnSpPr>
          <p:nvPr/>
        </p:nvCxnSpPr>
        <p:spPr>
          <a:xfrm>
            <a:off x="3124080" y="1295640"/>
            <a:ext cx="610200" cy="36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9" idx="6"/>
            <a:endCxn id="60" idx="2"/>
          </p:cNvCxnSpPr>
          <p:nvPr/>
        </p:nvCxnSpPr>
        <p:spPr>
          <a:xfrm>
            <a:off x="4343400" y="1295640"/>
            <a:ext cx="533880" cy="36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6"/>
            <a:endCxn id="61" idx="2"/>
          </p:cNvCxnSpPr>
          <p:nvPr/>
        </p:nvCxnSpPr>
        <p:spPr>
          <a:xfrm>
            <a:off x="5486400" y="1295640"/>
            <a:ext cx="609840" cy="36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1" idx="6"/>
            <a:endCxn id="62" idx="2"/>
          </p:cNvCxnSpPr>
          <p:nvPr/>
        </p:nvCxnSpPr>
        <p:spPr>
          <a:xfrm>
            <a:off x="6705720" y="1295640"/>
            <a:ext cx="533520" cy="36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2" idx="6"/>
            <a:endCxn id="63" idx="2"/>
          </p:cNvCxnSpPr>
          <p:nvPr/>
        </p:nvCxnSpPr>
        <p:spPr>
          <a:xfrm>
            <a:off x="7848720" y="1295640"/>
            <a:ext cx="457560" cy="36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152280" y="1828800"/>
            <a:ext cx="60984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828800"/>
            <a:ext cx="60984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18288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18288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18288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828800"/>
            <a:ext cx="60984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1828800"/>
            <a:ext cx="60984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18288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1" idx="6"/>
            <a:endCxn id="72" idx="2"/>
          </p:cNvCxnSpPr>
          <p:nvPr/>
        </p:nvCxnSpPr>
        <p:spPr>
          <a:xfrm>
            <a:off x="762120" y="2133720"/>
            <a:ext cx="533520" cy="3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2" idx="6"/>
            <a:endCxn id="73" idx="2"/>
          </p:cNvCxnSpPr>
          <p:nvPr/>
        </p:nvCxnSpPr>
        <p:spPr>
          <a:xfrm>
            <a:off x="1905120" y="2133720"/>
            <a:ext cx="609840" cy="3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3" idx="6"/>
            <a:endCxn id="74" idx="2"/>
          </p:cNvCxnSpPr>
          <p:nvPr/>
        </p:nvCxnSpPr>
        <p:spPr>
          <a:xfrm>
            <a:off x="3124080" y="2133720"/>
            <a:ext cx="610200" cy="3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4" idx="6"/>
            <a:endCxn id="75" idx="2"/>
          </p:cNvCxnSpPr>
          <p:nvPr/>
        </p:nvCxnSpPr>
        <p:spPr>
          <a:xfrm>
            <a:off x="4343400" y="2133720"/>
            <a:ext cx="533880" cy="3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5" idx="6"/>
            <a:endCxn id="76" idx="2"/>
          </p:cNvCxnSpPr>
          <p:nvPr/>
        </p:nvCxnSpPr>
        <p:spPr>
          <a:xfrm>
            <a:off x="5486400" y="2133720"/>
            <a:ext cx="609840" cy="3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6" idx="6"/>
            <a:endCxn id="77" idx="2"/>
          </p:cNvCxnSpPr>
          <p:nvPr/>
        </p:nvCxnSpPr>
        <p:spPr>
          <a:xfrm>
            <a:off x="6705720" y="2133720"/>
            <a:ext cx="533520" cy="3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7" idx="6"/>
            <a:endCxn id="78" idx="2"/>
          </p:cNvCxnSpPr>
          <p:nvPr/>
        </p:nvCxnSpPr>
        <p:spPr>
          <a:xfrm>
            <a:off x="7848720" y="2133720"/>
            <a:ext cx="457560" cy="3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52280" y="2666880"/>
            <a:ext cx="60984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2666880"/>
            <a:ext cx="60984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2666880"/>
            <a:ext cx="60984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2666880"/>
            <a:ext cx="60984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6" idx="6"/>
            <a:endCxn id="87" idx="2"/>
          </p:cNvCxnSpPr>
          <p:nvPr/>
        </p:nvCxnSpPr>
        <p:spPr>
          <a:xfrm>
            <a:off x="762120" y="2971800"/>
            <a:ext cx="533520" cy="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7" idx="6"/>
            <a:endCxn id="88" idx="2"/>
          </p:cNvCxnSpPr>
          <p:nvPr/>
        </p:nvCxnSpPr>
        <p:spPr>
          <a:xfrm>
            <a:off x="1905120" y="2971800"/>
            <a:ext cx="609840" cy="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6"/>
            <a:endCxn id="89" idx="2"/>
          </p:cNvCxnSpPr>
          <p:nvPr/>
        </p:nvCxnSpPr>
        <p:spPr>
          <a:xfrm>
            <a:off x="3124080" y="2971800"/>
            <a:ext cx="610200" cy="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9" idx="6"/>
            <a:endCxn id="90" idx="2"/>
          </p:cNvCxnSpPr>
          <p:nvPr/>
        </p:nvCxnSpPr>
        <p:spPr>
          <a:xfrm>
            <a:off x="4343400" y="2971800"/>
            <a:ext cx="533880" cy="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0" idx="6"/>
            <a:endCxn id="91" idx="2"/>
          </p:cNvCxnSpPr>
          <p:nvPr/>
        </p:nvCxnSpPr>
        <p:spPr>
          <a:xfrm>
            <a:off x="5486400" y="2971800"/>
            <a:ext cx="609840" cy="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6"/>
            <a:endCxn id="92" idx="2"/>
          </p:cNvCxnSpPr>
          <p:nvPr/>
        </p:nvCxnSpPr>
        <p:spPr>
          <a:xfrm>
            <a:off x="6705720" y="2971800"/>
            <a:ext cx="533520" cy="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6"/>
            <a:endCxn id="93" idx="2"/>
          </p:cNvCxnSpPr>
          <p:nvPr/>
        </p:nvCxnSpPr>
        <p:spPr>
          <a:xfrm>
            <a:off x="7848720" y="2971800"/>
            <a:ext cx="457560" cy="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52280" y="3505320"/>
            <a:ext cx="60984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505320"/>
            <a:ext cx="60984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505320"/>
            <a:ext cx="60948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505320"/>
            <a:ext cx="60948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3505320"/>
            <a:ext cx="60948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505320"/>
            <a:ext cx="60984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3505320"/>
            <a:ext cx="60984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3505320"/>
            <a:ext cx="60948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1" idx="6"/>
            <a:endCxn id="102" idx="2"/>
          </p:cNvCxnSpPr>
          <p:nvPr/>
        </p:nvCxnSpPr>
        <p:spPr>
          <a:xfrm>
            <a:off x="762120" y="3810240"/>
            <a:ext cx="533520" cy="36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2" idx="6"/>
            <a:endCxn id="103" idx="2"/>
          </p:cNvCxnSpPr>
          <p:nvPr/>
        </p:nvCxnSpPr>
        <p:spPr>
          <a:xfrm>
            <a:off x="1905120" y="3810240"/>
            <a:ext cx="609840" cy="36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3" idx="6"/>
            <a:endCxn id="104" idx="2"/>
          </p:cNvCxnSpPr>
          <p:nvPr/>
        </p:nvCxnSpPr>
        <p:spPr>
          <a:xfrm>
            <a:off x="3124080" y="3810240"/>
            <a:ext cx="610200" cy="36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6"/>
            <a:endCxn id="105" idx="2"/>
          </p:cNvCxnSpPr>
          <p:nvPr/>
        </p:nvCxnSpPr>
        <p:spPr>
          <a:xfrm>
            <a:off x="4343400" y="3810240"/>
            <a:ext cx="533880" cy="36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5" idx="6"/>
            <a:endCxn id="106" idx="2"/>
          </p:cNvCxnSpPr>
          <p:nvPr/>
        </p:nvCxnSpPr>
        <p:spPr>
          <a:xfrm>
            <a:off x="5486400" y="3810240"/>
            <a:ext cx="609840" cy="36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6" idx="6"/>
            <a:endCxn id="107" idx="2"/>
          </p:cNvCxnSpPr>
          <p:nvPr/>
        </p:nvCxnSpPr>
        <p:spPr>
          <a:xfrm>
            <a:off x="6705720" y="3810240"/>
            <a:ext cx="533520" cy="36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7" idx="6"/>
            <a:endCxn id="108" idx="2"/>
          </p:cNvCxnSpPr>
          <p:nvPr/>
        </p:nvCxnSpPr>
        <p:spPr>
          <a:xfrm>
            <a:off x="7848720" y="3810240"/>
            <a:ext cx="457560" cy="36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52280" y="4343400"/>
            <a:ext cx="60984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343400"/>
            <a:ext cx="60984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343400"/>
            <a:ext cx="60948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4343400"/>
            <a:ext cx="60948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4343400"/>
            <a:ext cx="60948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343400"/>
            <a:ext cx="60984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4343400"/>
            <a:ext cx="60984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4343400"/>
            <a:ext cx="60948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6" idx="6"/>
            <a:endCxn id="117" idx="2"/>
          </p:cNvCxnSpPr>
          <p:nvPr/>
        </p:nvCxnSpPr>
        <p:spPr>
          <a:xfrm>
            <a:off x="762120" y="4648320"/>
            <a:ext cx="533520" cy="3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6"/>
            <a:endCxn id="118" idx="2"/>
          </p:cNvCxnSpPr>
          <p:nvPr/>
        </p:nvCxnSpPr>
        <p:spPr>
          <a:xfrm>
            <a:off x="1905120" y="4648320"/>
            <a:ext cx="609840" cy="3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8" idx="6"/>
            <a:endCxn id="119" idx="2"/>
          </p:cNvCxnSpPr>
          <p:nvPr/>
        </p:nvCxnSpPr>
        <p:spPr>
          <a:xfrm>
            <a:off x="3124080" y="4648320"/>
            <a:ext cx="610200" cy="3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6"/>
            <a:endCxn id="120" idx="2"/>
          </p:cNvCxnSpPr>
          <p:nvPr/>
        </p:nvCxnSpPr>
        <p:spPr>
          <a:xfrm>
            <a:off x="4343400" y="4648320"/>
            <a:ext cx="533880" cy="3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0" idx="6"/>
            <a:endCxn id="121" idx="2"/>
          </p:cNvCxnSpPr>
          <p:nvPr/>
        </p:nvCxnSpPr>
        <p:spPr>
          <a:xfrm>
            <a:off x="5486400" y="4648320"/>
            <a:ext cx="609840" cy="3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6"/>
            <a:endCxn id="122" idx="2"/>
          </p:cNvCxnSpPr>
          <p:nvPr/>
        </p:nvCxnSpPr>
        <p:spPr>
          <a:xfrm>
            <a:off x="6705720" y="4648320"/>
            <a:ext cx="533520" cy="3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2" idx="6"/>
            <a:endCxn id="123" idx="2"/>
          </p:cNvCxnSpPr>
          <p:nvPr/>
        </p:nvCxnSpPr>
        <p:spPr>
          <a:xfrm>
            <a:off x="7848720" y="4648320"/>
            <a:ext cx="457560" cy="3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52280" y="5181480"/>
            <a:ext cx="60984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181480"/>
            <a:ext cx="60984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181480"/>
            <a:ext cx="60984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5181480"/>
            <a:ext cx="60984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1" idx="6"/>
            <a:endCxn id="132" idx="2"/>
          </p:cNvCxnSpPr>
          <p:nvPr/>
        </p:nvCxnSpPr>
        <p:spPr>
          <a:xfrm>
            <a:off x="762120" y="5486400"/>
            <a:ext cx="533520" cy="3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2" idx="6"/>
            <a:endCxn id="133" idx="2"/>
          </p:cNvCxnSpPr>
          <p:nvPr/>
        </p:nvCxnSpPr>
        <p:spPr>
          <a:xfrm>
            <a:off x="1905120" y="5486400"/>
            <a:ext cx="609840" cy="3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3" idx="6"/>
            <a:endCxn id="134" idx="2"/>
          </p:cNvCxnSpPr>
          <p:nvPr/>
        </p:nvCxnSpPr>
        <p:spPr>
          <a:xfrm>
            <a:off x="3124080" y="5486400"/>
            <a:ext cx="610200" cy="3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4" idx="6"/>
            <a:endCxn id="135" idx="2"/>
          </p:cNvCxnSpPr>
          <p:nvPr/>
        </p:nvCxnSpPr>
        <p:spPr>
          <a:xfrm>
            <a:off x="4343400" y="5486400"/>
            <a:ext cx="533880" cy="3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6"/>
            <a:endCxn id="136" idx="2"/>
          </p:cNvCxnSpPr>
          <p:nvPr/>
        </p:nvCxnSpPr>
        <p:spPr>
          <a:xfrm>
            <a:off x="5486400" y="5486400"/>
            <a:ext cx="609840" cy="3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6" idx="6"/>
            <a:endCxn id="137" idx="2"/>
          </p:cNvCxnSpPr>
          <p:nvPr/>
        </p:nvCxnSpPr>
        <p:spPr>
          <a:xfrm>
            <a:off x="6705720" y="5486400"/>
            <a:ext cx="533520" cy="3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6"/>
            <a:endCxn id="138" idx="2"/>
          </p:cNvCxnSpPr>
          <p:nvPr/>
        </p:nvCxnSpPr>
        <p:spPr>
          <a:xfrm>
            <a:off x="7848720" y="5486400"/>
            <a:ext cx="457560" cy="3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152280" y="6019920"/>
            <a:ext cx="60984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6019920"/>
            <a:ext cx="60984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6019920"/>
            <a:ext cx="60948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6019920"/>
            <a:ext cx="60948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6019920"/>
            <a:ext cx="60948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6019920"/>
            <a:ext cx="60984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6019920"/>
            <a:ext cx="60984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05920" y="6019920"/>
            <a:ext cx="60948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9560" y="228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61520" y="228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18520" y="228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23840" y="228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80840" y="228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90520" y="228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0392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92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4220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2324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520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4752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0452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1420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0284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348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4644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0344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448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4148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2216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84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35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88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884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611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181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041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1384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471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31" idx="4"/>
            <a:endCxn id="146" idx="0"/>
          </p:cNvCxnSpPr>
          <p:nvPr/>
        </p:nvCxnSpPr>
        <p:spPr>
          <a:xfrm>
            <a:off x="457200" y="5791320"/>
            <a:ext cx="360" cy="2289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32" idx="4"/>
            <a:endCxn id="147" idx="0"/>
          </p:cNvCxnSpPr>
          <p:nvPr/>
        </p:nvCxnSpPr>
        <p:spPr>
          <a:xfrm>
            <a:off x="1600200" y="5791320"/>
            <a:ext cx="360" cy="2289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33" idx="4"/>
            <a:endCxn id="148" idx="0"/>
          </p:cNvCxnSpPr>
          <p:nvPr/>
        </p:nvCxnSpPr>
        <p:spPr>
          <a:xfrm>
            <a:off x="2819520" y="5791320"/>
            <a:ext cx="360" cy="2289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34" idx="4"/>
            <a:endCxn id="149" idx="0"/>
          </p:cNvCxnSpPr>
          <p:nvPr/>
        </p:nvCxnSpPr>
        <p:spPr>
          <a:xfrm>
            <a:off x="4038840" y="5791320"/>
            <a:ext cx="360" cy="2289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35" idx="4"/>
            <a:endCxn id="150" idx="0"/>
          </p:cNvCxnSpPr>
          <p:nvPr/>
        </p:nvCxnSpPr>
        <p:spPr>
          <a:xfrm>
            <a:off x="5181840" y="5791320"/>
            <a:ext cx="360" cy="2289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36" idx="4"/>
            <a:endCxn id="151" idx="0"/>
          </p:cNvCxnSpPr>
          <p:nvPr/>
        </p:nvCxnSpPr>
        <p:spPr>
          <a:xfrm>
            <a:off x="6400800" y="5791320"/>
            <a:ext cx="360" cy="2289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37" idx="4"/>
            <a:endCxn id="152" idx="0"/>
          </p:cNvCxnSpPr>
          <p:nvPr/>
        </p:nvCxnSpPr>
        <p:spPr>
          <a:xfrm>
            <a:off x="7543800" y="5791320"/>
            <a:ext cx="360" cy="2289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38" idx="4"/>
            <a:endCxn id="153" idx="0"/>
          </p:cNvCxnSpPr>
          <p:nvPr/>
        </p:nvCxnSpPr>
        <p:spPr>
          <a:xfrm>
            <a:off x="8610840" y="5791320"/>
            <a:ext cx="360" cy="2289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16" idx="3"/>
            <a:endCxn id="146" idx="1"/>
          </p:cNvCxnSpPr>
          <p:nvPr/>
        </p:nvCxnSpPr>
        <p:spPr>
          <a:xfrm rot="16200000">
            <a:off x="-381240" y="5486400"/>
            <a:ext cx="1245960" cy="3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17" idx="3"/>
            <a:endCxn id="147" idx="1"/>
          </p:cNvCxnSpPr>
          <p:nvPr/>
        </p:nvCxnSpPr>
        <p:spPr>
          <a:xfrm rot="16200000">
            <a:off x="761760" y="5486400"/>
            <a:ext cx="1245960" cy="3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18" idx="3"/>
            <a:endCxn id="148" idx="1"/>
          </p:cNvCxnSpPr>
          <p:nvPr/>
        </p:nvCxnSpPr>
        <p:spPr>
          <a:xfrm rot="16200000">
            <a:off x="1981080" y="5486400"/>
            <a:ext cx="1245960" cy="3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19" idx="3"/>
            <a:endCxn id="149" idx="1"/>
          </p:cNvCxnSpPr>
          <p:nvPr/>
        </p:nvCxnSpPr>
        <p:spPr>
          <a:xfrm rot="16200000">
            <a:off x="3200400" y="5486400"/>
            <a:ext cx="1245960" cy="3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20" idx="3"/>
            <a:endCxn id="150" idx="1"/>
          </p:cNvCxnSpPr>
          <p:nvPr/>
        </p:nvCxnSpPr>
        <p:spPr>
          <a:xfrm rot="16200000">
            <a:off x="4343400" y="5486400"/>
            <a:ext cx="1245960" cy="3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21" idx="3"/>
            <a:endCxn id="151" idx="1"/>
          </p:cNvCxnSpPr>
          <p:nvPr/>
        </p:nvCxnSpPr>
        <p:spPr>
          <a:xfrm rot="16200000">
            <a:off x="5562360" y="5486400"/>
            <a:ext cx="1245960" cy="3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22" idx="3"/>
            <a:endCxn id="152" idx="1"/>
          </p:cNvCxnSpPr>
          <p:nvPr/>
        </p:nvCxnSpPr>
        <p:spPr>
          <a:xfrm rot="16200000">
            <a:off x="6705360" y="5486400"/>
            <a:ext cx="1245960" cy="3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23" idx="3"/>
            <a:endCxn id="153" idx="1"/>
          </p:cNvCxnSpPr>
          <p:nvPr/>
        </p:nvCxnSpPr>
        <p:spPr>
          <a:xfrm rot="16200000">
            <a:off x="7772400" y="5486400"/>
            <a:ext cx="1245960" cy="3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16" idx="4"/>
            <a:endCxn id="131" idx="0"/>
          </p:cNvCxnSpPr>
          <p:nvPr/>
        </p:nvCxnSpPr>
        <p:spPr>
          <a:xfrm>
            <a:off x="457200" y="4952880"/>
            <a:ext cx="360" cy="2289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17" idx="4"/>
            <a:endCxn id="132" idx="0"/>
          </p:cNvCxnSpPr>
          <p:nvPr/>
        </p:nvCxnSpPr>
        <p:spPr>
          <a:xfrm>
            <a:off x="1600200" y="4952880"/>
            <a:ext cx="360" cy="2289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18" idx="4"/>
            <a:endCxn id="133" idx="0"/>
          </p:cNvCxnSpPr>
          <p:nvPr/>
        </p:nvCxnSpPr>
        <p:spPr>
          <a:xfrm>
            <a:off x="2819520" y="4952880"/>
            <a:ext cx="360" cy="2289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19" idx="4"/>
            <a:endCxn id="134" idx="0"/>
          </p:cNvCxnSpPr>
          <p:nvPr/>
        </p:nvCxnSpPr>
        <p:spPr>
          <a:xfrm>
            <a:off x="4038840" y="4952880"/>
            <a:ext cx="360" cy="2289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20" idx="4"/>
            <a:endCxn id="135" idx="0"/>
          </p:cNvCxnSpPr>
          <p:nvPr/>
        </p:nvCxnSpPr>
        <p:spPr>
          <a:xfrm>
            <a:off x="5181840" y="4952880"/>
            <a:ext cx="360" cy="2289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21" idx="4"/>
            <a:endCxn id="136" idx="0"/>
          </p:cNvCxnSpPr>
          <p:nvPr/>
        </p:nvCxnSpPr>
        <p:spPr>
          <a:xfrm>
            <a:off x="6400800" y="4952880"/>
            <a:ext cx="360" cy="2289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22" idx="4"/>
            <a:endCxn id="137" idx="0"/>
          </p:cNvCxnSpPr>
          <p:nvPr/>
        </p:nvCxnSpPr>
        <p:spPr>
          <a:xfrm>
            <a:off x="7543800" y="4952880"/>
            <a:ext cx="360" cy="2289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23" idx="4"/>
            <a:endCxn id="138" idx="0"/>
          </p:cNvCxnSpPr>
          <p:nvPr/>
        </p:nvCxnSpPr>
        <p:spPr>
          <a:xfrm>
            <a:off x="8610840" y="4952880"/>
            <a:ext cx="360" cy="2289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01" idx="4"/>
            <a:endCxn id="131" idx="7"/>
          </p:cNvCxnSpPr>
          <p:nvPr/>
        </p:nvCxnSpPr>
        <p:spPr>
          <a:xfrm flipH="1" rot="16200000">
            <a:off x="-12960" y="4584600"/>
            <a:ext cx="1156320" cy="216000"/>
          </a:xfrm>
          <a:prstGeom prst="curvedConnector3">
            <a:avLst>
              <a:gd name="adj1" fmla="val 1924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01" idx="5"/>
            <a:endCxn id="132" idx="1"/>
          </p:cNvCxnSpPr>
          <p:nvPr/>
        </p:nvCxnSpPr>
        <p:spPr>
          <a:xfrm flipH="1" rot="16200000">
            <a:off x="406080" y="4291920"/>
            <a:ext cx="1245600" cy="712080"/>
          </a:xfrm>
          <a:prstGeom prst="curvedConnector3">
            <a:avLst>
              <a:gd name="adj1" fmla="val 250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01" idx="6"/>
            <a:endCxn id="133" idx="2"/>
          </p:cNvCxnSpPr>
          <p:nvPr/>
        </p:nvCxnSpPr>
        <p:spPr>
          <a:xfrm>
            <a:off x="762120" y="3810240"/>
            <a:ext cx="1752840" cy="1676520"/>
          </a:xfrm>
          <a:prstGeom prst="curvedConnector3">
            <a:avLst>
              <a:gd name="adj1" fmla="val 25000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02" idx="4"/>
            <a:endCxn id="132" idx="7"/>
          </p:cNvCxnSpPr>
          <p:nvPr/>
        </p:nvCxnSpPr>
        <p:spPr>
          <a:xfrm flipH="1" rot="16200000">
            <a:off x="1130040" y="4584600"/>
            <a:ext cx="1156320" cy="216000"/>
          </a:xfrm>
          <a:prstGeom prst="curvedConnector3">
            <a:avLst>
              <a:gd name="adj1" fmla="val 1924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02" idx="5"/>
            <a:endCxn id="133" idx="1"/>
          </p:cNvCxnSpPr>
          <p:nvPr/>
        </p:nvCxnSpPr>
        <p:spPr>
          <a:xfrm flipH="1" rot="16200000">
            <a:off x="1587240" y="4253760"/>
            <a:ext cx="1245600" cy="788400"/>
          </a:xfrm>
          <a:prstGeom prst="curvedConnector3">
            <a:avLst>
              <a:gd name="adj1" fmla="val 250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02" idx="6"/>
            <a:endCxn id="134" idx="2"/>
          </p:cNvCxnSpPr>
          <p:nvPr/>
        </p:nvCxnSpPr>
        <p:spPr>
          <a:xfrm>
            <a:off x="1905120" y="3810240"/>
            <a:ext cx="1829160" cy="1676520"/>
          </a:xfrm>
          <a:prstGeom prst="curvedConnector3">
            <a:avLst>
              <a:gd name="adj1" fmla="val 25000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103" idx="4"/>
            <a:endCxn id="133" idx="7"/>
          </p:cNvCxnSpPr>
          <p:nvPr/>
        </p:nvCxnSpPr>
        <p:spPr>
          <a:xfrm flipH="1" rot="16200000">
            <a:off x="2349360" y="4584960"/>
            <a:ext cx="1156320" cy="215640"/>
          </a:xfrm>
          <a:prstGeom prst="curvedConnector3">
            <a:avLst>
              <a:gd name="adj1" fmla="val 1924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103" idx="5"/>
            <a:endCxn id="134" idx="1"/>
          </p:cNvCxnSpPr>
          <p:nvPr/>
        </p:nvCxnSpPr>
        <p:spPr>
          <a:xfrm flipH="1" rot="16200000">
            <a:off x="2806560" y="4253760"/>
            <a:ext cx="1245600" cy="788760"/>
          </a:xfrm>
          <a:prstGeom prst="curvedConnector3">
            <a:avLst>
              <a:gd name="adj1" fmla="val 250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03" idx="6"/>
            <a:endCxn id="135" idx="2"/>
          </p:cNvCxnSpPr>
          <p:nvPr/>
        </p:nvCxnSpPr>
        <p:spPr>
          <a:xfrm>
            <a:off x="3124080" y="3810240"/>
            <a:ext cx="1753200" cy="1676520"/>
          </a:xfrm>
          <a:prstGeom prst="curvedConnector3">
            <a:avLst>
              <a:gd name="adj1" fmla="val 24994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04" idx="4"/>
            <a:endCxn id="134" idx="7"/>
          </p:cNvCxnSpPr>
          <p:nvPr/>
        </p:nvCxnSpPr>
        <p:spPr>
          <a:xfrm flipH="1" rot="16200000">
            <a:off x="3568680" y="4584960"/>
            <a:ext cx="1156320" cy="215640"/>
          </a:xfrm>
          <a:prstGeom prst="curvedConnector3">
            <a:avLst>
              <a:gd name="adj1" fmla="val 1924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104" idx="5"/>
            <a:endCxn id="135" idx="1"/>
          </p:cNvCxnSpPr>
          <p:nvPr/>
        </p:nvCxnSpPr>
        <p:spPr>
          <a:xfrm flipH="1" rot="16200000">
            <a:off x="3987720" y="4291920"/>
            <a:ext cx="1245600" cy="712440"/>
          </a:xfrm>
          <a:prstGeom prst="curvedConnector3">
            <a:avLst>
              <a:gd name="adj1" fmla="val 250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104" idx="6"/>
            <a:endCxn id="136" idx="2"/>
          </p:cNvCxnSpPr>
          <p:nvPr/>
        </p:nvCxnSpPr>
        <p:spPr>
          <a:xfrm>
            <a:off x="4343400" y="3810240"/>
            <a:ext cx="1752840" cy="1676520"/>
          </a:xfrm>
          <a:prstGeom prst="curvedConnector3">
            <a:avLst>
              <a:gd name="adj1" fmla="val 25000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105" idx="4"/>
            <a:endCxn id="135" idx="7"/>
          </p:cNvCxnSpPr>
          <p:nvPr/>
        </p:nvCxnSpPr>
        <p:spPr>
          <a:xfrm flipH="1" rot="16200000">
            <a:off x="4711680" y="4584960"/>
            <a:ext cx="1156320" cy="215640"/>
          </a:xfrm>
          <a:prstGeom prst="curvedConnector3">
            <a:avLst>
              <a:gd name="adj1" fmla="val 1924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105" idx="5"/>
            <a:endCxn id="136" idx="1"/>
          </p:cNvCxnSpPr>
          <p:nvPr/>
        </p:nvCxnSpPr>
        <p:spPr>
          <a:xfrm flipH="1" rot="16200000">
            <a:off x="5168520" y="4253760"/>
            <a:ext cx="1245600" cy="788400"/>
          </a:xfrm>
          <a:prstGeom prst="curvedConnector3">
            <a:avLst>
              <a:gd name="adj1" fmla="val 250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105" idx="6"/>
            <a:endCxn id="137" idx="2"/>
          </p:cNvCxnSpPr>
          <p:nvPr/>
        </p:nvCxnSpPr>
        <p:spPr>
          <a:xfrm>
            <a:off x="5486400" y="3810240"/>
            <a:ext cx="1752840" cy="1676520"/>
          </a:xfrm>
          <a:prstGeom prst="curvedConnector3">
            <a:avLst>
              <a:gd name="adj1" fmla="val 25000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106" idx="4"/>
            <a:endCxn id="136" idx="7"/>
          </p:cNvCxnSpPr>
          <p:nvPr/>
        </p:nvCxnSpPr>
        <p:spPr>
          <a:xfrm flipH="1" rot="16200000">
            <a:off x="5930640" y="4584600"/>
            <a:ext cx="1156320" cy="216000"/>
          </a:xfrm>
          <a:prstGeom prst="curvedConnector3">
            <a:avLst>
              <a:gd name="adj1" fmla="val 1924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106" idx="5"/>
            <a:endCxn id="137" idx="1"/>
          </p:cNvCxnSpPr>
          <p:nvPr/>
        </p:nvCxnSpPr>
        <p:spPr>
          <a:xfrm flipH="1" rot="16200000">
            <a:off x="6349680" y="4291920"/>
            <a:ext cx="1245600" cy="712080"/>
          </a:xfrm>
          <a:prstGeom prst="curvedConnector3">
            <a:avLst>
              <a:gd name="adj1" fmla="val 250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106" idx="6"/>
            <a:endCxn id="138" idx="2"/>
          </p:cNvCxnSpPr>
          <p:nvPr/>
        </p:nvCxnSpPr>
        <p:spPr>
          <a:xfrm>
            <a:off x="6705720" y="3810240"/>
            <a:ext cx="1600560" cy="1676520"/>
          </a:xfrm>
          <a:prstGeom prst="curvedConnector3">
            <a:avLst>
              <a:gd name="adj1" fmla="val 2501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107" idx="4"/>
            <a:endCxn id="137" idx="7"/>
          </p:cNvCxnSpPr>
          <p:nvPr/>
        </p:nvCxnSpPr>
        <p:spPr>
          <a:xfrm flipH="1" rot="16200000">
            <a:off x="7073640" y="4584600"/>
            <a:ext cx="1156320" cy="216000"/>
          </a:xfrm>
          <a:prstGeom prst="curvedConnector3">
            <a:avLst>
              <a:gd name="adj1" fmla="val 1924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107" idx="5"/>
            <a:endCxn id="138" idx="1"/>
          </p:cNvCxnSpPr>
          <p:nvPr/>
        </p:nvCxnSpPr>
        <p:spPr>
          <a:xfrm flipH="1" rot="16200000">
            <a:off x="7454880" y="4330080"/>
            <a:ext cx="1245600" cy="636120"/>
          </a:xfrm>
          <a:prstGeom prst="curvedConnector3">
            <a:avLst>
              <a:gd name="adj1" fmla="val 250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108" idx="4"/>
            <a:endCxn id="138" idx="7"/>
          </p:cNvCxnSpPr>
          <p:nvPr/>
        </p:nvCxnSpPr>
        <p:spPr>
          <a:xfrm flipH="1" rot="16200000">
            <a:off x="8140680" y="4584960"/>
            <a:ext cx="1156320" cy="215640"/>
          </a:xfrm>
          <a:prstGeom prst="curvedConnector3">
            <a:avLst>
              <a:gd name="adj1" fmla="val 1924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86" idx="5"/>
            <a:endCxn id="146" idx="7"/>
          </p:cNvCxnSpPr>
          <p:nvPr/>
        </p:nvCxnSpPr>
        <p:spPr>
          <a:xfrm rot="16200000">
            <a:off x="-788040" y="4648320"/>
            <a:ext cx="2922120" cy="36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87" idx="5"/>
            <a:endCxn id="147" idx="7"/>
          </p:cNvCxnSpPr>
          <p:nvPr/>
        </p:nvCxnSpPr>
        <p:spPr>
          <a:xfrm>
            <a:off x="1815840" y="3187440"/>
            <a:ext cx="360" cy="2922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88" idx="5"/>
            <a:endCxn id="148" idx="7"/>
          </p:cNvCxnSpPr>
          <p:nvPr/>
        </p:nvCxnSpPr>
        <p:spPr>
          <a:xfrm>
            <a:off x="3034800" y="3187440"/>
            <a:ext cx="360" cy="2922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89" idx="5"/>
            <a:endCxn id="149" idx="7"/>
          </p:cNvCxnSpPr>
          <p:nvPr/>
        </p:nvCxnSpPr>
        <p:spPr>
          <a:xfrm>
            <a:off x="4254120" y="3187440"/>
            <a:ext cx="360" cy="2922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90" idx="5"/>
            <a:endCxn id="150" idx="7"/>
          </p:cNvCxnSpPr>
          <p:nvPr/>
        </p:nvCxnSpPr>
        <p:spPr>
          <a:xfrm rot="16200000">
            <a:off x="3936240" y="4648320"/>
            <a:ext cx="2922120" cy="36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91" idx="5"/>
            <a:endCxn id="151" idx="7"/>
          </p:cNvCxnSpPr>
          <p:nvPr/>
        </p:nvCxnSpPr>
        <p:spPr>
          <a:xfrm>
            <a:off x="6616440" y="3187440"/>
            <a:ext cx="360" cy="2922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92" idx="5"/>
            <a:endCxn id="152" idx="7"/>
          </p:cNvCxnSpPr>
          <p:nvPr/>
        </p:nvCxnSpPr>
        <p:spPr>
          <a:xfrm>
            <a:off x="7759440" y="3187440"/>
            <a:ext cx="360" cy="2922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93" idx="5"/>
            <a:endCxn id="153" idx="7"/>
          </p:cNvCxnSpPr>
          <p:nvPr/>
        </p:nvCxnSpPr>
        <p:spPr>
          <a:xfrm>
            <a:off x="8826120" y="3187440"/>
            <a:ext cx="360" cy="2922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71" idx="4"/>
            <a:endCxn id="86" idx="0"/>
          </p:cNvCxnSpPr>
          <p:nvPr/>
        </p:nvCxnSpPr>
        <p:spPr>
          <a:xfrm>
            <a:off x="457200" y="2438280"/>
            <a:ext cx="360" cy="2289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72" idx="4"/>
            <a:endCxn id="87" idx="0"/>
          </p:cNvCxnSpPr>
          <p:nvPr/>
        </p:nvCxnSpPr>
        <p:spPr>
          <a:xfrm>
            <a:off x="1600200" y="2438280"/>
            <a:ext cx="360" cy="2289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73" idx="4"/>
            <a:endCxn id="88" idx="0"/>
          </p:cNvCxnSpPr>
          <p:nvPr/>
        </p:nvCxnSpPr>
        <p:spPr>
          <a:xfrm>
            <a:off x="2819520" y="2438280"/>
            <a:ext cx="360" cy="2289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74" idx="4"/>
            <a:endCxn id="89" idx="0"/>
          </p:cNvCxnSpPr>
          <p:nvPr/>
        </p:nvCxnSpPr>
        <p:spPr>
          <a:xfrm>
            <a:off x="4038840" y="2438280"/>
            <a:ext cx="360" cy="2289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75" idx="4"/>
            <a:endCxn id="90" idx="0"/>
          </p:cNvCxnSpPr>
          <p:nvPr/>
        </p:nvCxnSpPr>
        <p:spPr>
          <a:xfrm>
            <a:off x="5181840" y="2438280"/>
            <a:ext cx="360" cy="2289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76" idx="4"/>
            <a:endCxn id="91" idx="0"/>
          </p:cNvCxnSpPr>
          <p:nvPr/>
        </p:nvCxnSpPr>
        <p:spPr>
          <a:xfrm>
            <a:off x="6400800" y="2438280"/>
            <a:ext cx="360" cy="2289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77" idx="4"/>
            <a:endCxn id="92" idx="0"/>
          </p:cNvCxnSpPr>
          <p:nvPr/>
        </p:nvCxnSpPr>
        <p:spPr>
          <a:xfrm>
            <a:off x="7543800" y="2438280"/>
            <a:ext cx="360" cy="2289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78" idx="4"/>
            <a:endCxn id="93" idx="0"/>
          </p:cNvCxnSpPr>
          <p:nvPr/>
        </p:nvCxnSpPr>
        <p:spPr>
          <a:xfrm>
            <a:off x="8610840" y="2438280"/>
            <a:ext cx="360" cy="2289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71" idx="3"/>
            <a:endCxn id="146" idx="2"/>
          </p:cNvCxnSpPr>
          <p:nvPr/>
        </p:nvCxnSpPr>
        <p:spPr>
          <a:xfrm flipV="1" rot="10800000">
            <a:off x="152280" y="2349000"/>
            <a:ext cx="89640" cy="3976200"/>
          </a:xfrm>
          <a:prstGeom prst="curvedConnector3">
            <a:avLst>
              <a:gd name="adj1" fmla="val 119758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72" idx="3"/>
            <a:endCxn id="147" idx="2"/>
          </p:cNvCxnSpPr>
          <p:nvPr/>
        </p:nvCxnSpPr>
        <p:spPr>
          <a:xfrm flipV="1" rot="10800000">
            <a:off x="1295280" y="2349000"/>
            <a:ext cx="89640" cy="3976200"/>
          </a:xfrm>
          <a:prstGeom prst="curvedConnector3">
            <a:avLst>
              <a:gd name="adj1" fmla="val 119758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73" idx="3"/>
            <a:endCxn id="148" idx="2"/>
          </p:cNvCxnSpPr>
          <p:nvPr/>
        </p:nvCxnSpPr>
        <p:spPr>
          <a:xfrm flipV="1" rot="10800000">
            <a:off x="2514600" y="2349000"/>
            <a:ext cx="89640" cy="3976200"/>
          </a:xfrm>
          <a:prstGeom prst="curvedConnector3">
            <a:avLst>
              <a:gd name="adj1" fmla="val 120161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74" idx="3"/>
            <a:endCxn id="149" idx="2"/>
          </p:cNvCxnSpPr>
          <p:nvPr/>
        </p:nvCxnSpPr>
        <p:spPr>
          <a:xfrm flipV="1" rot="10800000">
            <a:off x="3733920" y="2349000"/>
            <a:ext cx="89640" cy="3976200"/>
          </a:xfrm>
          <a:prstGeom prst="curvedConnector3">
            <a:avLst>
              <a:gd name="adj1" fmla="val 120161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75" idx="3"/>
            <a:endCxn id="150" idx="2"/>
          </p:cNvCxnSpPr>
          <p:nvPr/>
        </p:nvCxnSpPr>
        <p:spPr>
          <a:xfrm flipV="1" rot="10800000">
            <a:off x="4876920" y="2349000"/>
            <a:ext cx="89640" cy="3976200"/>
          </a:xfrm>
          <a:prstGeom prst="curvedConnector3">
            <a:avLst>
              <a:gd name="adj1" fmla="val 120161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76" idx="3"/>
            <a:endCxn id="151" idx="2"/>
          </p:cNvCxnSpPr>
          <p:nvPr/>
        </p:nvCxnSpPr>
        <p:spPr>
          <a:xfrm flipV="1" rot="10800000">
            <a:off x="6095880" y="2349000"/>
            <a:ext cx="89640" cy="3976200"/>
          </a:xfrm>
          <a:prstGeom prst="curvedConnector3">
            <a:avLst>
              <a:gd name="adj1" fmla="val 119758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77" idx="3"/>
            <a:endCxn id="152" idx="2"/>
          </p:cNvCxnSpPr>
          <p:nvPr/>
        </p:nvCxnSpPr>
        <p:spPr>
          <a:xfrm flipV="1" rot="10800000">
            <a:off x="7238880" y="2349000"/>
            <a:ext cx="89640" cy="3976200"/>
          </a:xfrm>
          <a:prstGeom prst="curvedConnector3">
            <a:avLst>
              <a:gd name="adj1" fmla="val 119758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78" idx="3"/>
            <a:endCxn id="153" idx="2"/>
          </p:cNvCxnSpPr>
          <p:nvPr/>
        </p:nvCxnSpPr>
        <p:spPr>
          <a:xfrm flipV="1" rot="10800000">
            <a:off x="8305920" y="2349000"/>
            <a:ext cx="89640" cy="3976200"/>
          </a:xfrm>
          <a:prstGeom prst="curvedConnector3">
            <a:avLst>
              <a:gd name="adj1" fmla="val 120161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56" idx="4"/>
            <a:endCxn id="86" idx="7"/>
          </p:cNvCxnSpPr>
          <p:nvPr/>
        </p:nvCxnSpPr>
        <p:spPr>
          <a:xfrm flipH="1" rot="16200000">
            <a:off x="-12960" y="2070000"/>
            <a:ext cx="1156320" cy="216000"/>
          </a:xfrm>
          <a:prstGeom prst="curvedConnector3">
            <a:avLst>
              <a:gd name="adj1" fmla="val 1924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57" idx="4"/>
            <a:endCxn id="87" idx="7"/>
          </p:cNvCxnSpPr>
          <p:nvPr/>
        </p:nvCxnSpPr>
        <p:spPr>
          <a:xfrm flipH="1" rot="16200000">
            <a:off x="1130040" y="2070000"/>
            <a:ext cx="1156320" cy="216000"/>
          </a:xfrm>
          <a:prstGeom prst="curvedConnector3">
            <a:avLst>
              <a:gd name="adj1" fmla="val 1924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56" idx="5"/>
            <a:endCxn id="87" idx="1"/>
          </p:cNvCxnSpPr>
          <p:nvPr/>
        </p:nvCxnSpPr>
        <p:spPr>
          <a:xfrm flipH="1" rot="16200000">
            <a:off x="406080" y="1777320"/>
            <a:ext cx="1245600" cy="712080"/>
          </a:xfrm>
          <a:prstGeom prst="curvedConnector3">
            <a:avLst>
              <a:gd name="adj1" fmla="val 2503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161" idx="3"/>
            <a:endCxn id="88" idx="2"/>
          </p:cNvCxnSpPr>
          <p:nvPr/>
        </p:nvCxnSpPr>
        <p:spPr>
          <a:xfrm>
            <a:off x="785160" y="1321560"/>
            <a:ext cx="1729800" cy="1650600"/>
          </a:xfrm>
          <a:prstGeom prst="curvedConnector3">
            <a:avLst>
              <a:gd name="adj1" fmla="val 24562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57" idx="5"/>
            <a:endCxn id="88" idx="1"/>
          </p:cNvCxnSpPr>
          <p:nvPr/>
        </p:nvCxnSpPr>
        <p:spPr>
          <a:xfrm flipH="1" rot="16200000">
            <a:off x="1587240" y="1739160"/>
            <a:ext cx="1245600" cy="788400"/>
          </a:xfrm>
          <a:prstGeom prst="curvedConnector3">
            <a:avLst>
              <a:gd name="adj1" fmla="val 2503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160" idx="3"/>
            <a:endCxn id="89" idx="2"/>
          </p:cNvCxnSpPr>
          <p:nvPr/>
        </p:nvCxnSpPr>
        <p:spPr>
          <a:xfrm>
            <a:off x="1928160" y="1321560"/>
            <a:ext cx="1806120" cy="1650600"/>
          </a:xfrm>
          <a:prstGeom prst="curvedConnector3">
            <a:avLst>
              <a:gd name="adj1" fmla="val 24581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58" idx="4"/>
            <a:endCxn id="88" idx="7"/>
          </p:cNvCxnSpPr>
          <p:nvPr/>
        </p:nvCxnSpPr>
        <p:spPr>
          <a:xfrm flipH="1" rot="16200000">
            <a:off x="2349360" y="2070360"/>
            <a:ext cx="1156320" cy="215640"/>
          </a:xfrm>
          <a:prstGeom prst="curvedConnector3">
            <a:avLst>
              <a:gd name="adj1" fmla="val 1924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58" idx="5"/>
            <a:endCxn id="89" idx="1"/>
          </p:cNvCxnSpPr>
          <p:nvPr/>
        </p:nvCxnSpPr>
        <p:spPr>
          <a:xfrm flipH="1" rot="16200000">
            <a:off x="2806560" y="1739160"/>
            <a:ext cx="1245600" cy="788760"/>
          </a:xfrm>
          <a:prstGeom prst="curvedConnector3">
            <a:avLst>
              <a:gd name="adj1" fmla="val 2503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163" idx="3"/>
            <a:endCxn id="90" idx="2"/>
          </p:cNvCxnSpPr>
          <p:nvPr/>
        </p:nvCxnSpPr>
        <p:spPr>
          <a:xfrm>
            <a:off x="3147480" y="1321560"/>
            <a:ext cx="1729800" cy="1650600"/>
          </a:xfrm>
          <a:prstGeom prst="curvedConnector3">
            <a:avLst>
              <a:gd name="adj1" fmla="val 24562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59" idx="4"/>
            <a:endCxn id="89" idx="7"/>
          </p:cNvCxnSpPr>
          <p:nvPr/>
        </p:nvCxnSpPr>
        <p:spPr>
          <a:xfrm flipH="1" rot="16200000">
            <a:off x="3568680" y="2070360"/>
            <a:ext cx="1156320" cy="215640"/>
          </a:xfrm>
          <a:prstGeom prst="curvedConnector3">
            <a:avLst>
              <a:gd name="adj1" fmla="val 1924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59" idx="5"/>
            <a:endCxn id="90" idx="1"/>
          </p:cNvCxnSpPr>
          <p:nvPr/>
        </p:nvCxnSpPr>
        <p:spPr>
          <a:xfrm flipH="1" rot="16200000">
            <a:off x="3987720" y="1777320"/>
            <a:ext cx="1245600" cy="712440"/>
          </a:xfrm>
          <a:prstGeom prst="curvedConnector3">
            <a:avLst>
              <a:gd name="adj1" fmla="val 2503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162" idx="3"/>
            <a:endCxn id="181" idx="1"/>
          </p:cNvCxnSpPr>
          <p:nvPr/>
        </p:nvCxnSpPr>
        <p:spPr>
          <a:xfrm>
            <a:off x="4366440" y="1321560"/>
            <a:ext cx="1738080" cy="1676880"/>
          </a:xfrm>
          <a:prstGeom prst="curvedConnector3">
            <a:avLst>
              <a:gd name="adj1" fmla="val 25025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60" idx="4"/>
            <a:endCxn id="90" idx="7"/>
          </p:cNvCxnSpPr>
          <p:nvPr/>
        </p:nvCxnSpPr>
        <p:spPr>
          <a:xfrm flipH="1" rot="16200000">
            <a:off x="4711680" y="2070360"/>
            <a:ext cx="1156320" cy="215640"/>
          </a:xfrm>
          <a:prstGeom prst="curvedConnector3">
            <a:avLst>
              <a:gd name="adj1" fmla="val 1924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60" idx="5"/>
            <a:endCxn id="91" idx="1"/>
          </p:cNvCxnSpPr>
          <p:nvPr/>
        </p:nvCxnSpPr>
        <p:spPr>
          <a:xfrm flipH="1" rot="16200000">
            <a:off x="5168520" y="1739160"/>
            <a:ext cx="1245600" cy="788400"/>
          </a:xfrm>
          <a:prstGeom prst="curvedConnector3">
            <a:avLst>
              <a:gd name="adj1" fmla="val 2503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164" idx="3"/>
            <a:endCxn id="183" idx="1"/>
          </p:cNvCxnSpPr>
          <p:nvPr/>
        </p:nvCxnSpPr>
        <p:spPr>
          <a:xfrm>
            <a:off x="5509440" y="1321560"/>
            <a:ext cx="1738080" cy="1676880"/>
          </a:xfrm>
          <a:prstGeom prst="curvedConnector3">
            <a:avLst>
              <a:gd name="adj1" fmla="val 25025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61" idx="4"/>
            <a:endCxn id="91" idx="7"/>
          </p:cNvCxnSpPr>
          <p:nvPr/>
        </p:nvCxnSpPr>
        <p:spPr>
          <a:xfrm flipH="1" rot="16200000">
            <a:off x="5930640" y="2070000"/>
            <a:ext cx="1156320" cy="216000"/>
          </a:xfrm>
          <a:prstGeom prst="curvedConnector3">
            <a:avLst>
              <a:gd name="adj1" fmla="val 1924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61" idx="5"/>
            <a:endCxn id="92" idx="1"/>
          </p:cNvCxnSpPr>
          <p:nvPr/>
        </p:nvCxnSpPr>
        <p:spPr>
          <a:xfrm flipH="1" rot="16200000">
            <a:off x="6349680" y="1777320"/>
            <a:ext cx="1245600" cy="712080"/>
          </a:xfrm>
          <a:prstGeom prst="curvedConnector3">
            <a:avLst>
              <a:gd name="adj1" fmla="val 2503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166" idx="3"/>
            <a:endCxn id="182" idx="1"/>
          </p:cNvCxnSpPr>
          <p:nvPr/>
        </p:nvCxnSpPr>
        <p:spPr>
          <a:xfrm>
            <a:off x="6728760" y="1321560"/>
            <a:ext cx="1585440" cy="1676880"/>
          </a:xfrm>
          <a:prstGeom prst="curvedConnector3">
            <a:avLst>
              <a:gd name="adj1" fmla="val 25028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62" idx="4"/>
            <a:endCxn id="92" idx="7"/>
          </p:cNvCxnSpPr>
          <p:nvPr/>
        </p:nvCxnSpPr>
        <p:spPr>
          <a:xfrm flipH="1" rot="16200000">
            <a:off x="7073640" y="2070000"/>
            <a:ext cx="1156320" cy="216000"/>
          </a:xfrm>
          <a:prstGeom prst="curvedConnector3">
            <a:avLst>
              <a:gd name="adj1" fmla="val 1924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62" idx="5"/>
            <a:endCxn id="93" idx="1"/>
          </p:cNvCxnSpPr>
          <p:nvPr/>
        </p:nvCxnSpPr>
        <p:spPr>
          <a:xfrm flipH="1" rot="16200000">
            <a:off x="7454880" y="1815480"/>
            <a:ext cx="1245600" cy="636120"/>
          </a:xfrm>
          <a:prstGeom prst="curvedConnector3">
            <a:avLst>
              <a:gd name="adj1" fmla="val 2503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63" idx="4"/>
            <a:endCxn id="93" idx="7"/>
          </p:cNvCxnSpPr>
          <p:nvPr/>
        </p:nvCxnSpPr>
        <p:spPr>
          <a:xfrm flipH="1" rot="16200000">
            <a:off x="8140680" y="2070360"/>
            <a:ext cx="1156320" cy="215640"/>
          </a:xfrm>
          <a:prstGeom prst="curvedConnector3">
            <a:avLst>
              <a:gd name="adj1" fmla="val 1924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41" idx="4"/>
            <a:endCxn id="56" idx="0"/>
          </p:cNvCxnSpPr>
          <p:nvPr/>
        </p:nvCxnSpPr>
        <p:spPr>
          <a:xfrm rot="16200000">
            <a:off x="343080" y="876240"/>
            <a:ext cx="228960" cy="360"/>
          </a:xfrm>
          <a:prstGeom prst="curvedConnector2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42" idx="4"/>
            <a:endCxn id="57" idx="0"/>
          </p:cNvCxnSpPr>
          <p:nvPr/>
        </p:nvCxnSpPr>
        <p:spPr>
          <a:xfrm>
            <a:off x="1600200" y="762120"/>
            <a:ext cx="360" cy="2289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43" idx="4"/>
            <a:endCxn id="58" idx="0"/>
          </p:cNvCxnSpPr>
          <p:nvPr/>
        </p:nvCxnSpPr>
        <p:spPr>
          <a:xfrm>
            <a:off x="2819520" y="762120"/>
            <a:ext cx="360" cy="2289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44" idx="4"/>
            <a:endCxn id="59" idx="0"/>
          </p:cNvCxnSpPr>
          <p:nvPr/>
        </p:nvCxnSpPr>
        <p:spPr>
          <a:xfrm>
            <a:off x="4038840" y="762120"/>
            <a:ext cx="360" cy="2289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45" idx="4"/>
            <a:endCxn id="60" idx="0"/>
          </p:cNvCxnSpPr>
          <p:nvPr/>
        </p:nvCxnSpPr>
        <p:spPr>
          <a:xfrm>
            <a:off x="5181840" y="762120"/>
            <a:ext cx="360" cy="2289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46" idx="4"/>
            <a:endCxn id="61" idx="0"/>
          </p:cNvCxnSpPr>
          <p:nvPr/>
        </p:nvCxnSpPr>
        <p:spPr>
          <a:xfrm>
            <a:off x="6400800" y="762120"/>
            <a:ext cx="360" cy="2289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47" idx="4"/>
            <a:endCxn id="62" idx="0"/>
          </p:cNvCxnSpPr>
          <p:nvPr/>
        </p:nvCxnSpPr>
        <p:spPr>
          <a:xfrm>
            <a:off x="7543800" y="762120"/>
            <a:ext cx="360" cy="2289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48" idx="4"/>
            <a:endCxn id="63" idx="0"/>
          </p:cNvCxnSpPr>
          <p:nvPr/>
        </p:nvCxnSpPr>
        <p:spPr>
          <a:xfrm>
            <a:off x="8610840" y="762120"/>
            <a:ext cx="360" cy="2289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41" idx="5"/>
            <a:endCxn id="71" idx="7"/>
          </p:cNvCxnSpPr>
          <p:nvPr/>
        </p:nvCxnSpPr>
        <p:spPr>
          <a:xfrm rot="16200000">
            <a:off x="50400" y="1295280"/>
            <a:ext cx="1245600" cy="360"/>
          </a:xfrm>
          <a:prstGeom prst="curvedConnector2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42" idx="5"/>
            <a:endCxn id="72" idx="7"/>
          </p:cNvCxnSpPr>
          <p:nvPr/>
        </p:nvCxnSpPr>
        <p:spPr>
          <a:xfrm>
            <a:off x="1815840" y="672840"/>
            <a:ext cx="360" cy="124560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43" idx="5"/>
            <a:endCxn id="73" idx="7"/>
          </p:cNvCxnSpPr>
          <p:nvPr/>
        </p:nvCxnSpPr>
        <p:spPr>
          <a:xfrm>
            <a:off x="3034800" y="672840"/>
            <a:ext cx="360" cy="124560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44" idx="5"/>
            <a:endCxn id="74" idx="7"/>
          </p:cNvCxnSpPr>
          <p:nvPr/>
        </p:nvCxnSpPr>
        <p:spPr>
          <a:xfrm>
            <a:off x="4254120" y="672840"/>
            <a:ext cx="360" cy="124560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45" idx="5"/>
            <a:endCxn id="75" idx="7"/>
          </p:cNvCxnSpPr>
          <p:nvPr/>
        </p:nvCxnSpPr>
        <p:spPr>
          <a:xfrm>
            <a:off x="5397120" y="672840"/>
            <a:ext cx="360" cy="124560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46" idx="5"/>
            <a:endCxn id="76" idx="7"/>
          </p:cNvCxnSpPr>
          <p:nvPr/>
        </p:nvCxnSpPr>
        <p:spPr>
          <a:xfrm>
            <a:off x="6616440" y="672840"/>
            <a:ext cx="360" cy="124560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47" idx="5"/>
            <a:endCxn id="77" idx="7"/>
          </p:cNvCxnSpPr>
          <p:nvPr/>
        </p:nvCxnSpPr>
        <p:spPr>
          <a:xfrm>
            <a:off x="7759440" y="672840"/>
            <a:ext cx="360" cy="124560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48" idx="5"/>
            <a:endCxn id="78" idx="7"/>
          </p:cNvCxnSpPr>
          <p:nvPr/>
        </p:nvCxnSpPr>
        <p:spPr>
          <a:xfrm>
            <a:off x="8826120" y="672840"/>
            <a:ext cx="360" cy="124560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41" idx="6"/>
            <a:endCxn id="86" idx="7"/>
          </p:cNvCxnSpPr>
          <p:nvPr/>
        </p:nvCxnSpPr>
        <p:spPr>
          <a:xfrm flipH="1">
            <a:off x="672840" y="457200"/>
            <a:ext cx="89640" cy="2299320"/>
          </a:xfrm>
          <a:prstGeom prst="curvedConnector3">
            <a:avLst>
              <a:gd name="adj1" fmla="val -20161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42" idx="6"/>
            <a:endCxn id="87" idx="7"/>
          </p:cNvCxnSpPr>
          <p:nvPr/>
        </p:nvCxnSpPr>
        <p:spPr>
          <a:xfrm flipH="1">
            <a:off x="1815840" y="457200"/>
            <a:ext cx="89640" cy="2299320"/>
          </a:xfrm>
          <a:prstGeom prst="curvedConnector3">
            <a:avLst>
              <a:gd name="adj1" fmla="val -20161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43" idx="6"/>
            <a:endCxn id="88" idx="7"/>
          </p:cNvCxnSpPr>
          <p:nvPr/>
        </p:nvCxnSpPr>
        <p:spPr>
          <a:xfrm flipH="1">
            <a:off x="3034800" y="457200"/>
            <a:ext cx="89640" cy="2299320"/>
          </a:xfrm>
          <a:prstGeom prst="curvedConnector3">
            <a:avLst>
              <a:gd name="adj1" fmla="val -19758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44" idx="6"/>
            <a:endCxn id="89" idx="7"/>
          </p:cNvCxnSpPr>
          <p:nvPr/>
        </p:nvCxnSpPr>
        <p:spPr>
          <a:xfrm flipH="1">
            <a:off x="4254120" y="457200"/>
            <a:ext cx="89640" cy="2299320"/>
          </a:xfrm>
          <a:prstGeom prst="curvedConnector3">
            <a:avLst>
              <a:gd name="adj1" fmla="val -19758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45" idx="6"/>
            <a:endCxn id="90" idx="7"/>
          </p:cNvCxnSpPr>
          <p:nvPr/>
        </p:nvCxnSpPr>
        <p:spPr>
          <a:xfrm flipH="1">
            <a:off x="5397120" y="457200"/>
            <a:ext cx="89640" cy="2299320"/>
          </a:xfrm>
          <a:prstGeom prst="curvedConnector3">
            <a:avLst>
              <a:gd name="adj1" fmla="val -19758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46" idx="6"/>
            <a:endCxn id="91" idx="7"/>
          </p:cNvCxnSpPr>
          <p:nvPr/>
        </p:nvCxnSpPr>
        <p:spPr>
          <a:xfrm flipH="1">
            <a:off x="6616440" y="457200"/>
            <a:ext cx="89640" cy="2299320"/>
          </a:xfrm>
          <a:prstGeom prst="curvedConnector3">
            <a:avLst>
              <a:gd name="adj1" fmla="val -20161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47" idx="6"/>
            <a:endCxn id="92" idx="7"/>
          </p:cNvCxnSpPr>
          <p:nvPr/>
        </p:nvCxnSpPr>
        <p:spPr>
          <a:xfrm flipH="1">
            <a:off x="7759440" y="457200"/>
            <a:ext cx="89640" cy="2299320"/>
          </a:xfrm>
          <a:prstGeom prst="curvedConnector3">
            <a:avLst>
              <a:gd name="adj1" fmla="val -20161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48" idx="6"/>
            <a:endCxn id="93" idx="7"/>
          </p:cNvCxnSpPr>
          <p:nvPr/>
        </p:nvCxnSpPr>
        <p:spPr>
          <a:xfrm flipH="1">
            <a:off x="8826120" y="457200"/>
            <a:ext cx="89640" cy="2299320"/>
          </a:xfrm>
          <a:prstGeom prst="curvedConnector3">
            <a:avLst>
              <a:gd name="adj1" fmla="val -19758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41" idx="3"/>
            <a:endCxn id="101" idx="0"/>
          </p:cNvCxnSpPr>
          <p:nvPr/>
        </p:nvCxnSpPr>
        <p:spPr>
          <a:xfrm flipH="1" rot="16200000">
            <a:off x="-1067040" y="1981080"/>
            <a:ext cx="2832840" cy="216000"/>
          </a:xfrm>
          <a:prstGeom prst="curvedConnector3">
            <a:avLst>
              <a:gd name="adj1" fmla="val 2736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42" idx="3"/>
            <a:endCxn id="102" idx="0"/>
          </p:cNvCxnSpPr>
          <p:nvPr/>
        </p:nvCxnSpPr>
        <p:spPr>
          <a:xfrm flipH="1" rot="16200000">
            <a:off x="75960" y="1981080"/>
            <a:ext cx="2832840" cy="216000"/>
          </a:xfrm>
          <a:prstGeom prst="curvedConnector3">
            <a:avLst>
              <a:gd name="adj1" fmla="val 2736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43" idx="3"/>
            <a:endCxn id="103" idx="0"/>
          </p:cNvCxnSpPr>
          <p:nvPr/>
        </p:nvCxnSpPr>
        <p:spPr>
          <a:xfrm flipH="1" rot="16200000">
            <a:off x="1295280" y="1981080"/>
            <a:ext cx="2832840" cy="216000"/>
          </a:xfrm>
          <a:prstGeom prst="curvedConnector3">
            <a:avLst>
              <a:gd name="adj1" fmla="val 2736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44" idx="3"/>
            <a:endCxn id="104" idx="0"/>
          </p:cNvCxnSpPr>
          <p:nvPr/>
        </p:nvCxnSpPr>
        <p:spPr>
          <a:xfrm flipH="1" rot="16200000">
            <a:off x="2514600" y="1981080"/>
            <a:ext cx="2832840" cy="216000"/>
          </a:xfrm>
          <a:prstGeom prst="curvedConnector3">
            <a:avLst>
              <a:gd name="adj1" fmla="val 2736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45" idx="3"/>
            <a:endCxn id="105" idx="0"/>
          </p:cNvCxnSpPr>
          <p:nvPr/>
        </p:nvCxnSpPr>
        <p:spPr>
          <a:xfrm flipH="1" rot="16200000">
            <a:off x="3657600" y="1981080"/>
            <a:ext cx="2832840" cy="216000"/>
          </a:xfrm>
          <a:prstGeom prst="curvedConnector3">
            <a:avLst>
              <a:gd name="adj1" fmla="val 2736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46" idx="3"/>
            <a:endCxn id="106" idx="0"/>
          </p:cNvCxnSpPr>
          <p:nvPr/>
        </p:nvCxnSpPr>
        <p:spPr>
          <a:xfrm flipH="1" rot="16200000">
            <a:off x="4876560" y="1981080"/>
            <a:ext cx="2832840" cy="216000"/>
          </a:xfrm>
          <a:prstGeom prst="curvedConnector3">
            <a:avLst>
              <a:gd name="adj1" fmla="val 2736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47" idx="3"/>
            <a:endCxn id="107" idx="0"/>
          </p:cNvCxnSpPr>
          <p:nvPr/>
        </p:nvCxnSpPr>
        <p:spPr>
          <a:xfrm flipH="1" rot="16200000">
            <a:off x="6019560" y="1981080"/>
            <a:ext cx="2832840" cy="216000"/>
          </a:xfrm>
          <a:prstGeom prst="curvedConnector3">
            <a:avLst>
              <a:gd name="adj1" fmla="val 2736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48" idx="3"/>
            <a:endCxn id="108" idx="0"/>
          </p:cNvCxnSpPr>
          <p:nvPr/>
        </p:nvCxnSpPr>
        <p:spPr>
          <a:xfrm flipH="1" rot="16200000">
            <a:off x="7086600" y="1981080"/>
            <a:ext cx="2832840" cy="216000"/>
          </a:xfrm>
          <a:prstGeom prst="curvedConnector3">
            <a:avLst>
              <a:gd name="adj1" fmla="val 2736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41" idx="2"/>
            <a:endCxn id="116" idx="0"/>
          </p:cNvCxnSpPr>
          <p:nvPr/>
        </p:nvCxnSpPr>
        <p:spPr>
          <a:xfrm flipH="1" flipV="1" rot="10800000">
            <a:off x="151920" y="456840"/>
            <a:ext cx="305280" cy="3886560"/>
          </a:xfrm>
          <a:prstGeom prst="curvedConnector4">
            <a:avLst>
              <a:gd name="adj1" fmla="val -2243"/>
              <a:gd name="adj2" fmla="val 3468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42" idx="2"/>
            <a:endCxn id="117" idx="0"/>
          </p:cNvCxnSpPr>
          <p:nvPr/>
        </p:nvCxnSpPr>
        <p:spPr>
          <a:xfrm flipH="1" flipV="1" rot="10800000">
            <a:off x="1294920" y="456840"/>
            <a:ext cx="305280" cy="3886560"/>
          </a:xfrm>
          <a:prstGeom prst="curvedConnector4">
            <a:avLst>
              <a:gd name="adj1" fmla="val -2243"/>
              <a:gd name="adj2" fmla="val 3468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43" idx="2"/>
            <a:endCxn id="118" idx="0"/>
          </p:cNvCxnSpPr>
          <p:nvPr/>
        </p:nvCxnSpPr>
        <p:spPr>
          <a:xfrm flipH="1" flipV="1" rot="10800000">
            <a:off x="2514240" y="456840"/>
            <a:ext cx="305280" cy="3886560"/>
          </a:xfrm>
          <a:prstGeom prst="curvedConnector4">
            <a:avLst>
              <a:gd name="adj1" fmla="val -2361"/>
              <a:gd name="adj2" fmla="val 3468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44" idx="2"/>
            <a:endCxn id="119" idx="0"/>
          </p:cNvCxnSpPr>
          <p:nvPr/>
        </p:nvCxnSpPr>
        <p:spPr>
          <a:xfrm flipH="1" flipV="1" rot="10800000">
            <a:off x="3733560" y="456840"/>
            <a:ext cx="305280" cy="3886560"/>
          </a:xfrm>
          <a:prstGeom prst="curvedConnector4">
            <a:avLst>
              <a:gd name="adj1" fmla="val -2361"/>
              <a:gd name="adj2" fmla="val 3468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45" idx="2"/>
            <a:endCxn id="120" idx="0"/>
          </p:cNvCxnSpPr>
          <p:nvPr/>
        </p:nvCxnSpPr>
        <p:spPr>
          <a:xfrm flipH="1" flipV="1" rot="10800000">
            <a:off x="4876560" y="456840"/>
            <a:ext cx="305280" cy="3886560"/>
          </a:xfrm>
          <a:prstGeom prst="curvedConnector4">
            <a:avLst>
              <a:gd name="adj1" fmla="val -2361"/>
              <a:gd name="adj2" fmla="val 3468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46" idx="2"/>
            <a:endCxn id="121" idx="0"/>
          </p:cNvCxnSpPr>
          <p:nvPr/>
        </p:nvCxnSpPr>
        <p:spPr>
          <a:xfrm flipH="1" flipV="1" rot="10800000">
            <a:off x="6095520" y="456840"/>
            <a:ext cx="305280" cy="3886560"/>
          </a:xfrm>
          <a:prstGeom prst="curvedConnector4">
            <a:avLst>
              <a:gd name="adj1" fmla="val -2243"/>
              <a:gd name="adj2" fmla="val 3468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47" idx="2"/>
            <a:endCxn id="122" idx="0"/>
          </p:cNvCxnSpPr>
          <p:nvPr/>
        </p:nvCxnSpPr>
        <p:spPr>
          <a:xfrm flipH="1" flipV="1" rot="10800000">
            <a:off x="7238520" y="456840"/>
            <a:ext cx="305280" cy="3886560"/>
          </a:xfrm>
          <a:prstGeom prst="curvedConnector4">
            <a:avLst>
              <a:gd name="adj1" fmla="val -2243"/>
              <a:gd name="adj2" fmla="val 3468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48" idx="2"/>
            <a:endCxn id="123" idx="0"/>
          </p:cNvCxnSpPr>
          <p:nvPr/>
        </p:nvCxnSpPr>
        <p:spPr>
          <a:xfrm flipH="1" flipV="1" rot="10800000">
            <a:off x="8305560" y="456840"/>
            <a:ext cx="305280" cy="3886560"/>
          </a:xfrm>
          <a:prstGeom prst="curvedConnector4">
            <a:avLst>
              <a:gd name="adj1" fmla="val -2361"/>
              <a:gd name="adj2" fmla="val 3468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41" idx="2"/>
            <a:endCxn id="131" idx="2"/>
          </p:cNvCxnSpPr>
          <p:nvPr/>
        </p:nvCxnSpPr>
        <p:spPr>
          <a:xfrm rot="10800000">
            <a:off x="152280" y="457200"/>
            <a:ext cx="360" cy="5029560"/>
          </a:xfrm>
          <a:prstGeom prst="curvedConnector3">
            <a:avLst>
              <a:gd name="adj1" fmla="val -30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42" idx="2"/>
            <a:endCxn id="132" idx="2"/>
          </p:cNvCxnSpPr>
          <p:nvPr/>
        </p:nvCxnSpPr>
        <p:spPr>
          <a:xfrm rot="10800000">
            <a:off x="1295280" y="457200"/>
            <a:ext cx="360" cy="5029560"/>
          </a:xfrm>
          <a:prstGeom prst="curvedConnector3">
            <a:avLst>
              <a:gd name="adj1" fmla="val -30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43" idx="2"/>
            <a:endCxn id="133" idx="2"/>
          </p:cNvCxnSpPr>
          <p:nvPr/>
        </p:nvCxnSpPr>
        <p:spPr>
          <a:xfrm rot="10800000">
            <a:off x="2514600" y="457200"/>
            <a:ext cx="360" cy="5029560"/>
          </a:xfrm>
          <a:prstGeom prst="curvedConnector3">
            <a:avLst>
              <a:gd name="adj1" fmla="val -31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44" idx="2"/>
            <a:endCxn id="134" idx="2"/>
          </p:cNvCxnSpPr>
          <p:nvPr/>
        </p:nvCxnSpPr>
        <p:spPr>
          <a:xfrm rot="10800000">
            <a:off x="3733920" y="457200"/>
            <a:ext cx="360" cy="5029560"/>
          </a:xfrm>
          <a:prstGeom prst="curvedConnector3">
            <a:avLst>
              <a:gd name="adj1" fmla="val -31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45" idx="2"/>
            <a:endCxn id="135" idx="2"/>
          </p:cNvCxnSpPr>
          <p:nvPr/>
        </p:nvCxnSpPr>
        <p:spPr>
          <a:xfrm rot="10800000">
            <a:off x="4876920" y="457200"/>
            <a:ext cx="360" cy="5029560"/>
          </a:xfrm>
          <a:prstGeom prst="curvedConnector3">
            <a:avLst>
              <a:gd name="adj1" fmla="val -31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46" idx="2"/>
            <a:endCxn id="136" idx="2"/>
          </p:cNvCxnSpPr>
          <p:nvPr/>
        </p:nvCxnSpPr>
        <p:spPr>
          <a:xfrm rot="10800000">
            <a:off x="6095880" y="457200"/>
            <a:ext cx="360" cy="5029560"/>
          </a:xfrm>
          <a:prstGeom prst="curvedConnector3">
            <a:avLst>
              <a:gd name="adj1" fmla="val -30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47" idx="2"/>
            <a:endCxn id="137" idx="2"/>
          </p:cNvCxnSpPr>
          <p:nvPr/>
        </p:nvCxnSpPr>
        <p:spPr>
          <a:xfrm rot="10800000">
            <a:off x="7238880" y="457200"/>
            <a:ext cx="360" cy="5029560"/>
          </a:xfrm>
          <a:prstGeom prst="curvedConnector3">
            <a:avLst>
              <a:gd name="adj1" fmla="val -30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48" idx="2"/>
            <a:endCxn id="138" idx="2"/>
          </p:cNvCxnSpPr>
          <p:nvPr/>
        </p:nvCxnSpPr>
        <p:spPr>
          <a:xfrm rot="10800000">
            <a:off x="8305920" y="457200"/>
            <a:ext cx="360" cy="5029560"/>
          </a:xfrm>
          <a:prstGeom prst="curvedConnector3">
            <a:avLst>
              <a:gd name="adj1" fmla="val -31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7010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20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2296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8763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648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867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362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895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05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114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335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430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2" name=""/>
          <p:cNvCxnSpPr>
            <a:stCxn id="1378" idx="6"/>
            <a:endCxn id="1379" idx="2"/>
          </p:cNvCxnSpPr>
          <p:nvPr/>
        </p:nvCxnSpPr>
        <p:spPr>
          <a:xfrm>
            <a:off x="3808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83" name=""/>
          <p:cNvCxnSpPr>
            <a:stCxn id="1379" idx="6"/>
            <a:endCxn id="1380" idx="2"/>
          </p:cNvCxnSpPr>
          <p:nvPr/>
        </p:nvCxnSpPr>
        <p:spPr>
          <a:xfrm>
            <a:off x="9140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84" name=""/>
          <p:cNvCxnSpPr>
            <a:stCxn id="1380" idx="6"/>
            <a:endCxn id="1381" idx="2"/>
          </p:cNvCxnSpPr>
          <p:nvPr/>
        </p:nvCxnSpPr>
        <p:spPr>
          <a:xfrm>
            <a:off x="15235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85" name=""/>
          <p:cNvCxnSpPr>
            <a:stCxn id="1381" idx="6"/>
            <a:endCxn id="1374" idx="2"/>
          </p:cNvCxnSpPr>
          <p:nvPr/>
        </p:nvCxnSpPr>
        <p:spPr>
          <a:xfrm>
            <a:off x="2133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86" name=""/>
          <p:cNvCxnSpPr>
            <a:stCxn id="1374" idx="6"/>
            <a:endCxn id="1375" idx="2"/>
          </p:cNvCxnSpPr>
          <p:nvPr/>
        </p:nvCxnSpPr>
        <p:spPr>
          <a:xfrm>
            <a:off x="27428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87" name=""/>
          <p:cNvCxnSpPr>
            <a:stCxn id="1375" idx="6"/>
            <a:endCxn id="1376" idx="2"/>
          </p:cNvCxnSpPr>
          <p:nvPr/>
        </p:nvCxnSpPr>
        <p:spPr>
          <a:xfrm>
            <a:off x="3276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88" name=""/>
          <p:cNvCxnSpPr>
            <a:stCxn id="1376" idx="6"/>
            <a:endCxn id="1377" idx="2"/>
          </p:cNvCxnSpPr>
          <p:nvPr/>
        </p:nvCxnSpPr>
        <p:spPr>
          <a:xfrm>
            <a:off x="3885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89" name=""/>
          <p:cNvCxnSpPr>
            <a:stCxn id="1377" idx="6"/>
            <a:endCxn id="1370" idx="2"/>
          </p:cNvCxnSpPr>
          <p:nvPr/>
        </p:nvCxnSpPr>
        <p:spPr>
          <a:xfrm>
            <a:off x="44956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90" name=""/>
          <p:cNvCxnSpPr>
            <a:stCxn id="1370" idx="6"/>
            <a:endCxn id="1371" idx="2"/>
          </p:cNvCxnSpPr>
          <p:nvPr/>
        </p:nvCxnSpPr>
        <p:spPr>
          <a:xfrm>
            <a:off x="5028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91" name=""/>
          <p:cNvCxnSpPr>
            <a:stCxn id="1371" idx="6"/>
            <a:endCxn id="1372" idx="2"/>
          </p:cNvCxnSpPr>
          <p:nvPr/>
        </p:nvCxnSpPr>
        <p:spPr>
          <a:xfrm>
            <a:off x="56383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92" name=""/>
          <p:cNvCxnSpPr>
            <a:stCxn id="1372" idx="6"/>
            <a:endCxn id="1373" idx="2"/>
          </p:cNvCxnSpPr>
          <p:nvPr/>
        </p:nvCxnSpPr>
        <p:spPr>
          <a:xfrm>
            <a:off x="6248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93" name=""/>
          <p:cNvCxnSpPr>
            <a:stCxn id="1373" idx="6"/>
            <a:endCxn id="1366" idx="2"/>
          </p:cNvCxnSpPr>
          <p:nvPr/>
        </p:nvCxnSpPr>
        <p:spPr>
          <a:xfrm>
            <a:off x="68576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94" name=""/>
          <p:cNvCxnSpPr>
            <a:stCxn id="1366" idx="6"/>
            <a:endCxn id="1367" idx="2"/>
          </p:cNvCxnSpPr>
          <p:nvPr/>
        </p:nvCxnSpPr>
        <p:spPr>
          <a:xfrm>
            <a:off x="7391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95" name=""/>
          <p:cNvCxnSpPr>
            <a:stCxn id="1367" idx="6"/>
            <a:endCxn id="1368" idx="2"/>
          </p:cNvCxnSpPr>
          <p:nvPr/>
        </p:nvCxnSpPr>
        <p:spPr>
          <a:xfrm>
            <a:off x="80006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396" name=""/>
          <p:cNvCxnSpPr>
            <a:stCxn id="1368" idx="6"/>
            <a:endCxn id="1369" idx="2"/>
          </p:cNvCxnSpPr>
          <p:nvPr/>
        </p:nvCxnSpPr>
        <p:spPr>
          <a:xfrm>
            <a:off x="86104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397" name=""/>
          <p:cNvSpPr/>
          <p:nvPr/>
        </p:nvSpPr>
        <p:spPr>
          <a:xfrm>
            <a:off x="10713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15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80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90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23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433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0431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576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9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1897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409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942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161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52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674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010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620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2296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8763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648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257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477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362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895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05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1430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752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8" name=""/>
          <p:cNvCxnSpPr>
            <a:stCxn id="1424" idx="6"/>
            <a:endCxn id="1425" idx="2"/>
          </p:cNvCxnSpPr>
          <p:nvPr/>
        </p:nvCxnSpPr>
        <p:spPr>
          <a:xfrm>
            <a:off x="3808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29" name=""/>
          <p:cNvCxnSpPr>
            <a:stCxn id="1425" idx="6"/>
            <a:endCxn id="1426" idx="2"/>
          </p:cNvCxnSpPr>
          <p:nvPr/>
        </p:nvCxnSpPr>
        <p:spPr>
          <a:xfrm>
            <a:off x="9140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0" name=""/>
          <p:cNvCxnSpPr>
            <a:stCxn id="1426" idx="6"/>
            <a:endCxn id="1427" idx="2"/>
          </p:cNvCxnSpPr>
          <p:nvPr/>
        </p:nvCxnSpPr>
        <p:spPr>
          <a:xfrm>
            <a:off x="15235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1" name=""/>
          <p:cNvCxnSpPr>
            <a:stCxn id="1427" idx="6"/>
            <a:endCxn id="1420" idx="2"/>
          </p:cNvCxnSpPr>
          <p:nvPr/>
        </p:nvCxnSpPr>
        <p:spPr>
          <a:xfrm>
            <a:off x="2133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0" idx="6"/>
            <a:endCxn id="1421" idx="2"/>
          </p:cNvCxnSpPr>
          <p:nvPr/>
        </p:nvCxnSpPr>
        <p:spPr>
          <a:xfrm>
            <a:off x="27428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21" idx="6"/>
            <a:endCxn id="1422" idx="2"/>
          </p:cNvCxnSpPr>
          <p:nvPr/>
        </p:nvCxnSpPr>
        <p:spPr>
          <a:xfrm>
            <a:off x="3276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stCxn id="1422" idx="6"/>
            <a:endCxn id="1423" idx="2"/>
          </p:cNvCxnSpPr>
          <p:nvPr/>
        </p:nvCxnSpPr>
        <p:spPr>
          <a:xfrm>
            <a:off x="3885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stCxn id="1423" idx="6"/>
            <a:endCxn id="1416" idx="2"/>
          </p:cNvCxnSpPr>
          <p:nvPr/>
        </p:nvCxnSpPr>
        <p:spPr>
          <a:xfrm>
            <a:off x="44956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16" idx="6"/>
            <a:endCxn id="1417" idx="2"/>
          </p:cNvCxnSpPr>
          <p:nvPr/>
        </p:nvCxnSpPr>
        <p:spPr>
          <a:xfrm>
            <a:off x="5028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7" name=""/>
          <p:cNvCxnSpPr>
            <a:stCxn id="1417" idx="6"/>
            <a:endCxn id="1418" idx="2"/>
          </p:cNvCxnSpPr>
          <p:nvPr/>
        </p:nvCxnSpPr>
        <p:spPr>
          <a:xfrm>
            <a:off x="56383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8" name=""/>
          <p:cNvCxnSpPr>
            <a:stCxn id="1418" idx="6"/>
            <a:endCxn id="1419" idx="2"/>
          </p:cNvCxnSpPr>
          <p:nvPr/>
        </p:nvCxnSpPr>
        <p:spPr>
          <a:xfrm>
            <a:off x="6248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39" name=""/>
          <p:cNvCxnSpPr>
            <a:stCxn id="1419" idx="6"/>
            <a:endCxn id="1412" idx="2"/>
          </p:cNvCxnSpPr>
          <p:nvPr/>
        </p:nvCxnSpPr>
        <p:spPr>
          <a:xfrm>
            <a:off x="68576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40" name=""/>
          <p:cNvCxnSpPr>
            <a:stCxn id="1412" idx="6"/>
            <a:endCxn id="1413" idx="2"/>
          </p:cNvCxnSpPr>
          <p:nvPr/>
        </p:nvCxnSpPr>
        <p:spPr>
          <a:xfrm>
            <a:off x="7391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41" name=""/>
          <p:cNvCxnSpPr>
            <a:stCxn id="1413" idx="6"/>
            <a:endCxn id="1414" idx="2"/>
          </p:cNvCxnSpPr>
          <p:nvPr/>
        </p:nvCxnSpPr>
        <p:spPr>
          <a:xfrm>
            <a:off x="80006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442" name=""/>
          <p:cNvCxnSpPr>
            <a:stCxn id="1414" idx="6"/>
            <a:endCxn id="1415" idx="2"/>
          </p:cNvCxnSpPr>
          <p:nvPr/>
        </p:nvCxnSpPr>
        <p:spPr>
          <a:xfrm>
            <a:off x="86104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1443" name=""/>
          <p:cNvSpPr/>
          <p:nvPr/>
        </p:nvSpPr>
        <p:spPr>
          <a:xfrm>
            <a:off x="10713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615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680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90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823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433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0431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76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799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1897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409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942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161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552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674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620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2296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763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648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257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867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477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362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895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505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52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4" name=""/>
          <p:cNvCxnSpPr>
            <a:stCxn id="1470" idx="6"/>
            <a:endCxn id="1471" idx="2"/>
          </p:cNvCxnSpPr>
          <p:nvPr/>
        </p:nvCxnSpPr>
        <p:spPr>
          <a:xfrm>
            <a:off x="3808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75" name=""/>
          <p:cNvCxnSpPr>
            <a:stCxn id="1471" idx="6"/>
            <a:endCxn id="1472" idx="2"/>
          </p:cNvCxnSpPr>
          <p:nvPr/>
        </p:nvCxnSpPr>
        <p:spPr>
          <a:xfrm>
            <a:off x="9140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76" name=""/>
          <p:cNvCxnSpPr>
            <a:stCxn id="1472" idx="6"/>
            <a:endCxn id="1473" idx="2"/>
          </p:cNvCxnSpPr>
          <p:nvPr/>
        </p:nvCxnSpPr>
        <p:spPr>
          <a:xfrm>
            <a:off x="15235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77" name=""/>
          <p:cNvCxnSpPr>
            <a:stCxn id="1473" idx="6"/>
            <a:endCxn id="1466" idx="2"/>
          </p:cNvCxnSpPr>
          <p:nvPr/>
        </p:nvCxnSpPr>
        <p:spPr>
          <a:xfrm>
            <a:off x="2133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78" name=""/>
          <p:cNvCxnSpPr>
            <a:stCxn id="1466" idx="6"/>
            <a:endCxn id="1467" idx="2"/>
          </p:cNvCxnSpPr>
          <p:nvPr/>
        </p:nvCxnSpPr>
        <p:spPr>
          <a:xfrm>
            <a:off x="27428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79" name=""/>
          <p:cNvCxnSpPr>
            <a:stCxn id="1467" idx="6"/>
            <a:endCxn id="1468" idx="2"/>
          </p:cNvCxnSpPr>
          <p:nvPr/>
        </p:nvCxnSpPr>
        <p:spPr>
          <a:xfrm>
            <a:off x="3276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80" name=""/>
          <p:cNvCxnSpPr>
            <a:stCxn id="1468" idx="6"/>
            <a:endCxn id="1469" idx="2"/>
          </p:cNvCxnSpPr>
          <p:nvPr/>
        </p:nvCxnSpPr>
        <p:spPr>
          <a:xfrm>
            <a:off x="3885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81" name=""/>
          <p:cNvCxnSpPr>
            <a:stCxn id="1469" idx="6"/>
            <a:endCxn id="1462" idx="2"/>
          </p:cNvCxnSpPr>
          <p:nvPr/>
        </p:nvCxnSpPr>
        <p:spPr>
          <a:xfrm>
            <a:off x="44956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82" name=""/>
          <p:cNvCxnSpPr>
            <a:stCxn id="1462" idx="6"/>
            <a:endCxn id="1463" idx="2"/>
          </p:cNvCxnSpPr>
          <p:nvPr/>
        </p:nvCxnSpPr>
        <p:spPr>
          <a:xfrm>
            <a:off x="5028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83" name=""/>
          <p:cNvCxnSpPr>
            <a:stCxn id="1463" idx="6"/>
            <a:endCxn id="1464" idx="2"/>
          </p:cNvCxnSpPr>
          <p:nvPr/>
        </p:nvCxnSpPr>
        <p:spPr>
          <a:xfrm>
            <a:off x="56383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84" name=""/>
          <p:cNvCxnSpPr>
            <a:stCxn id="1464" idx="6"/>
            <a:endCxn id="1465" idx="2"/>
          </p:cNvCxnSpPr>
          <p:nvPr/>
        </p:nvCxnSpPr>
        <p:spPr>
          <a:xfrm>
            <a:off x="6248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85" name=""/>
          <p:cNvCxnSpPr>
            <a:stCxn id="1465" idx="6"/>
            <a:endCxn id="1458" idx="2"/>
          </p:cNvCxnSpPr>
          <p:nvPr/>
        </p:nvCxnSpPr>
        <p:spPr>
          <a:xfrm>
            <a:off x="68576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86" name=""/>
          <p:cNvCxnSpPr>
            <a:stCxn id="1458" idx="6"/>
            <a:endCxn id="1459" idx="2"/>
          </p:cNvCxnSpPr>
          <p:nvPr/>
        </p:nvCxnSpPr>
        <p:spPr>
          <a:xfrm>
            <a:off x="7391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87" name=""/>
          <p:cNvCxnSpPr>
            <a:stCxn id="1459" idx="6"/>
            <a:endCxn id="1460" idx="2"/>
          </p:cNvCxnSpPr>
          <p:nvPr/>
        </p:nvCxnSpPr>
        <p:spPr>
          <a:xfrm>
            <a:off x="80006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488" name=""/>
          <p:cNvCxnSpPr>
            <a:stCxn id="1460" idx="6"/>
            <a:endCxn id="1461" idx="2"/>
          </p:cNvCxnSpPr>
          <p:nvPr/>
        </p:nvCxnSpPr>
        <p:spPr>
          <a:xfrm>
            <a:off x="86104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1489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5" name=""/>
          <p:cNvCxnSpPr>
            <a:stCxn id="1501" idx="6"/>
            <a:endCxn id="1502" idx="2"/>
          </p:cNvCxnSpPr>
          <p:nvPr/>
        </p:nvCxnSpPr>
        <p:spPr>
          <a:xfrm>
            <a:off x="3808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06" name=""/>
          <p:cNvCxnSpPr>
            <a:stCxn id="1502" idx="6"/>
            <a:endCxn id="1503" idx="2"/>
          </p:cNvCxnSpPr>
          <p:nvPr/>
        </p:nvCxnSpPr>
        <p:spPr>
          <a:xfrm>
            <a:off x="9140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07" name=""/>
          <p:cNvCxnSpPr>
            <a:stCxn id="1503" idx="6"/>
            <a:endCxn id="1504" idx="2"/>
          </p:cNvCxnSpPr>
          <p:nvPr/>
        </p:nvCxnSpPr>
        <p:spPr>
          <a:xfrm>
            <a:off x="15235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08" name=""/>
          <p:cNvCxnSpPr>
            <a:stCxn id="1504" idx="6"/>
            <a:endCxn id="1497" idx="2"/>
          </p:cNvCxnSpPr>
          <p:nvPr/>
        </p:nvCxnSpPr>
        <p:spPr>
          <a:xfrm>
            <a:off x="2133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09" name=""/>
          <p:cNvCxnSpPr>
            <a:stCxn id="1497" idx="6"/>
            <a:endCxn id="1498" idx="2"/>
          </p:cNvCxnSpPr>
          <p:nvPr/>
        </p:nvCxnSpPr>
        <p:spPr>
          <a:xfrm>
            <a:off x="27428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0" name=""/>
          <p:cNvCxnSpPr>
            <a:stCxn id="1498" idx="6"/>
            <a:endCxn id="1499" idx="2"/>
          </p:cNvCxnSpPr>
          <p:nvPr/>
        </p:nvCxnSpPr>
        <p:spPr>
          <a:xfrm>
            <a:off x="3276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1" name=""/>
          <p:cNvCxnSpPr>
            <a:stCxn id="1499" idx="6"/>
            <a:endCxn id="1500" idx="2"/>
          </p:cNvCxnSpPr>
          <p:nvPr/>
        </p:nvCxnSpPr>
        <p:spPr>
          <a:xfrm>
            <a:off x="3885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2" name=""/>
          <p:cNvCxnSpPr>
            <a:stCxn id="1500" idx="6"/>
            <a:endCxn id="1493" idx="2"/>
          </p:cNvCxnSpPr>
          <p:nvPr/>
        </p:nvCxnSpPr>
        <p:spPr>
          <a:xfrm>
            <a:off x="44956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3" name=""/>
          <p:cNvCxnSpPr>
            <a:stCxn id="1493" idx="6"/>
            <a:endCxn id="1494" idx="2"/>
          </p:cNvCxnSpPr>
          <p:nvPr/>
        </p:nvCxnSpPr>
        <p:spPr>
          <a:xfrm>
            <a:off x="5028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4" name=""/>
          <p:cNvCxnSpPr>
            <a:stCxn id="1494" idx="6"/>
            <a:endCxn id="1495" idx="2"/>
          </p:cNvCxnSpPr>
          <p:nvPr/>
        </p:nvCxnSpPr>
        <p:spPr>
          <a:xfrm>
            <a:off x="56383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5" name=""/>
          <p:cNvCxnSpPr>
            <a:stCxn id="1495" idx="6"/>
            <a:endCxn id="1496" idx="2"/>
          </p:cNvCxnSpPr>
          <p:nvPr/>
        </p:nvCxnSpPr>
        <p:spPr>
          <a:xfrm>
            <a:off x="6248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6" name=""/>
          <p:cNvCxnSpPr>
            <a:stCxn id="1496" idx="6"/>
            <a:endCxn id="1489" idx="2"/>
          </p:cNvCxnSpPr>
          <p:nvPr/>
        </p:nvCxnSpPr>
        <p:spPr>
          <a:xfrm>
            <a:off x="68576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7" name=""/>
          <p:cNvCxnSpPr>
            <a:stCxn id="1489" idx="6"/>
            <a:endCxn id="1490" idx="2"/>
          </p:cNvCxnSpPr>
          <p:nvPr/>
        </p:nvCxnSpPr>
        <p:spPr>
          <a:xfrm>
            <a:off x="7391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8" name=""/>
          <p:cNvCxnSpPr>
            <a:stCxn id="1490" idx="6"/>
            <a:endCxn id="1491" idx="2"/>
          </p:cNvCxnSpPr>
          <p:nvPr/>
        </p:nvCxnSpPr>
        <p:spPr>
          <a:xfrm>
            <a:off x="80006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519" name=""/>
          <p:cNvCxnSpPr>
            <a:stCxn id="1491" idx="6"/>
            <a:endCxn id="1492" idx="2"/>
          </p:cNvCxnSpPr>
          <p:nvPr/>
        </p:nvCxnSpPr>
        <p:spPr>
          <a:xfrm>
            <a:off x="86104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520" name=""/>
          <p:cNvSpPr/>
          <p:nvPr/>
        </p:nvSpPr>
        <p:spPr>
          <a:xfrm>
            <a:off x="10713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615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680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290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823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433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0431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576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799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1897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409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942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81615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52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8695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505320" y="76212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05520" y="762120"/>
            <a:ext cx="38088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030280" y="762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30080" y="762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05320" y="25909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105520" y="2590920"/>
            <a:ext cx="380880" cy="3808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030280" y="2590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430080" y="259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505320" y="41911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105520" y="4191120"/>
            <a:ext cx="38088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030280" y="4191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430080" y="419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7010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620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2296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763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648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867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362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895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505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14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335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1430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752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5" name=""/>
          <p:cNvCxnSpPr>
            <a:stCxn id="1561" idx="6"/>
            <a:endCxn id="1562" idx="2"/>
          </p:cNvCxnSpPr>
          <p:nvPr/>
        </p:nvCxnSpPr>
        <p:spPr>
          <a:xfrm>
            <a:off x="3808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562" idx="6"/>
            <a:endCxn id="1563" idx="2"/>
          </p:cNvCxnSpPr>
          <p:nvPr/>
        </p:nvCxnSpPr>
        <p:spPr>
          <a:xfrm>
            <a:off x="9140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7" name=""/>
          <p:cNvCxnSpPr>
            <a:stCxn id="1563" idx="6"/>
            <a:endCxn id="1564" idx="2"/>
          </p:cNvCxnSpPr>
          <p:nvPr/>
        </p:nvCxnSpPr>
        <p:spPr>
          <a:xfrm>
            <a:off x="15235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8" name=""/>
          <p:cNvCxnSpPr>
            <a:stCxn id="1564" idx="6"/>
            <a:endCxn id="1557" idx="2"/>
          </p:cNvCxnSpPr>
          <p:nvPr/>
        </p:nvCxnSpPr>
        <p:spPr>
          <a:xfrm>
            <a:off x="2133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9" name=""/>
          <p:cNvCxnSpPr>
            <a:stCxn id="1557" idx="6"/>
            <a:endCxn id="1558" idx="2"/>
          </p:cNvCxnSpPr>
          <p:nvPr/>
        </p:nvCxnSpPr>
        <p:spPr>
          <a:xfrm>
            <a:off x="27428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0" name=""/>
          <p:cNvCxnSpPr>
            <a:stCxn id="1558" idx="6"/>
            <a:endCxn id="1559" idx="2"/>
          </p:cNvCxnSpPr>
          <p:nvPr/>
        </p:nvCxnSpPr>
        <p:spPr>
          <a:xfrm>
            <a:off x="3276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stCxn id="1559" idx="6"/>
            <a:endCxn id="1560" idx="2"/>
          </p:cNvCxnSpPr>
          <p:nvPr/>
        </p:nvCxnSpPr>
        <p:spPr>
          <a:xfrm>
            <a:off x="3885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2" name=""/>
          <p:cNvCxnSpPr>
            <a:stCxn id="1560" idx="6"/>
            <a:endCxn id="1553" idx="2"/>
          </p:cNvCxnSpPr>
          <p:nvPr/>
        </p:nvCxnSpPr>
        <p:spPr>
          <a:xfrm>
            <a:off x="44956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53" idx="6"/>
            <a:endCxn id="1554" idx="2"/>
          </p:cNvCxnSpPr>
          <p:nvPr/>
        </p:nvCxnSpPr>
        <p:spPr>
          <a:xfrm>
            <a:off x="5028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4" name=""/>
          <p:cNvCxnSpPr>
            <a:stCxn id="1554" idx="6"/>
            <a:endCxn id="1555" idx="2"/>
          </p:cNvCxnSpPr>
          <p:nvPr/>
        </p:nvCxnSpPr>
        <p:spPr>
          <a:xfrm>
            <a:off x="56383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5" name=""/>
          <p:cNvCxnSpPr>
            <a:stCxn id="1555" idx="6"/>
            <a:endCxn id="1556" idx="2"/>
          </p:cNvCxnSpPr>
          <p:nvPr/>
        </p:nvCxnSpPr>
        <p:spPr>
          <a:xfrm>
            <a:off x="6248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6" name=""/>
          <p:cNvCxnSpPr>
            <a:stCxn id="1556" idx="6"/>
            <a:endCxn id="1549" idx="2"/>
          </p:cNvCxnSpPr>
          <p:nvPr/>
        </p:nvCxnSpPr>
        <p:spPr>
          <a:xfrm>
            <a:off x="68576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7" name=""/>
          <p:cNvCxnSpPr>
            <a:stCxn id="1549" idx="6"/>
            <a:endCxn id="1550" idx="2"/>
          </p:cNvCxnSpPr>
          <p:nvPr/>
        </p:nvCxnSpPr>
        <p:spPr>
          <a:xfrm>
            <a:off x="7391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8" name=""/>
          <p:cNvCxnSpPr>
            <a:stCxn id="1550" idx="6"/>
            <a:endCxn id="1551" idx="2"/>
          </p:cNvCxnSpPr>
          <p:nvPr/>
        </p:nvCxnSpPr>
        <p:spPr>
          <a:xfrm>
            <a:off x="80006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79" name=""/>
          <p:cNvCxnSpPr>
            <a:stCxn id="1551" idx="6"/>
            <a:endCxn id="1552" idx="2"/>
          </p:cNvCxnSpPr>
          <p:nvPr/>
        </p:nvCxnSpPr>
        <p:spPr>
          <a:xfrm>
            <a:off x="86104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80" name=""/>
          <p:cNvSpPr/>
          <p:nvPr/>
        </p:nvSpPr>
        <p:spPr>
          <a:xfrm>
            <a:off x="10713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615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80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290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823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433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431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576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799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1897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09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942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161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552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8674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10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620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2296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763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648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257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477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362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895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505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1430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752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1" name=""/>
          <p:cNvCxnSpPr>
            <a:stCxn id="1607" idx="6"/>
            <a:endCxn id="1608" idx="2"/>
          </p:cNvCxnSpPr>
          <p:nvPr/>
        </p:nvCxnSpPr>
        <p:spPr>
          <a:xfrm>
            <a:off x="3808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12" name=""/>
          <p:cNvCxnSpPr>
            <a:stCxn id="1608" idx="6"/>
            <a:endCxn id="1609" idx="2"/>
          </p:cNvCxnSpPr>
          <p:nvPr/>
        </p:nvCxnSpPr>
        <p:spPr>
          <a:xfrm>
            <a:off x="9140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13" name=""/>
          <p:cNvCxnSpPr>
            <a:stCxn id="1609" idx="6"/>
            <a:endCxn id="1610" idx="2"/>
          </p:cNvCxnSpPr>
          <p:nvPr/>
        </p:nvCxnSpPr>
        <p:spPr>
          <a:xfrm>
            <a:off x="15235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14" name=""/>
          <p:cNvCxnSpPr>
            <a:stCxn id="1610" idx="6"/>
            <a:endCxn id="1603" idx="2"/>
          </p:cNvCxnSpPr>
          <p:nvPr/>
        </p:nvCxnSpPr>
        <p:spPr>
          <a:xfrm>
            <a:off x="2133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15" name=""/>
          <p:cNvCxnSpPr>
            <a:stCxn id="1603" idx="6"/>
            <a:endCxn id="1604" idx="2"/>
          </p:cNvCxnSpPr>
          <p:nvPr/>
        </p:nvCxnSpPr>
        <p:spPr>
          <a:xfrm>
            <a:off x="27428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16" name=""/>
          <p:cNvCxnSpPr>
            <a:stCxn id="1604" idx="6"/>
            <a:endCxn id="1605" idx="2"/>
          </p:cNvCxnSpPr>
          <p:nvPr/>
        </p:nvCxnSpPr>
        <p:spPr>
          <a:xfrm>
            <a:off x="3276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17" name=""/>
          <p:cNvCxnSpPr>
            <a:stCxn id="1605" idx="6"/>
            <a:endCxn id="1606" idx="2"/>
          </p:cNvCxnSpPr>
          <p:nvPr/>
        </p:nvCxnSpPr>
        <p:spPr>
          <a:xfrm>
            <a:off x="3885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18" name=""/>
          <p:cNvCxnSpPr>
            <a:stCxn id="1606" idx="6"/>
            <a:endCxn id="1599" idx="2"/>
          </p:cNvCxnSpPr>
          <p:nvPr/>
        </p:nvCxnSpPr>
        <p:spPr>
          <a:xfrm>
            <a:off x="44956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19" name=""/>
          <p:cNvCxnSpPr>
            <a:stCxn id="1599" idx="6"/>
            <a:endCxn id="1600" idx="2"/>
          </p:cNvCxnSpPr>
          <p:nvPr/>
        </p:nvCxnSpPr>
        <p:spPr>
          <a:xfrm>
            <a:off x="5028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20" name=""/>
          <p:cNvCxnSpPr>
            <a:stCxn id="1600" idx="6"/>
            <a:endCxn id="1601" idx="2"/>
          </p:cNvCxnSpPr>
          <p:nvPr/>
        </p:nvCxnSpPr>
        <p:spPr>
          <a:xfrm>
            <a:off x="56383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21" name=""/>
          <p:cNvCxnSpPr>
            <a:stCxn id="1601" idx="6"/>
            <a:endCxn id="1602" idx="2"/>
          </p:cNvCxnSpPr>
          <p:nvPr/>
        </p:nvCxnSpPr>
        <p:spPr>
          <a:xfrm>
            <a:off x="6248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22" name=""/>
          <p:cNvCxnSpPr>
            <a:stCxn id="1602" idx="6"/>
            <a:endCxn id="1595" idx="2"/>
          </p:cNvCxnSpPr>
          <p:nvPr/>
        </p:nvCxnSpPr>
        <p:spPr>
          <a:xfrm>
            <a:off x="68576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23" name=""/>
          <p:cNvCxnSpPr>
            <a:stCxn id="1595" idx="6"/>
            <a:endCxn id="1596" idx="2"/>
          </p:cNvCxnSpPr>
          <p:nvPr/>
        </p:nvCxnSpPr>
        <p:spPr>
          <a:xfrm>
            <a:off x="7391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24" name=""/>
          <p:cNvCxnSpPr>
            <a:stCxn id="1596" idx="6"/>
            <a:endCxn id="1597" idx="2"/>
          </p:cNvCxnSpPr>
          <p:nvPr/>
        </p:nvCxnSpPr>
        <p:spPr>
          <a:xfrm>
            <a:off x="80006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625" name=""/>
          <p:cNvCxnSpPr>
            <a:stCxn id="1597" idx="6"/>
            <a:endCxn id="1598" idx="2"/>
          </p:cNvCxnSpPr>
          <p:nvPr/>
        </p:nvCxnSpPr>
        <p:spPr>
          <a:xfrm>
            <a:off x="86104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1626" name=""/>
          <p:cNvSpPr/>
          <p:nvPr/>
        </p:nvSpPr>
        <p:spPr>
          <a:xfrm>
            <a:off x="10713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615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680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290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23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433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0431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576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799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897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409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942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161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552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674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620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82296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8763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648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257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867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477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362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895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505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114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752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7" name=""/>
          <p:cNvCxnSpPr>
            <a:stCxn id="1653" idx="6"/>
            <a:endCxn id="1654" idx="2"/>
          </p:cNvCxnSpPr>
          <p:nvPr/>
        </p:nvCxnSpPr>
        <p:spPr>
          <a:xfrm>
            <a:off x="3808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58" name=""/>
          <p:cNvCxnSpPr>
            <a:stCxn id="1654" idx="6"/>
            <a:endCxn id="1655" idx="2"/>
          </p:cNvCxnSpPr>
          <p:nvPr/>
        </p:nvCxnSpPr>
        <p:spPr>
          <a:xfrm>
            <a:off x="9140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59" name=""/>
          <p:cNvCxnSpPr>
            <a:stCxn id="1655" idx="6"/>
            <a:endCxn id="1656" idx="2"/>
          </p:cNvCxnSpPr>
          <p:nvPr/>
        </p:nvCxnSpPr>
        <p:spPr>
          <a:xfrm>
            <a:off x="15235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0" name=""/>
          <p:cNvCxnSpPr>
            <a:stCxn id="1656" idx="6"/>
            <a:endCxn id="1649" idx="2"/>
          </p:cNvCxnSpPr>
          <p:nvPr/>
        </p:nvCxnSpPr>
        <p:spPr>
          <a:xfrm>
            <a:off x="2133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1" name=""/>
          <p:cNvCxnSpPr>
            <a:stCxn id="1649" idx="6"/>
            <a:endCxn id="1650" idx="2"/>
          </p:cNvCxnSpPr>
          <p:nvPr/>
        </p:nvCxnSpPr>
        <p:spPr>
          <a:xfrm>
            <a:off x="27428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2" name=""/>
          <p:cNvCxnSpPr>
            <a:stCxn id="1650" idx="6"/>
            <a:endCxn id="1651" idx="2"/>
          </p:cNvCxnSpPr>
          <p:nvPr/>
        </p:nvCxnSpPr>
        <p:spPr>
          <a:xfrm>
            <a:off x="3276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3" name=""/>
          <p:cNvCxnSpPr>
            <a:stCxn id="1651" idx="6"/>
            <a:endCxn id="1652" idx="2"/>
          </p:cNvCxnSpPr>
          <p:nvPr/>
        </p:nvCxnSpPr>
        <p:spPr>
          <a:xfrm>
            <a:off x="3885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4" name=""/>
          <p:cNvCxnSpPr>
            <a:stCxn id="1652" idx="6"/>
            <a:endCxn id="1645" idx="2"/>
          </p:cNvCxnSpPr>
          <p:nvPr/>
        </p:nvCxnSpPr>
        <p:spPr>
          <a:xfrm>
            <a:off x="44956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5" name=""/>
          <p:cNvCxnSpPr>
            <a:stCxn id="1645" idx="6"/>
            <a:endCxn id="1646" idx="2"/>
          </p:cNvCxnSpPr>
          <p:nvPr/>
        </p:nvCxnSpPr>
        <p:spPr>
          <a:xfrm>
            <a:off x="5028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6" name=""/>
          <p:cNvCxnSpPr>
            <a:stCxn id="1646" idx="6"/>
            <a:endCxn id="1647" idx="2"/>
          </p:cNvCxnSpPr>
          <p:nvPr/>
        </p:nvCxnSpPr>
        <p:spPr>
          <a:xfrm>
            <a:off x="56383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7" name=""/>
          <p:cNvCxnSpPr>
            <a:stCxn id="1647" idx="6"/>
            <a:endCxn id="1648" idx="2"/>
          </p:cNvCxnSpPr>
          <p:nvPr/>
        </p:nvCxnSpPr>
        <p:spPr>
          <a:xfrm>
            <a:off x="6248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8" name=""/>
          <p:cNvCxnSpPr>
            <a:stCxn id="1648" idx="6"/>
            <a:endCxn id="1641" idx="2"/>
          </p:cNvCxnSpPr>
          <p:nvPr/>
        </p:nvCxnSpPr>
        <p:spPr>
          <a:xfrm>
            <a:off x="68576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69" name=""/>
          <p:cNvCxnSpPr>
            <a:stCxn id="1641" idx="6"/>
            <a:endCxn id="1642" idx="2"/>
          </p:cNvCxnSpPr>
          <p:nvPr/>
        </p:nvCxnSpPr>
        <p:spPr>
          <a:xfrm>
            <a:off x="7391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70" name=""/>
          <p:cNvCxnSpPr>
            <a:stCxn id="1642" idx="6"/>
            <a:endCxn id="1643" idx="2"/>
          </p:cNvCxnSpPr>
          <p:nvPr/>
        </p:nvCxnSpPr>
        <p:spPr>
          <a:xfrm>
            <a:off x="80006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671" name=""/>
          <p:cNvCxnSpPr>
            <a:stCxn id="1643" idx="6"/>
            <a:endCxn id="1644" idx="2"/>
          </p:cNvCxnSpPr>
          <p:nvPr/>
        </p:nvCxnSpPr>
        <p:spPr>
          <a:xfrm>
            <a:off x="86104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1672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8" name=""/>
          <p:cNvCxnSpPr>
            <a:stCxn id="1684" idx="6"/>
            <a:endCxn id="1685" idx="2"/>
          </p:cNvCxnSpPr>
          <p:nvPr/>
        </p:nvCxnSpPr>
        <p:spPr>
          <a:xfrm>
            <a:off x="3808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89" name=""/>
          <p:cNvCxnSpPr>
            <a:stCxn id="1685" idx="6"/>
            <a:endCxn id="1686" idx="2"/>
          </p:cNvCxnSpPr>
          <p:nvPr/>
        </p:nvCxnSpPr>
        <p:spPr>
          <a:xfrm>
            <a:off x="9140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0" name=""/>
          <p:cNvCxnSpPr>
            <a:stCxn id="1686" idx="6"/>
            <a:endCxn id="1687" idx="2"/>
          </p:cNvCxnSpPr>
          <p:nvPr/>
        </p:nvCxnSpPr>
        <p:spPr>
          <a:xfrm>
            <a:off x="15235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1" name=""/>
          <p:cNvCxnSpPr>
            <a:stCxn id="1687" idx="6"/>
            <a:endCxn id="1680" idx="2"/>
          </p:cNvCxnSpPr>
          <p:nvPr/>
        </p:nvCxnSpPr>
        <p:spPr>
          <a:xfrm>
            <a:off x="2133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2" name=""/>
          <p:cNvCxnSpPr>
            <a:stCxn id="1680" idx="6"/>
            <a:endCxn id="1681" idx="2"/>
          </p:cNvCxnSpPr>
          <p:nvPr/>
        </p:nvCxnSpPr>
        <p:spPr>
          <a:xfrm>
            <a:off x="27428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3" name=""/>
          <p:cNvCxnSpPr>
            <a:stCxn id="1681" idx="6"/>
            <a:endCxn id="1682" idx="2"/>
          </p:cNvCxnSpPr>
          <p:nvPr/>
        </p:nvCxnSpPr>
        <p:spPr>
          <a:xfrm>
            <a:off x="3276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4" name=""/>
          <p:cNvCxnSpPr>
            <a:stCxn id="1682" idx="6"/>
            <a:endCxn id="1683" idx="2"/>
          </p:cNvCxnSpPr>
          <p:nvPr/>
        </p:nvCxnSpPr>
        <p:spPr>
          <a:xfrm>
            <a:off x="3885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5" name=""/>
          <p:cNvCxnSpPr>
            <a:stCxn id="1683" idx="6"/>
            <a:endCxn id="1676" idx="2"/>
          </p:cNvCxnSpPr>
          <p:nvPr/>
        </p:nvCxnSpPr>
        <p:spPr>
          <a:xfrm>
            <a:off x="44956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6" name=""/>
          <p:cNvCxnSpPr>
            <a:stCxn id="1676" idx="6"/>
            <a:endCxn id="1677" idx="2"/>
          </p:cNvCxnSpPr>
          <p:nvPr/>
        </p:nvCxnSpPr>
        <p:spPr>
          <a:xfrm>
            <a:off x="5028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7" name=""/>
          <p:cNvCxnSpPr>
            <a:stCxn id="1677" idx="6"/>
            <a:endCxn id="1678" idx="2"/>
          </p:cNvCxnSpPr>
          <p:nvPr/>
        </p:nvCxnSpPr>
        <p:spPr>
          <a:xfrm>
            <a:off x="56383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8" name=""/>
          <p:cNvCxnSpPr>
            <a:stCxn id="1678" idx="6"/>
            <a:endCxn id="1679" idx="2"/>
          </p:cNvCxnSpPr>
          <p:nvPr/>
        </p:nvCxnSpPr>
        <p:spPr>
          <a:xfrm>
            <a:off x="6248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699" name=""/>
          <p:cNvCxnSpPr>
            <a:stCxn id="1679" idx="6"/>
            <a:endCxn id="1672" idx="2"/>
          </p:cNvCxnSpPr>
          <p:nvPr/>
        </p:nvCxnSpPr>
        <p:spPr>
          <a:xfrm>
            <a:off x="68576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00" name=""/>
          <p:cNvCxnSpPr>
            <a:stCxn id="1672" idx="6"/>
            <a:endCxn id="1673" idx="2"/>
          </p:cNvCxnSpPr>
          <p:nvPr/>
        </p:nvCxnSpPr>
        <p:spPr>
          <a:xfrm>
            <a:off x="7391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01" name=""/>
          <p:cNvCxnSpPr>
            <a:stCxn id="1673" idx="6"/>
            <a:endCxn id="1674" idx="2"/>
          </p:cNvCxnSpPr>
          <p:nvPr/>
        </p:nvCxnSpPr>
        <p:spPr>
          <a:xfrm>
            <a:off x="80006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02" name=""/>
          <p:cNvCxnSpPr>
            <a:stCxn id="1674" idx="6"/>
            <a:endCxn id="1675" idx="2"/>
          </p:cNvCxnSpPr>
          <p:nvPr/>
        </p:nvCxnSpPr>
        <p:spPr>
          <a:xfrm>
            <a:off x="86104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703" name=""/>
          <p:cNvSpPr/>
          <p:nvPr/>
        </p:nvSpPr>
        <p:spPr>
          <a:xfrm>
            <a:off x="10713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615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680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290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823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433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0431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76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799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1897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409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42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1615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552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8695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505320" y="76212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105520" y="762120"/>
            <a:ext cx="38088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030280" y="762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430080" y="762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200400" y="25909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562720" y="2590920"/>
            <a:ext cx="380880" cy="3808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7480" y="2590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125520" y="259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733920" y="41911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952880" y="4191120"/>
            <a:ext cx="38124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878000" y="4191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658680" y="419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2" name=""/>
          <p:cNvCxnSpPr>
            <a:stCxn id="1719" idx="1"/>
            <a:endCxn id="1723" idx="0"/>
          </p:cNvCxnSpPr>
          <p:nvPr/>
        </p:nvCxnSpPr>
        <p:spPr>
          <a:xfrm flipH="1">
            <a:off x="3661920" y="198360"/>
            <a:ext cx="529200" cy="5644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733" name=""/>
          <p:cNvCxnSpPr>
            <a:stCxn id="1719" idx="3"/>
            <a:endCxn id="1722" idx="0"/>
          </p:cNvCxnSpPr>
          <p:nvPr/>
        </p:nvCxnSpPr>
        <p:spPr>
          <a:xfrm>
            <a:off x="4544640" y="198360"/>
            <a:ext cx="732600" cy="5644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734" name=""/>
          <p:cNvCxnSpPr>
            <a:stCxn id="1719" idx="2"/>
            <a:endCxn id="1727" idx="0"/>
          </p:cNvCxnSpPr>
          <p:nvPr/>
        </p:nvCxnSpPr>
        <p:spPr>
          <a:xfrm flipH="1">
            <a:off x="3357000" y="396360"/>
            <a:ext cx="1011960" cy="21949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735" name=""/>
          <p:cNvCxnSpPr>
            <a:stCxn id="1719" idx="2"/>
            <a:endCxn id="1726" idx="0"/>
          </p:cNvCxnSpPr>
          <p:nvPr/>
        </p:nvCxnSpPr>
        <p:spPr>
          <a:xfrm>
            <a:off x="4368960" y="396360"/>
            <a:ext cx="1365840" cy="21949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736" name=""/>
          <p:cNvCxnSpPr>
            <a:stCxn id="1719" idx="2"/>
            <a:endCxn id="1731" idx="0"/>
          </p:cNvCxnSpPr>
          <p:nvPr/>
        </p:nvCxnSpPr>
        <p:spPr>
          <a:xfrm flipH="1">
            <a:off x="3890520" y="396720"/>
            <a:ext cx="478800" cy="37951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737" name=""/>
          <p:cNvCxnSpPr>
            <a:stCxn id="1719" idx="2"/>
            <a:endCxn id="1730" idx="0"/>
          </p:cNvCxnSpPr>
          <p:nvPr/>
        </p:nvCxnSpPr>
        <p:spPr>
          <a:xfrm>
            <a:off x="4368600" y="396720"/>
            <a:ext cx="756360" cy="37951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738" name=""/>
          <p:cNvCxnSpPr>
            <a:stCxn id="1561" idx="4"/>
          </p:cNvCxnSpPr>
          <p:nvPr/>
        </p:nvCxnSpPr>
        <p:spPr>
          <a:xfrm>
            <a:off x="190440" y="213336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39" name=""/>
          <p:cNvCxnSpPr>
            <a:stCxn id="1581" idx="2"/>
            <a:endCxn id="1685" idx="0"/>
          </p:cNvCxnSpPr>
          <p:nvPr/>
        </p:nvCxnSpPr>
        <p:spPr>
          <a:xfrm>
            <a:off x="6966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0" name=""/>
          <p:cNvCxnSpPr>
            <a:stCxn id="1563" idx="4"/>
            <a:endCxn id="1686" idx="0"/>
          </p:cNvCxnSpPr>
          <p:nvPr/>
        </p:nvCxnSpPr>
        <p:spPr>
          <a:xfrm>
            <a:off x="133308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1" name=""/>
          <p:cNvCxnSpPr>
            <a:stCxn id="1582" idx="2"/>
            <a:endCxn id="1687" idx="0"/>
          </p:cNvCxnSpPr>
          <p:nvPr/>
        </p:nvCxnSpPr>
        <p:spPr>
          <a:xfrm>
            <a:off x="1915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2" name=""/>
          <p:cNvCxnSpPr>
            <a:stCxn id="1583" idx="2"/>
            <a:endCxn id="1680" idx="0"/>
          </p:cNvCxnSpPr>
          <p:nvPr/>
        </p:nvCxnSpPr>
        <p:spPr>
          <a:xfrm>
            <a:off x="2525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3" name=""/>
          <p:cNvCxnSpPr>
            <a:stCxn id="1584" idx="2"/>
            <a:endCxn id="1681" idx="0"/>
          </p:cNvCxnSpPr>
          <p:nvPr/>
        </p:nvCxnSpPr>
        <p:spPr>
          <a:xfrm>
            <a:off x="3058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4" name=""/>
          <p:cNvCxnSpPr>
            <a:stCxn id="1585" idx="2"/>
            <a:endCxn id="1682" idx="0"/>
          </p:cNvCxnSpPr>
          <p:nvPr/>
        </p:nvCxnSpPr>
        <p:spPr>
          <a:xfrm>
            <a:off x="3668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5" name=""/>
          <p:cNvCxnSpPr>
            <a:stCxn id="1586" idx="2"/>
            <a:endCxn id="1683" idx="0"/>
          </p:cNvCxnSpPr>
          <p:nvPr/>
        </p:nvCxnSpPr>
        <p:spPr>
          <a:xfrm>
            <a:off x="427788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6" name=""/>
          <p:cNvCxnSpPr>
            <a:stCxn id="1587" idx="2"/>
            <a:endCxn id="1676" idx="0"/>
          </p:cNvCxnSpPr>
          <p:nvPr/>
        </p:nvCxnSpPr>
        <p:spPr>
          <a:xfrm>
            <a:off x="4811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7" name=""/>
          <p:cNvCxnSpPr>
            <a:stCxn id="1589" idx="2"/>
            <a:endCxn id="1677" idx="0"/>
          </p:cNvCxnSpPr>
          <p:nvPr/>
        </p:nvCxnSpPr>
        <p:spPr>
          <a:xfrm flipH="1">
            <a:off x="54478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8" name=""/>
          <p:cNvCxnSpPr>
            <a:stCxn id="1555" idx="4"/>
            <a:endCxn id="1678" idx="0"/>
          </p:cNvCxnSpPr>
          <p:nvPr/>
        </p:nvCxnSpPr>
        <p:spPr>
          <a:xfrm>
            <a:off x="605772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9" name=""/>
          <p:cNvCxnSpPr>
            <a:stCxn id="1590" idx="2"/>
            <a:endCxn id="1679" idx="0"/>
          </p:cNvCxnSpPr>
          <p:nvPr/>
        </p:nvCxnSpPr>
        <p:spPr>
          <a:xfrm flipH="1">
            <a:off x="6667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50" name=""/>
          <p:cNvCxnSpPr>
            <a:stCxn id="1591" idx="2"/>
            <a:endCxn id="1672" idx="0"/>
          </p:cNvCxnSpPr>
          <p:nvPr/>
        </p:nvCxnSpPr>
        <p:spPr>
          <a:xfrm flipH="1">
            <a:off x="7200360" y="214920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51" name=""/>
          <p:cNvCxnSpPr>
            <a:stCxn id="1593" idx="2"/>
            <a:endCxn id="1673" idx="0"/>
          </p:cNvCxnSpPr>
          <p:nvPr/>
        </p:nvCxnSpPr>
        <p:spPr>
          <a:xfrm flipH="1">
            <a:off x="7810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52" name=""/>
          <p:cNvCxnSpPr>
            <a:stCxn id="1592" idx="2"/>
            <a:endCxn id="1674" idx="0"/>
          </p:cNvCxnSpPr>
          <p:nvPr/>
        </p:nvCxnSpPr>
        <p:spPr>
          <a:xfrm flipH="1">
            <a:off x="84196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53" name=""/>
          <p:cNvCxnSpPr>
            <a:stCxn id="1594" idx="2"/>
            <a:endCxn id="1675" idx="0"/>
          </p:cNvCxnSpPr>
          <p:nvPr/>
        </p:nvCxnSpPr>
        <p:spPr>
          <a:xfrm>
            <a:off x="8947080" y="214920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54" name=""/>
          <p:cNvCxnSpPr>
            <a:stCxn id="1607" idx="4"/>
            <a:endCxn id="1684" idx="1"/>
          </p:cNvCxnSpPr>
          <p:nvPr/>
        </p:nvCxnSpPr>
        <p:spPr>
          <a:xfrm flipH="1">
            <a:off x="547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55" name=""/>
          <p:cNvCxnSpPr>
            <a:stCxn id="1627" idx="2"/>
          </p:cNvCxnSpPr>
          <p:nvPr/>
        </p:nvCxnSpPr>
        <p:spPr>
          <a:xfrm flipH="1">
            <a:off x="610920" y="3825720"/>
            <a:ext cx="86400" cy="268704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56" name=""/>
          <p:cNvCxnSpPr>
            <a:stCxn id="1626" idx="2"/>
            <a:endCxn id="1686" idx="1"/>
          </p:cNvCxnSpPr>
          <p:nvPr/>
        </p:nvCxnSpPr>
        <p:spPr>
          <a:xfrm flipH="1">
            <a:off x="119808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57" name=""/>
          <p:cNvCxnSpPr>
            <a:stCxn id="1628" idx="2"/>
            <a:endCxn id="1687" idx="1"/>
          </p:cNvCxnSpPr>
          <p:nvPr/>
        </p:nvCxnSpPr>
        <p:spPr>
          <a:xfrm flipH="1">
            <a:off x="1807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58" name=""/>
          <p:cNvCxnSpPr>
            <a:stCxn id="1629" idx="2"/>
            <a:endCxn id="1680" idx="1"/>
          </p:cNvCxnSpPr>
          <p:nvPr/>
        </p:nvCxnSpPr>
        <p:spPr>
          <a:xfrm flipH="1">
            <a:off x="2417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59" name=""/>
          <p:cNvCxnSpPr>
            <a:stCxn id="1630" idx="2"/>
            <a:endCxn id="1681" idx="1"/>
          </p:cNvCxnSpPr>
          <p:nvPr/>
        </p:nvCxnSpPr>
        <p:spPr>
          <a:xfrm flipH="1">
            <a:off x="2950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0" name=""/>
          <p:cNvCxnSpPr>
            <a:stCxn id="1631" idx="2"/>
            <a:endCxn id="1682" idx="1"/>
          </p:cNvCxnSpPr>
          <p:nvPr/>
        </p:nvCxnSpPr>
        <p:spPr>
          <a:xfrm flipH="1">
            <a:off x="3560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1" name=""/>
          <p:cNvCxnSpPr>
            <a:stCxn id="1606" idx="4"/>
            <a:endCxn id="1683" idx="1"/>
          </p:cNvCxnSpPr>
          <p:nvPr/>
        </p:nvCxnSpPr>
        <p:spPr>
          <a:xfrm flipH="1">
            <a:off x="41695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2" name=""/>
          <p:cNvCxnSpPr>
            <a:stCxn id="1633" idx="2"/>
            <a:endCxn id="1676" idx="1"/>
          </p:cNvCxnSpPr>
          <p:nvPr/>
        </p:nvCxnSpPr>
        <p:spPr>
          <a:xfrm flipH="1">
            <a:off x="4703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3" name=""/>
          <p:cNvCxnSpPr>
            <a:stCxn id="1635" idx="2"/>
            <a:endCxn id="1677" idx="1"/>
          </p:cNvCxnSpPr>
          <p:nvPr/>
        </p:nvCxnSpPr>
        <p:spPr>
          <a:xfrm flipH="1">
            <a:off x="53125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4" name=""/>
          <p:cNvCxnSpPr>
            <a:stCxn id="1634" idx="2"/>
            <a:endCxn id="1678" idx="1"/>
          </p:cNvCxnSpPr>
          <p:nvPr/>
        </p:nvCxnSpPr>
        <p:spPr>
          <a:xfrm flipH="1">
            <a:off x="5922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5" name=""/>
          <p:cNvCxnSpPr>
            <a:stCxn id="1636" idx="2"/>
            <a:endCxn id="1679" idx="1"/>
          </p:cNvCxnSpPr>
          <p:nvPr/>
        </p:nvCxnSpPr>
        <p:spPr>
          <a:xfrm flipH="1">
            <a:off x="653184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6" name=""/>
          <p:cNvCxnSpPr>
            <a:stCxn id="1637" idx="2"/>
            <a:endCxn id="1672" idx="1"/>
          </p:cNvCxnSpPr>
          <p:nvPr/>
        </p:nvCxnSpPr>
        <p:spPr>
          <a:xfrm flipH="1">
            <a:off x="7065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7" name=""/>
          <p:cNvCxnSpPr>
            <a:stCxn id="1596" idx="4"/>
            <a:endCxn id="1673" idx="1"/>
          </p:cNvCxnSpPr>
          <p:nvPr/>
        </p:nvCxnSpPr>
        <p:spPr>
          <a:xfrm flipH="1">
            <a:off x="767484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8" name=""/>
          <p:cNvCxnSpPr>
            <a:stCxn id="1638" idx="2"/>
            <a:endCxn id="1674" idx="1"/>
          </p:cNvCxnSpPr>
          <p:nvPr/>
        </p:nvCxnSpPr>
        <p:spPr>
          <a:xfrm flipH="1">
            <a:off x="82843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69" name=""/>
          <p:cNvCxnSpPr>
            <a:stCxn id="1640" idx="2"/>
            <a:endCxn id="1675" idx="1"/>
          </p:cNvCxnSpPr>
          <p:nvPr/>
        </p:nvCxnSpPr>
        <p:spPr>
          <a:xfrm flipH="1">
            <a:off x="8817840" y="382536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770" name=""/>
          <p:cNvCxnSpPr>
            <a:stCxn id="1653" idx="4"/>
            <a:endCxn id="1684" idx="7"/>
          </p:cNvCxnSpPr>
          <p:nvPr/>
        </p:nvCxnSpPr>
        <p:spPr>
          <a:xfrm>
            <a:off x="1900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71" name=""/>
          <p:cNvCxnSpPr>
            <a:stCxn id="1654" idx="4"/>
            <a:endCxn id="1685" idx="7"/>
          </p:cNvCxnSpPr>
          <p:nvPr/>
        </p:nvCxnSpPr>
        <p:spPr>
          <a:xfrm>
            <a:off x="7236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72" name=""/>
          <p:cNvCxnSpPr>
            <a:stCxn id="1703" idx="2"/>
            <a:endCxn id="1686" idx="7"/>
          </p:cNvCxnSpPr>
          <p:nvPr/>
        </p:nvCxnSpPr>
        <p:spPr>
          <a:xfrm>
            <a:off x="130644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73" name=""/>
          <p:cNvCxnSpPr>
            <a:stCxn id="1705" idx="2"/>
            <a:endCxn id="1687" idx="7"/>
          </p:cNvCxnSpPr>
          <p:nvPr/>
        </p:nvCxnSpPr>
        <p:spPr>
          <a:xfrm>
            <a:off x="1915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74" name=""/>
          <p:cNvCxnSpPr>
            <a:stCxn id="1706" idx="2"/>
            <a:endCxn id="1680" idx="7"/>
          </p:cNvCxnSpPr>
          <p:nvPr/>
        </p:nvCxnSpPr>
        <p:spPr>
          <a:xfrm>
            <a:off x="2525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75" name=""/>
          <p:cNvCxnSpPr>
            <a:stCxn id="1707" idx="2"/>
            <a:endCxn id="1681" idx="7"/>
          </p:cNvCxnSpPr>
          <p:nvPr/>
        </p:nvCxnSpPr>
        <p:spPr>
          <a:xfrm>
            <a:off x="3058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76" name=""/>
          <p:cNvCxnSpPr>
            <a:stCxn id="1708" idx="2"/>
            <a:endCxn id="1682" idx="7"/>
          </p:cNvCxnSpPr>
          <p:nvPr/>
        </p:nvCxnSpPr>
        <p:spPr>
          <a:xfrm>
            <a:off x="3668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77" name=""/>
          <p:cNvCxnSpPr>
            <a:stCxn id="1652" idx="4"/>
            <a:endCxn id="1683" idx="7"/>
          </p:cNvCxnSpPr>
          <p:nvPr/>
        </p:nvCxnSpPr>
        <p:spPr>
          <a:xfrm>
            <a:off x="4304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78" name=""/>
          <p:cNvCxnSpPr>
            <a:stCxn id="1645" idx="4"/>
            <a:endCxn id="1676" idx="7"/>
          </p:cNvCxnSpPr>
          <p:nvPr/>
        </p:nvCxnSpPr>
        <p:spPr>
          <a:xfrm>
            <a:off x="48384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79" name=""/>
          <p:cNvCxnSpPr>
            <a:stCxn id="1646" idx="4"/>
            <a:endCxn id="1677" idx="7"/>
          </p:cNvCxnSpPr>
          <p:nvPr/>
        </p:nvCxnSpPr>
        <p:spPr>
          <a:xfrm>
            <a:off x="5447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80" name=""/>
          <p:cNvCxnSpPr>
            <a:stCxn id="1711" idx="2"/>
            <a:endCxn id="1678" idx="7"/>
          </p:cNvCxnSpPr>
          <p:nvPr/>
        </p:nvCxnSpPr>
        <p:spPr>
          <a:xfrm>
            <a:off x="6071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81" name=""/>
          <p:cNvCxnSpPr>
            <a:stCxn id="1713" idx="2"/>
            <a:endCxn id="1679" idx="7"/>
          </p:cNvCxnSpPr>
          <p:nvPr/>
        </p:nvCxnSpPr>
        <p:spPr>
          <a:xfrm>
            <a:off x="6681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82" name=""/>
          <p:cNvCxnSpPr>
            <a:stCxn id="1714" idx="2"/>
            <a:endCxn id="1672" idx="7"/>
          </p:cNvCxnSpPr>
          <p:nvPr/>
        </p:nvCxnSpPr>
        <p:spPr>
          <a:xfrm>
            <a:off x="7214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83" name=""/>
          <p:cNvCxnSpPr>
            <a:stCxn id="1716" idx="2"/>
            <a:endCxn id="1673" idx="7"/>
          </p:cNvCxnSpPr>
          <p:nvPr/>
        </p:nvCxnSpPr>
        <p:spPr>
          <a:xfrm>
            <a:off x="7824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84" name=""/>
          <p:cNvCxnSpPr>
            <a:stCxn id="1715" idx="2"/>
            <a:endCxn id="1674" idx="7"/>
          </p:cNvCxnSpPr>
          <p:nvPr/>
        </p:nvCxnSpPr>
        <p:spPr>
          <a:xfrm>
            <a:off x="843408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785" name=""/>
          <p:cNvCxnSpPr>
            <a:stCxn id="1717" idx="2"/>
            <a:endCxn id="1675" idx="7"/>
          </p:cNvCxnSpPr>
          <p:nvPr/>
        </p:nvCxnSpPr>
        <p:spPr>
          <a:xfrm>
            <a:off x="8967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/>
          <p:nvPr/>
        </p:nvSpPr>
        <p:spPr>
          <a:xfrm>
            <a:off x="7010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620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2296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763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648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867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362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895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505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114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335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1430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752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2" name=""/>
          <p:cNvCxnSpPr>
            <a:stCxn id="1798" idx="6"/>
            <a:endCxn id="1799" idx="2"/>
          </p:cNvCxnSpPr>
          <p:nvPr/>
        </p:nvCxnSpPr>
        <p:spPr>
          <a:xfrm>
            <a:off x="3808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03" name=""/>
          <p:cNvCxnSpPr>
            <a:stCxn id="1799" idx="6"/>
            <a:endCxn id="1800" idx="2"/>
          </p:cNvCxnSpPr>
          <p:nvPr/>
        </p:nvCxnSpPr>
        <p:spPr>
          <a:xfrm>
            <a:off x="9140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04" name=""/>
          <p:cNvCxnSpPr>
            <a:stCxn id="1800" idx="6"/>
            <a:endCxn id="1801" idx="2"/>
          </p:cNvCxnSpPr>
          <p:nvPr/>
        </p:nvCxnSpPr>
        <p:spPr>
          <a:xfrm>
            <a:off x="15235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05" name=""/>
          <p:cNvCxnSpPr>
            <a:stCxn id="1801" idx="6"/>
            <a:endCxn id="1794" idx="2"/>
          </p:cNvCxnSpPr>
          <p:nvPr/>
        </p:nvCxnSpPr>
        <p:spPr>
          <a:xfrm>
            <a:off x="2133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06" name=""/>
          <p:cNvCxnSpPr>
            <a:stCxn id="1794" idx="6"/>
            <a:endCxn id="1795" idx="2"/>
          </p:cNvCxnSpPr>
          <p:nvPr/>
        </p:nvCxnSpPr>
        <p:spPr>
          <a:xfrm>
            <a:off x="27428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07" name=""/>
          <p:cNvCxnSpPr>
            <a:stCxn id="1795" idx="6"/>
            <a:endCxn id="1796" idx="2"/>
          </p:cNvCxnSpPr>
          <p:nvPr/>
        </p:nvCxnSpPr>
        <p:spPr>
          <a:xfrm>
            <a:off x="3276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08" name=""/>
          <p:cNvCxnSpPr>
            <a:stCxn id="1796" idx="6"/>
            <a:endCxn id="1797" idx="2"/>
          </p:cNvCxnSpPr>
          <p:nvPr/>
        </p:nvCxnSpPr>
        <p:spPr>
          <a:xfrm>
            <a:off x="3885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09" name=""/>
          <p:cNvCxnSpPr>
            <a:stCxn id="1797" idx="6"/>
            <a:endCxn id="1790" idx="2"/>
          </p:cNvCxnSpPr>
          <p:nvPr/>
        </p:nvCxnSpPr>
        <p:spPr>
          <a:xfrm>
            <a:off x="44956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0" name=""/>
          <p:cNvCxnSpPr>
            <a:stCxn id="1790" idx="6"/>
            <a:endCxn id="1791" idx="2"/>
          </p:cNvCxnSpPr>
          <p:nvPr/>
        </p:nvCxnSpPr>
        <p:spPr>
          <a:xfrm>
            <a:off x="5028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1" name=""/>
          <p:cNvCxnSpPr>
            <a:stCxn id="1791" idx="6"/>
            <a:endCxn id="1792" idx="2"/>
          </p:cNvCxnSpPr>
          <p:nvPr/>
        </p:nvCxnSpPr>
        <p:spPr>
          <a:xfrm>
            <a:off x="56383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2" name=""/>
          <p:cNvCxnSpPr>
            <a:stCxn id="1792" idx="6"/>
            <a:endCxn id="1793" idx="2"/>
          </p:cNvCxnSpPr>
          <p:nvPr/>
        </p:nvCxnSpPr>
        <p:spPr>
          <a:xfrm>
            <a:off x="6248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3" name=""/>
          <p:cNvCxnSpPr>
            <a:stCxn id="1793" idx="6"/>
            <a:endCxn id="1786" idx="2"/>
          </p:cNvCxnSpPr>
          <p:nvPr/>
        </p:nvCxnSpPr>
        <p:spPr>
          <a:xfrm>
            <a:off x="68576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4" name=""/>
          <p:cNvCxnSpPr>
            <a:stCxn id="1786" idx="6"/>
            <a:endCxn id="1787" idx="2"/>
          </p:cNvCxnSpPr>
          <p:nvPr/>
        </p:nvCxnSpPr>
        <p:spPr>
          <a:xfrm>
            <a:off x="7391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5" name=""/>
          <p:cNvCxnSpPr>
            <a:stCxn id="1787" idx="6"/>
            <a:endCxn id="1788" idx="2"/>
          </p:cNvCxnSpPr>
          <p:nvPr/>
        </p:nvCxnSpPr>
        <p:spPr>
          <a:xfrm>
            <a:off x="80006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16" name=""/>
          <p:cNvCxnSpPr>
            <a:stCxn id="1788" idx="6"/>
            <a:endCxn id="1789" idx="2"/>
          </p:cNvCxnSpPr>
          <p:nvPr/>
        </p:nvCxnSpPr>
        <p:spPr>
          <a:xfrm>
            <a:off x="86104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17" name=""/>
          <p:cNvSpPr/>
          <p:nvPr/>
        </p:nvSpPr>
        <p:spPr>
          <a:xfrm>
            <a:off x="10713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615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680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290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823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433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0431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576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799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1897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409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942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161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552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674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7010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7620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82296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763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648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257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477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362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895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505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1430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752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8" name=""/>
          <p:cNvCxnSpPr>
            <a:stCxn id="1844" idx="6"/>
            <a:endCxn id="1845" idx="2"/>
          </p:cNvCxnSpPr>
          <p:nvPr/>
        </p:nvCxnSpPr>
        <p:spPr>
          <a:xfrm>
            <a:off x="3808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49" name=""/>
          <p:cNvCxnSpPr>
            <a:stCxn id="1845" idx="6"/>
            <a:endCxn id="1846" idx="2"/>
          </p:cNvCxnSpPr>
          <p:nvPr/>
        </p:nvCxnSpPr>
        <p:spPr>
          <a:xfrm>
            <a:off x="9140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0" name=""/>
          <p:cNvCxnSpPr>
            <a:stCxn id="1846" idx="6"/>
            <a:endCxn id="1847" idx="2"/>
          </p:cNvCxnSpPr>
          <p:nvPr/>
        </p:nvCxnSpPr>
        <p:spPr>
          <a:xfrm>
            <a:off x="15235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1" name=""/>
          <p:cNvCxnSpPr>
            <a:stCxn id="1847" idx="6"/>
            <a:endCxn id="1840" idx="2"/>
          </p:cNvCxnSpPr>
          <p:nvPr/>
        </p:nvCxnSpPr>
        <p:spPr>
          <a:xfrm>
            <a:off x="2133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2" name=""/>
          <p:cNvCxnSpPr>
            <a:stCxn id="1840" idx="6"/>
            <a:endCxn id="1841" idx="2"/>
          </p:cNvCxnSpPr>
          <p:nvPr/>
        </p:nvCxnSpPr>
        <p:spPr>
          <a:xfrm>
            <a:off x="27428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3" name=""/>
          <p:cNvCxnSpPr>
            <a:stCxn id="1841" idx="6"/>
            <a:endCxn id="1842" idx="2"/>
          </p:cNvCxnSpPr>
          <p:nvPr/>
        </p:nvCxnSpPr>
        <p:spPr>
          <a:xfrm>
            <a:off x="3276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4" name=""/>
          <p:cNvCxnSpPr>
            <a:stCxn id="1842" idx="6"/>
            <a:endCxn id="1843" idx="2"/>
          </p:cNvCxnSpPr>
          <p:nvPr/>
        </p:nvCxnSpPr>
        <p:spPr>
          <a:xfrm>
            <a:off x="3885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5" name=""/>
          <p:cNvCxnSpPr>
            <a:stCxn id="1843" idx="6"/>
            <a:endCxn id="1836" idx="2"/>
          </p:cNvCxnSpPr>
          <p:nvPr/>
        </p:nvCxnSpPr>
        <p:spPr>
          <a:xfrm>
            <a:off x="44956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6" name=""/>
          <p:cNvCxnSpPr>
            <a:stCxn id="1836" idx="6"/>
            <a:endCxn id="1837" idx="2"/>
          </p:cNvCxnSpPr>
          <p:nvPr/>
        </p:nvCxnSpPr>
        <p:spPr>
          <a:xfrm>
            <a:off x="5028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7" name=""/>
          <p:cNvCxnSpPr>
            <a:stCxn id="1837" idx="6"/>
            <a:endCxn id="1838" idx="2"/>
          </p:cNvCxnSpPr>
          <p:nvPr/>
        </p:nvCxnSpPr>
        <p:spPr>
          <a:xfrm>
            <a:off x="56383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8" name=""/>
          <p:cNvCxnSpPr>
            <a:stCxn id="1838" idx="6"/>
            <a:endCxn id="1839" idx="2"/>
          </p:cNvCxnSpPr>
          <p:nvPr/>
        </p:nvCxnSpPr>
        <p:spPr>
          <a:xfrm>
            <a:off x="6248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59" name=""/>
          <p:cNvCxnSpPr>
            <a:stCxn id="1839" idx="6"/>
            <a:endCxn id="1832" idx="2"/>
          </p:cNvCxnSpPr>
          <p:nvPr/>
        </p:nvCxnSpPr>
        <p:spPr>
          <a:xfrm>
            <a:off x="68576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60" name=""/>
          <p:cNvCxnSpPr>
            <a:stCxn id="1832" idx="6"/>
            <a:endCxn id="1833" idx="2"/>
          </p:cNvCxnSpPr>
          <p:nvPr/>
        </p:nvCxnSpPr>
        <p:spPr>
          <a:xfrm>
            <a:off x="7391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61" name=""/>
          <p:cNvCxnSpPr>
            <a:stCxn id="1833" idx="6"/>
            <a:endCxn id="1834" idx="2"/>
          </p:cNvCxnSpPr>
          <p:nvPr/>
        </p:nvCxnSpPr>
        <p:spPr>
          <a:xfrm>
            <a:off x="80006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862" name=""/>
          <p:cNvCxnSpPr>
            <a:stCxn id="1834" idx="6"/>
            <a:endCxn id="1835" idx="2"/>
          </p:cNvCxnSpPr>
          <p:nvPr/>
        </p:nvCxnSpPr>
        <p:spPr>
          <a:xfrm>
            <a:off x="86104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1863" name=""/>
          <p:cNvSpPr/>
          <p:nvPr/>
        </p:nvSpPr>
        <p:spPr>
          <a:xfrm>
            <a:off x="10713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615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680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290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823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433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0431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576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799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1897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409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942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161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552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674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7620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2296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8763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648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257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867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477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362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895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505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114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752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4" name=""/>
          <p:cNvCxnSpPr>
            <a:stCxn id="1890" idx="6"/>
            <a:endCxn id="1891" idx="2"/>
          </p:cNvCxnSpPr>
          <p:nvPr/>
        </p:nvCxnSpPr>
        <p:spPr>
          <a:xfrm>
            <a:off x="3808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895" name=""/>
          <p:cNvCxnSpPr>
            <a:stCxn id="1891" idx="6"/>
            <a:endCxn id="1892" idx="2"/>
          </p:cNvCxnSpPr>
          <p:nvPr/>
        </p:nvCxnSpPr>
        <p:spPr>
          <a:xfrm>
            <a:off x="9140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896" name=""/>
          <p:cNvCxnSpPr>
            <a:stCxn id="1892" idx="6"/>
            <a:endCxn id="1893" idx="2"/>
          </p:cNvCxnSpPr>
          <p:nvPr/>
        </p:nvCxnSpPr>
        <p:spPr>
          <a:xfrm>
            <a:off x="15235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897" name=""/>
          <p:cNvCxnSpPr>
            <a:stCxn id="1893" idx="6"/>
            <a:endCxn id="1886" idx="2"/>
          </p:cNvCxnSpPr>
          <p:nvPr/>
        </p:nvCxnSpPr>
        <p:spPr>
          <a:xfrm>
            <a:off x="2133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898" name=""/>
          <p:cNvCxnSpPr>
            <a:stCxn id="1886" idx="6"/>
            <a:endCxn id="1887" idx="2"/>
          </p:cNvCxnSpPr>
          <p:nvPr/>
        </p:nvCxnSpPr>
        <p:spPr>
          <a:xfrm>
            <a:off x="27428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899" name=""/>
          <p:cNvCxnSpPr>
            <a:stCxn id="1887" idx="6"/>
            <a:endCxn id="1888" idx="2"/>
          </p:cNvCxnSpPr>
          <p:nvPr/>
        </p:nvCxnSpPr>
        <p:spPr>
          <a:xfrm>
            <a:off x="3276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900" name=""/>
          <p:cNvCxnSpPr>
            <a:stCxn id="1888" idx="6"/>
            <a:endCxn id="1889" idx="2"/>
          </p:cNvCxnSpPr>
          <p:nvPr/>
        </p:nvCxnSpPr>
        <p:spPr>
          <a:xfrm>
            <a:off x="3885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901" name=""/>
          <p:cNvCxnSpPr>
            <a:stCxn id="1889" idx="6"/>
            <a:endCxn id="1882" idx="2"/>
          </p:cNvCxnSpPr>
          <p:nvPr/>
        </p:nvCxnSpPr>
        <p:spPr>
          <a:xfrm>
            <a:off x="44956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902" name=""/>
          <p:cNvCxnSpPr>
            <a:stCxn id="1882" idx="6"/>
            <a:endCxn id="1883" idx="2"/>
          </p:cNvCxnSpPr>
          <p:nvPr/>
        </p:nvCxnSpPr>
        <p:spPr>
          <a:xfrm>
            <a:off x="5028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903" name=""/>
          <p:cNvCxnSpPr>
            <a:stCxn id="1883" idx="6"/>
            <a:endCxn id="1884" idx="2"/>
          </p:cNvCxnSpPr>
          <p:nvPr/>
        </p:nvCxnSpPr>
        <p:spPr>
          <a:xfrm>
            <a:off x="56383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904" name=""/>
          <p:cNvCxnSpPr>
            <a:stCxn id="1884" idx="6"/>
            <a:endCxn id="1885" idx="2"/>
          </p:cNvCxnSpPr>
          <p:nvPr/>
        </p:nvCxnSpPr>
        <p:spPr>
          <a:xfrm>
            <a:off x="6248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905" name=""/>
          <p:cNvCxnSpPr>
            <a:stCxn id="1885" idx="6"/>
            <a:endCxn id="1878" idx="2"/>
          </p:cNvCxnSpPr>
          <p:nvPr/>
        </p:nvCxnSpPr>
        <p:spPr>
          <a:xfrm>
            <a:off x="68576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906" name=""/>
          <p:cNvCxnSpPr>
            <a:stCxn id="1878" idx="6"/>
            <a:endCxn id="1879" idx="2"/>
          </p:cNvCxnSpPr>
          <p:nvPr/>
        </p:nvCxnSpPr>
        <p:spPr>
          <a:xfrm>
            <a:off x="7391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907" name=""/>
          <p:cNvCxnSpPr>
            <a:stCxn id="1879" idx="6"/>
            <a:endCxn id="1880" idx="2"/>
          </p:cNvCxnSpPr>
          <p:nvPr/>
        </p:nvCxnSpPr>
        <p:spPr>
          <a:xfrm>
            <a:off x="80006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908" name=""/>
          <p:cNvCxnSpPr>
            <a:stCxn id="1880" idx="6"/>
            <a:endCxn id="1881" idx="2"/>
          </p:cNvCxnSpPr>
          <p:nvPr/>
        </p:nvCxnSpPr>
        <p:spPr>
          <a:xfrm>
            <a:off x="86104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1909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5" name=""/>
          <p:cNvCxnSpPr>
            <a:stCxn id="1921" idx="6"/>
            <a:endCxn id="1922" idx="2"/>
          </p:cNvCxnSpPr>
          <p:nvPr/>
        </p:nvCxnSpPr>
        <p:spPr>
          <a:xfrm>
            <a:off x="3808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26" name=""/>
          <p:cNvCxnSpPr>
            <a:stCxn id="1922" idx="6"/>
            <a:endCxn id="1923" idx="2"/>
          </p:cNvCxnSpPr>
          <p:nvPr/>
        </p:nvCxnSpPr>
        <p:spPr>
          <a:xfrm>
            <a:off x="9140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27" name=""/>
          <p:cNvCxnSpPr>
            <a:stCxn id="1923" idx="6"/>
            <a:endCxn id="1924" idx="2"/>
          </p:cNvCxnSpPr>
          <p:nvPr/>
        </p:nvCxnSpPr>
        <p:spPr>
          <a:xfrm>
            <a:off x="15235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28" name=""/>
          <p:cNvCxnSpPr>
            <a:stCxn id="1924" idx="6"/>
            <a:endCxn id="1917" idx="2"/>
          </p:cNvCxnSpPr>
          <p:nvPr/>
        </p:nvCxnSpPr>
        <p:spPr>
          <a:xfrm>
            <a:off x="2133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29" name=""/>
          <p:cNvCxnSpPr>
            <a:stCxn id="1917" idx="6"/>
            <a:endCxn id="1918" idx="2"/>
          </p:cNvCxnSpPr>
          <p:nvPr/>
        </p:nvCxnSpPr>
        <p:spPr>
          <a:xfrm>
            <a:off x="27428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0" name=""/>
          <p:cNvCxnSpPr>
            <a:stCxn id="1918" idx="6"/>
            <a:endCxn id="1919" idx="2"/>
          </p:cNvCxnSpPr>
          <p:nvPr/>
        </p:nvCxnSpPr>
        <p:spPr>
          <a:xfrm>
            <a:off x="3276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1" name=""/>
          <p:cNvCxnSpPr>
            <a:stCxn id="1919" idx="6"/>
            <a:endCxn id="1920" idx="2"/>
          </p:cNvCxnSpPr>
          <p:nvPr/>
        </p:nvCxnSpPr>
        <p:spPr>
          <a:xfrm>
            <a:off x="3885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2" name=""/>
          <p:cNvCxnSpPr>
            <a:stCxn id="1920" idx="6"/>
            <a:endCxn id="1913" idx="2"/>
          </p:cNvCxnSpPr>
          <p:nvPr/>
        </p:nvCxnSpPr>
        <p:spPr>
          <a:xfrm>
            <a:off x="44956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3" name=""/>
          <p:cNvCxnSpPr>
            <a:stCxn id="1913" idx="6"/>
            <a:endCxn id="1914" idx="2"/>
          </p:cNvCxnSpPr>
          <p:nvPr/>
        </p:nvCxnSpPr>
        <p:spPr>
          <a:xfrm>
            <a:off x="5028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4" name=""/>
          <p:cNvCxnSpPr>
            <a:stCxn id="1914" idx="6"/>
            <a:endCxn id="1915" idx="2"/>
          </p:cNvCxnSpPr>
          <p:nvPr/>
        </p:nvCxnSpPr>
        <p:spPr>
          <a:xfrm>
            <a:off x="56383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5" name=""/>
          <p:cNvCxnSpPr>
            <a:stCxn id="1915" idx="6"/>
            <a:endCxn id="1916" idx="2"/>
          </p:cNvCxnSpPr>
          <p:nvPr/>
        </p:nvCxnSpPr>
        <p:spPr>
          <a:xfrm>
            <a:off x="6248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6" name=""/>
          <p:cNvCxnSpPr>
            <a:stCxn id="1916" idx="6"/>
            <a:endCxn id="1909" idx="2"/>
          </p:cNvCxnSpPr>
          <p:nvPr/>
        </p:nvCxnSpPr>
        <p:spPr>
          <a:xfrm>
            <a:off x="68576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7" name=""/>
          <p:cNvCxnSpPr>
            <a:stCxn id="1909" idx="6"/>
            <a:endCxn id="1910" idx="2"/>
          </p:cNvCxnSpPr>
          <p:nvPr/>
        </p:nvCxnSpPr>
        <p:spPr>
          <a:xfrm>
            <a:off x="7391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8" name=""/>
          <p:cNvCxnSpPr>
            <a:stCxn id="1910" idx="6"/>
            <a:endCxn id="1911" idx="2"/>
          </p:cNvCxnSpPr>
          <p:nvPr/>
        </p:nvCxnSpPr>
        <p:spPr>
          <a:xfrm>
            <a:off x="80006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9" name=""/>
          <p:cNvCxnSpPr>
            <a:stCxn id="1911" idx="6"/>
            <a:endCxn id="1912" idx="2"/>
          </p:cNvCxnSpPr>
          <p:nvPr/>
        </p:nvCxnSpPr>
        <p:spPr>
          <a:xfrm>
            <a:off x="86104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940" name=""/>
          <p:cNvSpPr/>
          <p:nvPr/>
        </p:nvSpPr>
        <p:spPr>
          <a:xfrm>
            <a:off x="10713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615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680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290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23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433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0431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576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799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1897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409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942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81615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552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8695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505320" y="76212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105520" y="762120"/>
            <a:ext cx="38088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030280" y="762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430080" y="762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200400" y="25909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562720" y="2590920"/>
            <a:ext cx="380880" cy="3808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487480" y="2590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125520" y="259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733920" y="41911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952880" y="4191120"/>
            <a:ext cx="38124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878000" y="4191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658680" y="419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9" name=""/>
          <p:cNvCxnSpPr>
            <a:stCxn id="1956" idx="1"/>
            <a:endCxn id="1960" idx="0"/>
          </p:cNvCxnSpPr>
          <p:nvPr/>
        </p:nvCxnSpPr>
        <p:spPr>
          <a:xfrm flipH="1">
            <a:off x="3661920" y="198360"/>
            <a:ext cx="529200" cy="5644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970" name=""/>
          <p:cNvCxnSpPr>
            <a:stCxn id="1956" idx="3"/>
            <a:endCxn id="1959" idx="0"/>
          </p:cNvCxnSpPr>
          <p:nvPr/>
        </p:nvCxnSpPr>
        <p:spPr>
          <a:xfrm>
            <a:off x="4544640" y="198360"/>
            <a:ext cx="732600" cy="5644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971" name=""/>
          <p:cNvCxnSpPr>
            <a:stCxn id="1956" idx="2"/>
            <a:endCxn id="1964" idx="0"/>
          </p:cNvCxnSpPr>
          <p:nvPr/>
        </p:nvCxnSpPr>
        <p:spPr>
          <a:xfrm flipH="1">
            <a:off x="3357000" y="396360"/>
            <a:ext cx="1011960" cy="21949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972" name=""/>
          <p:cNvCxnSpPr>
            <a:stCxn id="1956" idx="2"/>
            <a:endCxn id="1963" idx="0"/>
          </p:cNvCxnSpPr>
          <p:nvPr/>
        </p:nvCxnSpPr>
        <p:spPr>
          <a:xfrm>
            <a:off x="4368960" y="396360"/>
            <a:ext cx="1365840" cy="21949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973" name=""/>
          <p:cNvCxnSpPr>
            <a:stCxn id="1956" idx="2"/>
            <a:endCxn id="1968" idx="0"/>
          </p:cNvCxnSpPr>
          <p:nvPr/>
        </p:nvCxnSpPr>
        <p:spPr>
          <a:xfrm flipH="1">
            <a:off x="3890520" y="396720"/>
            <a:ext cx="478800" cy="37951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974" name=""/>
          <p:cNvCxnSpPr>
            <a:stCxn id="1956" idx="2"/>
            <a:endCxn id="1967" idx="0"/>
          </p:cNvCxnSpPr>
          <p:nvPr/>
        </p:nvCxnSpPr>
        <p:spPr>
          <a:xfrm>
            <a:off x="4368600" y="396720"/>
            <a:ext cx="756360" cy="37951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975" name=""/>
          <p:cNvCxnSpPr>
            <a:stCxn id="1798" idx="4"/>
          </p:cNvCxnSpPr>
          <p:nvPr/>
        </p:nvCxnSpPr>
        <p:spPr>
          <a:xfrm>
            <a:off x="190440" y="213336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76" name=""/>
          <p:cNvCxnSpPr>
            <a:stCxn id="1818" idx="2"/>
            <a:endCxn id="1922" idx="0"/>
          </p:cNvCxnSpPr>
          <p:nvPr/>
        </p:nvCxnSpPr>
        <p:spPr>
          <a:xfrm>
            <a:off x="6966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77" name=""/>
          <p:cNvCxnSpPr>
            <a:stCxn id="1800" idx="4"/>
            <a:endCxn id="1923" idx="0"/>
          </p:cNvCxnSpPr>
          <p:nvPr/>
        </p:nvCxnSpPr>
        <p:spPr>
          <a:xfrm>
            <a:off x="133308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78" name=""/>
          <p:cNvCxnSpPr>
            <a:stCxn id="1819" idx="2"/>
            <a:endCxn id="1924" idx="0"/>
          </p:cNvCxnSpPr>
          <p:nvPr/>
        </p:nvCxnSpPr>
        <p:spPr>
          <a:xfrm>
            <a:off x="1915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79" name=""/>
          <p:cNvCxnSpPr>
            <a:stCxn id="1820" idx="2"/>
            <a:endCxn id="1917" idx="0"/>
          </p:cNvCxnSpPr>
          <p:nvPr/>
        </p:nvCxnSpPr>
        <p:spPr>
          <a:xfrm>
            <a:off x="2525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0" name=""/>
          <p:cNvCxnSpPr>
            <a:stCxn id="1821" idx="2"/>
            <a:endCxn id="1918" idx="0"/>
          </p:cNvCxnSpPr>
          <p:nvPr/>
        </p:nvCxnSpPr>
        <p:spPr>
          <a:xfrm>
            <a:off x="3058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1" name=""/>
          <p:cNvCxnSpPr>
            <a:stCxn id="1822" idx="2"/>
            <a:endCxn id="1919" idx="0"/>
          </p:cNvCxnSpPr>
          <p:nvPr/>
        </p:nvCxnSpPr>
        <p:spPr>
          <a:xfrm>
            <a:off x="3668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2" name=""/>
          <p:cNvCxnSpPr>
            <a:stCxn id="1823" idx="2"/>
            <a:endCxn id="1920" idx="0"/>
          </p:cNvCxnSpPr>
          <p:nvPr/>
        </p:nvCxnSpPr>
        <p:spPr>
          <a:xfrm>
            <a:off x="427788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3" name=""/>
          <p:cNvCxnSpPr>
            <a:stCxn id="1824" idx="2"/>
            <a:endCxn id="1913" idx="0"/>
          </p:cNvCxnSpPr>
          <p:nvPr/>
        </p:nvCxnSpPr>
        <p:spPr>
          <a:xfrm>
            <a:off x="4811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4" name=""/>
          <p:cNvCxnSpPr>
            <a:stCxn id="1826" idx="2"/>
            <a:endCxn id="1914" idx="0"/>
          </p:cNvCxnSpPr>
          <p:nvPr/>
        </p:nvCxnSpPr>
        <p:spPr>
          <a:xfrm flipH="1">
            <a:off x="54478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5" name=""/>
          <p:cNvCxnSpPr>
            <a:stCxn id="1792" idx="4"/>
            <a:endCxn id="1915" idx="0"/>
          </p:cNvCxnSpPr>
          <p:nvPr/>
        </p:nvCxnSpPr>
        <p:spPr>
          <a:xfrm>
            <a:off x="605772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6" name=""/>
          <p:cNvCxnSpPr>
            <a:stCxn id="1827" idx="2"/>
            <a:endCxn id="1916" idx="0"/>
          </p:cNvCxnSpPr>
          <p:nvPr/>
        </p:nvCxnSpPr>
        <p:spPr>
          <a:xfrm flipH="1">
            <a:off x="6667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7" name=""/>
          <p:cNvCxnSpPr>
            <a:stCxn id="1828" idx="2"/>
            <a:endCxn id="1909" idx="0"/>
          </p:cNvCxnSpPr>
          <p:nvPr/>
        </p:nvCxnSpPr>
        <p:spPr>
          <a:xfrm flipH="1">
            <a:off x="7200360" y="214920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8" name=""/>
          <p:cNvCxnSpPr>
            <a:stCxn id="1830" idx="2"/>
            <a:endCxn id="1910" idx="0"/>
          </p:cNvCxnSpPr>
          <p:nvPr/>
        </p:nvCxnSpPr>
        <p:spPr>
          <a:xfrm flipH="1">
            <a:off x="7810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9" name=""/>
          <p:cNvCxnSpPr>
            <a:stCxn id="1829" idx="2"/>
            <a:endCxn id="1911" idx="0"/>
          </p:cNvCxnSpPr>
          <p:nvPr/>
        </p:nvCxnSpPr>
        <p:spPr>
          <a:xfrm flipH="1">
            <a:off x="84196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90" name=""/>
          <p:cNvCxnSpPr>
            <a:stCxn id="1831" idx="2"/>
            <a:endCxn id="1912" idx="0"/>
          </p:cNvCxnSpPr>
          <p:nvPr/>
        </p:nvCxnSpPr>
        <p:spPr>
          <a:xfrm>
            <a:off x="8947080" y="214920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91" name=""/>
          <p:cNvCxnSpPr>
            <a:stCxn id="1844" idx="4"/>
            <a:endCxn id="1921" idx="1"/>
          </p:cNvCxnSpPr>
          <p:nvPr/>
        </p:nvCxnSpPr>
        <p:spPr>
          <a:xfrm flipH="1">
            <a:off x="547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92" name=""/>
          <p:cNvCxnSpPr>
            <a:stCxn id="1864" idx="2"/>
          </p:cNvCxnSpPr>
          <p:nvPr/>
        </p:nvCxnSpPr>
        <p:spPr>
          <a:xfrm flipH="1">
            <a:off x="610920" y="3825720"/>
            <a:ext cx="86400" cy="268704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93" name=""/>
          <p:cNvCxnSpPr>
            <a:stCxn id="1863" idx="2"/>
            <a:endCxn id="1923" idx="1"/>
          </p:cNvCxnSpPr>
          <p:nvPr/>
        </p:nvCxnSpPr>
        <p:spPr>
          <a:xfrm flipH="1">
            <a:off x="119808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94" name=""/>
          <p:cNvCxnSpPr>
            <a:stCxn id="1865" idx="2"/>
            <a:endCxn id="1924" idx="1"/>
          </p:cNvCxnSpPr>
          <p:nvPr/>
        </p:nvCxnSpPr>
        <p:spPr>
          <a:xfrm flipH="1">
            <a:off x="1807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95" name=""/>
          <p:cNvCxnSpPr>
            <a:stCxn id="1866" idx="2"/>
            <a:endCxn id="1917" idx="1"/>
          </p:cNvCxnSpPr>
          <p:nvPr/>
        </p:nvCxnSpPr>
        <p:spPr>
          <a:xfrm flipH="1">
            <a:off x="2417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96" name=""/>
          <p:cNvCxnSpPr>
            <a:stCxn id="1867" idx="2"/>
            <a:endCxn id="1918" idx="1"/>
          </p:cNvCxnSpPr>
          <p:nvPr/>
        </p:nvCxnSpPr>
        <p:spPr>
          <a:xfrm flipH="1">
            <a:off x="2950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97" name=""/>
          <p:cNvCxnSpPr>
            <a:stCxn id="1868" idx="2"/>
            <a:endCxn id="1919" idx="1"/>
          </p:cNvCxnSpPr>
          <p:nvPr/>
        </p:nvCxnSpPr>
        <p:spPr>
          <a:xfrm flipH="1">
            <a:off x="3560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98" name=""/>
          <p:cNvCxnSpPr>
            <a:stCxn id="1843" idx="4"/>
            <a:endCxn id="1920" idx="1"/>
          </p:cNvCxnSpPr>
          <p:nvPr/>
        </p:nvCxnSpPr>
        <p:spPr>
          <a:xfrm flipH="1">
            <a:off x="41695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1999" name=""/>
          <p:cNvCxnSpPr>
            <a:stCxn id="1870" idx="2"/>
            <a:endCxn id="1913" idx="1"/>
          </p:cNvCxnSpPr>
          <p:nvPr/>
        </p:nvCxnSpPr>
        <p:spPr>
          <a:xfrm flipH="1">
            <a:off x="4703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000" name=""/>
          <p:cNvCxnSpPr>
            <a:stCxn id="1872" idx="2"/>
            <a:endCxn id="1914" idx="1"/>
          </p:cNvCxnSpPr>
          <p:nvPr/>
        </p:nvCxnSpPr>
        <p:spPr>
          <a:xfrm flipH="1">
            <a:off x="53125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001" name=""/>
          <p:cNvCxnSpPr>
            <a:stCxn id="1871" idx="2"/>
            <a:endCxn id="1915" idx="1"/>
          </p:cNvCxnSpPr>
          <p:nvPr/>
        </p:nvCxnSpPr>
        <p:spPr>
          <a:xfrm flipH="1">
            <a:off x="5922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002" name=""/>
          <p:cNvCxnSpPr>
            <a:stCxn id="1873" idx="2"/>
            <a:endCxn id="1916" idx="1"/>
          </p:cNvCxnSpPr>
          <p:nvPr/>
        </p:nvCxnSpPr>
        <p:spPr>
          <a:xfrm flipH="1">
            <a:off x="653184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003" name=""/>
          <p:cNvCxnSpPr>
            <a:stCxn id="1874" idx="2"/>
            <a:endCxn id="1909" idx="1"/>
          </p:cNvCxnSpPr>
          <p:nvPr/>
        </p:nvCxnSpPr>
        <p:spPr>
          <a:xfrm flipH="1">
            <a:off x="7065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004" name=""/>
          <p:cNvCxnSpPr>
            <a:stCxn id="1833" idx="4"/>
            <a:endCxn id="1910" idx="1"/>
          </p:cNvCxnSpPr>
          <p:nvPr/>
        </p:nvCxnSpPr>
        <p:spPr>
          <a:xfrm flipH="1">
            <a:off x="767484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005" name=""/>
          <p:cNvCxnSpPr>
            <a:stCxn id="1875" idx="2"/>
            <a:endCxn id="1911" idx="1"/>
          </p:cNvCxnSpPr>
          <p:nvPr/>
        </p:nvCxnSpPr>
        <p:spPr>
          <a:xfrm flipH="1">
            <a:off x="82843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006" name=""/>
          <p:cNvCxnSpPr>
            <a:stCxn id="1877" idx="2"/>
            <a:endCxn id="1912" idx="1"/>
          </p:cNvCxnSpPr>
          <p:nvPr/>
        </p:nvCxnSpPr>
        <p:spPr>
          <a:xfrm flipH="1">
            <a:off x="8817840" y="382536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890" idx="4"/>
            <a:endCxn id="1921" idx="7"/>
          </p:cNvCxnSpPr>
          <p:nvPr/>
        </p:nvCxnSpPr>
        <p:spPr>
          <a:xfrm>
            <a:off x="1900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891" idx="4"/>
            <a:endCxn id="1922" idx="7"/>
          </p:cNvCxnSpPr>
          <p:nvPr/>
        </p:nvCxnSpPr>
        <p:spPr>
          <a:xfrm>
            <a:off x="7236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40" idx="2"/>
            <a:endCxn id="1923" idx="7"/>
          </p:cNvCxnSpPr>
          <p:nvPr/>
        </p:nvCxnSpPr>
        <p:spPr>
          <a:xfrm>
            <a:off x="130644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1942" idx="2"/>
            <a:endCxn id="1924" idx="7"/>
          </p:cNvCxnSpPr>
          <p:nvPr/>
        </p:nvCxnSpPr>
        <p:spPr>
          <a:xfrm>
            <a:off x="1915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1" name=""/>
          <p:cNvCxnSpPr>
            <a:stCxn id="1943" idx="2"/>
            <a:endCxn id="1917" idx="7"/>
          </p:cNvCxnSpPr>
          <p:nvPr/>
        </p:nvCxnSpPr>
        <p:spPr>
          <a:xfrm>
            <a:off x="2525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2" name=""/>
          <p:cNvCxnSpPr>
            <a:stCxn id="1944" idx="2"/>
            <a:endCxn id="1918" idx="7"/>
          </p:cNvCxnSpPr>
          <p:nvPr/>
        </p:nvCxnSpPr>
        <p:spPr>
          <a:xfrm>
            <a:off x="3058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3" name=""/>
          <p:cNvCxnSpPr>
            <a:stCxn id="1945" idx="2"/>
            <a:endCxn id="1919" idx="7"/>
          </p:cNvCxnSpPr>
          <p:nvPr/>
        </p:nvCxnSpPr>
        <p:spPr>
          <a:xfrm>
            <a:off x="3668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4" name=""/>
          <p:cNvCxnSpPr>
            <a:stCxn id="1889" idx="4"/>
            <a:endCxn id="1920" idx="7"/>
          </p:cNvCxnSpPr>
          <p:nvPr/>
        </p:nvCxnSpPr>
        <p:spPr>
          <a:xfrm>
            <a:off x="4304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5" name=""/>
          <p:cNvCxnSpPr>
            <a:stCxn id="1882" idx="4"/>
            <a:endCxn id="1913" idx="7"/>
          </p:cNvCxnSpPr>
          <p:nvPr/>
        </p:nvCxnSpPr>
        <p:spPr>
          <a:xfrm>
            <a:off x="48384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6" name=""/>
          <p:cNvCxnSpPr>
            <a:stCxn id="1883" idx="4"/>
            <a:endCxn id="1914" idx="7"/>
          </p:cNvCxnSpPr>
          <p:nvPr/>
        </p:nvCxnSpPr>
        <p:spPr>
          <a:xfrm>
            <a:off x="5447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7" name=""/>
          <p:cNvCxnSpPr>
            <a:stCxn id="1948" idx="2"/>
            <a:endCxn id="1915" idx="7"/>
          </p:cNvCxnSpPr>
          <p:nvPr/>
        </p:nvCxnSpPr>
        <p:spPr>
          <a:xfrm>
            <a:off x="6071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8" name=""/>
          <p:cNvCxnSpPr>
            <a:stCxn id="1950" idx="2"/>
            <a:endCxn id="1916" idx="7"/>
          </p:cNvCxnSpPr>
          <p:nvPr/>
        </p:nvCxnSpPr>
        <p:spPr>
          <a:xfrm>
            <a:off x="6681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19" name=""/>
          <p:cNvCxnSpPr>
            <a:stCxn id="1951" idx="2"/>
            <a:endCxn id="1909" idx="7"/>
          </p:cNvCxnSpPr>
          <p:nvPr/>
        </p:nvCxnSpPr>
        <p:spPr>
          <a:xfrm>
            <a:off x="7214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20" name=""/>
          <p:cNvCxnSpPr>
            <a:stCxn id="1953" idx="2"/>
            <a:endCxn id="1910" idx="7"/>
          </p:cNvCxnSpPr>
          <p:nvPr/>
        </p:nvCxnSpPr>
        <p:spPr>
          <a:xfrm>
            <a:off x="7824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21" name=""/>
          <p:cNvCxnSpPr>
            <a:stCxn id="1952" idx="2"/>
            <a:endCxn id="1911" idx="7"/>
          </p:cNvCxnSpPr>
          <p:nvPr/>
        </p:nvCxnSpPr>
        <p:spPr>
          <a:xfrm>
            <a:off x="843408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22" name=""/>
          <p:cNvCxnSpPr>
            <a:stCxn id="1954" idx="2"/>
            <a:endCxn id="1912" idx="7"/>
          </p:cNvCxnSpPr>
          <p:nvPr/>
        </p:nvCxnSpPr>
        <p:spPr>
          <a:xfrm>
            <a:off x="8967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023" name=""/>
          <p:cNvCxnSpPr>
            <a:stCxn id="1959" idx="2"/>
            <a:endCxn id="1798" idx="0"/>
          </p:cNvCxnSpPr>
          <p:nvPr/>
        </p:nvCxnSpPr>
        <p:spPr>
          <a:xfrm flipH="1">
            <a:off x="189720" y="1158480"/>
            <a:ext cx="508716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24" name=""/>
          <p:cNvCxnSpPr>
            <a:stCxn id="1959" idx="2"/>
            <a:endCxn id="1818" idx="0"/>
          </p:cNvCxnSpPr>
          <p:nvPr/>
        </p:nvCxnSpPr>
        <p:spPr>
          <a:xfrm flipH="1">
            <a:off x="696600" y="1158480"/>
            <a:ext cx="458064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25" name=""/>
          <p:cNvCxnSpPr>
            <a:stCxn id="1959" idx="2"/>
            <a:endCxn id="1817" idx="0"/>
          </p:cNvCxnSpPr>
          <p:nvPr/>
        </p:nvCxnSpPr>
        <p:spPr>
          <a:xfrm flipH="1">
            <a:off x="1305720" y="1158480"/>
            <a:ext cx="397116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26" name=""/>
          <p:cNvCxnSpPr>
            <a:stCxn id="1959" idx="2"/>
            <a:endCxn id="1819" idx="0"/>
          </p:cNvCxnSpPr>
          <p:nvPr/>
        </p:nvCxnSpPr>
        <p:spPr>
          <a:xfrm flipH="1">
            <a:off x="1915560" y="1158480"/>
            <a:ext cx="336132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27" name=""/>
          <p:cNvCxnSpPr>
            <a:stCxn id="1959" idx="2"/>
            <a:endCxn id="1820" idx="0"/>
          </p:cNvCxnSpPr>
          <p:nvPr/>
        </p:nvCxnSpPr>
        <p:spPr>
          <a:xfrm flipH="1">
            <a:off x="2525400" y="1158480"/>
            <a:ext cx="275184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28" name=""/>
          <p:cNvCxnSpPr>
            <a:stCxn id="1959" idx="2"/>
            <a:endCxn id="1821" idx="0"/>
          </p:cNvCxnSpPr>
          <p:nvPr/>
        </p:nvCxnSpPr>
        <p:spPr>
          <a:xfrm flipH="1">
            <a:off x="3058920" y="1158480"/>
            <a:ext cx="221832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29" name=""/>
          <p:cNvCxnSpPr>
            <a:stCxn id="1959" idx="2"/>
            <a:endCxn id="1796" idx="0"/>
          </p:cNvCxnSpPr>
          <p:nvPr/>
        </p:nvCxnSpPr>
        <p:spPr>
          <a:xfrm flipH="1">
            <a:off x="3695400" y="1158480"/>
            <a:ext cx="158184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0" name=""/>
          <p:cNvCxnSpPr>
            <a:stCxn id="1959" idx="2"/>
            <a:endCxn id="1797" idx="0"/>
          </p:cNvCxnSpPr>
          <p:nvPr/>
        </p:nvCxnSpPr>
        <p:spPr>
          <a:xfrm flipH="1">
            <a:off x="4304520" y="1158480"/>
            <a:ext cx="97236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1" name=""/>
          <p:cNvCxnSpPr>
            <a:stCxn id="1959" idx="2"/>
            <a:endCxn id="1790" idx="0"/>
          </p:cNvCxnSpPr>
          <p:nvPr/>
        </p:nvCxnSpPr>
        <p:spPr>
          <a:xfrm flipH="1">
            <a:off x="4838040" y="1158480"/>
            <a:ext cx="43884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2" name=""/>
          <p:cNvCxnSpPr>
            <a:stCxn id="1959" idx="2"/>
            <a:endCxn id="1791" idx="0"/>
          </p:cNvCxnSpPr>
          <p:nvPr/>
        </p:nvCxnSpPr>
        <p:spPr>
          <a:xfrm>
            <a:off x="5276880" y="1158480"/>
            <a:ext cx="17208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3" name=""/>
          <p:cNvCxnSpPr>
            <a:stCxn id="1959" idx="2"/>
            <a:endCxn id="1792" idx="0"/>
          </p:cNvCxnSpPr>
          <p:nvPr/>
        </p:nvCxnSpPr>
        <p:spPr>
          <a:xfrm>
            <a:off x="5276880" y="1158480"/>
            <a:ext cx="78192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4" name=""/>
          <p:cNvCxnSpPr>
            <a:stCxn id="1959" idx="2"/>
            <a:endCxn id="1793" idx="0"/>
          </p:cNvCxnSpPr>
          <p:nvPr/>
        </p:nvCxnSpPr>
        <p:spPr>
          <a:xfrm>
            <a:off x="5276520" y="1158480"/>
            <a:ext cx="139104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5" name=""/>
          <p:cNvCxnSpPr>
            <a:stCxn id="1959" idx="2"/>
            <a:endCxn id="1786" idx="0"/>
          </p:cNvCxnSpPr>
          <p:nvPr/>
        </p:nvCxnSpPr>
        <p:spPr>
          <a:xfrm>
            <a:off x="5276520" y="1158480"/>
            <a:ext cx="192492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6" name=""/>
          <p:cNvCxnSpPr>
            <a:stCxn id="1959" idx="2"/>
            <a:endCxn id="1830" idx="0"/>
          </p:cNvCxnSpPr>
          <p:nvPr/>
        </p:nvCxnSpPr>
        <p:spPr>
          <a:xfrm>
            <a:off x="5276880" y="1158480"/>
            <a:ext cx="254844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7" name=""/>
          <p:cNvCxnSpPr>
            <a:stCxn id="1959" idx="2"/>
            <a:endCxn id="1829" idx="0"/>
          </p:cNvCxnSpPr>
          <p:nvPr/>
        </p:nvCxnSpPr>
        <p:spPr>
          <a:xfrm>
            <a:off x="5276520" y="1158480"/>
            <a:ext cx="315828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8" name=""/>
          <p:cNvCxnSpPr>
            <a:stCxn id="1959" idx="2"/>
            <a:endCxn id="1831" idx="0"/>
          </p:cNvCxnSpPr>
          <p:nvPr/>
        </p:nvCxnSpPr>
        <p:spPr>
          <a:xfrm>
            <a:off x="5276520" y="1158480"/>
            <a:ext cx="3670920" cy="59436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39" name=""/>
          <p:cNvCxnSpPr>
            <a:stCxn id="1963" idx="2"/>
            <a:endCxn id="1844" idx="0"/>
          </p:cNvCxnSpPr>
          <p:nvPr/>
        </p:nvCxnSpPr>
        <p:spPr>
          <a:xfrm flipH="1">
            <a:off x="190080" y="2987640"/>
            <a:ext cx="554400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0" name=""/>
          <p:cNvCxnSpPr>
            <a:stCxn id="1963" idx="2"/>
            <a:endCxn id="1864" idx="0"/>
          </p:cNvCxnSpPr>
          <p:nvPr/>
        </p:nvCxnSpPr>
        <p:spPr>
          <a:xfrm flipH="1">
            <a:off x="696600" y="2987640"/>
            <a:ext cx="503784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1" name=""/>
          <p:cNvCxnSpPr>
            <a:stCxn id="1963" idx="2"/>
            <a:endCxn id="1863" idx="0"/>
          </p:cNvCxnSpPr>
          <p:nvPr/>
        </p:nvCxnSpPr>
        <p:spPr>
          <a:xfrm flipH="1">
            <a:off x="1305720" y="2987640"/>
            <a:ext cx="442836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2" name=""/>
          <p:cNvCxnSpPr>
            <a:stCxn id="1963" idx="2"/>
            <a:endCxn id="1865" idx="0"/>
          </p:cNvCxnSpPr>
          <p:nvPr/>
        </p:nvCxnSpPr>
        <p:spPr>
          <a:xfrm flipH="1">
            <a:off x="1915560" y="2987640"/>
            <a:ext cx="381852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3" name=""/>
          <p:cNvCxnSpPr>
            <a:stCxn id="1963" idx="2"/>
            <a:endCxn id="1866" idx="0"/>
          </p:cNvCxnSpPr>
          <p:nvPr/>
        </p:nvCxnSpPr>
        <p:spPr>
          <a:xfrm flipH="1">
            <a:off x="2525400" y="2987640"/>
            <a:ext cx="320904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4" name=""/>
          <p:cNvCxnSpPr>
            <a:stCxn id="1963" idx="2"/>
            <a:endCxn id="1867" idx="0"/>
          </p:cNvCxnSpPr>
          <p:nvPr/>
        </p:nvCxnSpPr>
        <p:spPr>
          <a:xfrm flipH="1">
            <a:off x="3058920" y="2987640"/>
            <a:ext cx="267552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5" name=""/>
          <p:cNvCxnSpPr>
            <a:stCxn id="1963" idx="2"/>
            <a:endCxn id="1868" idx="0"/>
          </p:cNvCxnSpPr>
          <p:nvPr/>
        </p:nvCxnSpPr>
        <p:spPr>
          <a:xfrm flipH="1">
            <a:off x="3668040" y="2987640"/>
            <a:ext cx="206604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6" name=""/>
          <p:cNvCxnSpPr>
            <a:stCxn id="1963" idx="2"/>
            <a:endCxn id="1869" idx="0"/>
          </p:cNvCxnSpPr>
          <p:nvPr/>
        </p:nvCxnSpPr>
        <p:spPr>
          <a:xfrm flipH="1">
            <a:off x="4277880" y="2987640"/>
            <a:ext cx="145656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7" name=""/>
          <p:cNvCxnSpPr>
            <a:stCxn id="1963" idx="2"/>
            <a:endCxn id="1870" idx="0"/>
          </p:cNvCxnSpPr>
          <p:nvPr/>
        </p:nvCxnSpPr>
        <p:spPr>
          <a:xfrm flipH="1">
            <a:off x="4811400" y="2987640"/>
            <a:ext cx="92304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8" name=""/>
          <p:cNvCxnSpPr>
            <a:stCxn id="1963" idx="2"/>
            <a:endCxn id="1872" idx="0"/>
          </p:cNvCxnSpPr>
          <p:nvPr/>
        </p:nvCxnSpPr>
        <p:spPr>
          <a:xfrm flipH="1">
            <a:off x="5462280" y="2987640"/>
            <a:ext cx="27216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9" name=""/>
          <p:cNvCxnSpPr>
            <a:stCxn id="1963" idx="2"/>
            <a:endCxn id="1871" idx="0"/>
          </p:cNvCxnSpPr>
          <p:nvPr/>
        </p:nvCxnSpPr>
        <p:spPr>
          <a:xfrm>
            <a:off x="5733720" y="2987640"/>
            <a:ext cx="33876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50" name=""/>
          <p:cNvCxnSpPr>
            <a:stCxn id="1963" idx="2"/>
            <a:endCxn id="1839" idx="0"/>
          </p:cNvCxnSpPr>
          <p:nvPr/>
        </p:nvCxnSpPr>
        <p:spPr>
          <a:xfrm>
            <a:off x="5733720" y="2987640"/>
            <a:ext cx="93420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51" name=""/>
          <p:cNvCxnSpPr>
            <a:stCxn id="1963" idx="2"/>
            <a:endCxn id="1874" idx="0"/>
          </p:cNvCxnSpPr>
          <p:nvPr/>
        </p:nvCxnSpPr>
        <p:spPr>
          <a:xfrm>
            <a:off x="5734080" y="2987640"/>
            <a:ext cx="148176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52" name=""/>
          <p:cNvCxnSpPr>
            <a:stCxn id="1963" idx="2"/>
            <a:endCxn id="1876" idx="0"/>
          </p:cNvCxnSpPr>
          <p:nvPr/>
        </p:nvCxnSpPr>
        <p:spPr>
          <a:xfrm>
            <a:off x="5734080" y="2987640"/>
            <a:ext cx="209160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53" name=""/>
          <p:cNvCxnSpPr>
            <a:stCxn id="1963" idx="2"/>
            <a:endCxn id="1875" idx="0"/>
          </p:cNvCxnSpPr>
          <p:nvPr/>
        </p:nvCxnSpPr>
        <p:spPr>
          <a:xfrm>
            <a:off x="5733720" y="2987640"/>
            <a:ext cx="270108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54" name=""/>
          <p:cNvCxnSpPr>
            <a:stCxn id="1963" idx="2"/>
            <a:endCxn id="1877" idx="0"/>
          </p:cNvCxnSpPr>
          <p:nvPr/>
        </p:nvCxnSpPr>
        <p:spPr>
          <a:xfrm>
            <a:off x="5733720" y="2987640"/>
            <a:ext cx="3213720" cy="442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55" name=""/>
          <p:cNvCxnSpPr>
            <a:stCxn id="1967" idx="2"/>
            <a:endCxn id="1890" idx="0"/>
          </p:cNvCxnSpPr>
          <p:nvPr/>
        </p:nvCxnSpPr>
        <p:spPr>
          <a:xfrm flipH="1">
            <a:off x="190080" y="4587840"/>
            <a:ext cx="493488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56" name=""/>
          <p:cNvCxnSpPr>
            <a:stCxn id="1967" idx="2"/>
            <a:endCxn id="1941" idx="0"/>
          </p:cNvCxnSpPr>
          <p:nvPr/>
        </p:nvCxnSpPr>
        <p:spPr>
          <a:xfrm flipH="1">
            <a:off x="696240" y="4587840"/>
            <a:ext cx="442836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57" name=""/>
          <p:cNvCxnSpPr>
            <a:stCxn id="1967" idx="2"/>
            <a:endCxn id="1940" idx="0"/>
          </p:cNvCxnSpPr>
          <p:nvPr/>
        </p:nvCxnSpPr>
        <p:spPr>
          <a:xfrm flipH="1">
            <a:off x="1306080" y="4587840"/>
            <a:ext cx="381888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58" name=""/>
          <p:cNvCxnSpPr>
            <a:stCxn id="1967" idx="2"/>
            <a:endCxn id="1942" idx="0"/>
          </p:cNvCxnSpPr>
          <p:nvPr/>
        </p:nvCxnSpPr>
        <p:spPr>
          <a:xfrm flipH="1">
            <a:off x="1915920" y="4587840"/>
            <a:ext cx="320904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59" name=""/>
          <p:cNvCxnSpPr>
            <a:stCxn id="1967" idx="2"/>
            <a:endCxn id="1943" idx="0"/>
          </p:cNvCxnSpPr>
          <p:nvPr/>
        </p:nvCxnSpPr>
        <p:spPr>
          <a:xfrm flipH="1">
            <a:off x="2525040" y="4587840"/>
            <a:ext cx="259956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0" name=""/>
          <p:cNvCxnSpPr>
            <a:stCxn id="1967" idx="2"/>
            <a:endCxn id="1944" idx="0"/>
          </p:cNvCxnSpPr>
          <p:nvPr/>
        </p:nvCxnSpPr>
        <p:spPr>
          <a:xfrm flipH="1">
            <a:off x="3058560" y="4587840"/>
            <a:ext cx="206604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1" name=""/>
          <p:cNvCxnSpPr>
            <a:stCxn id="1967" idx="2"/>
            <a:endCxn id="1888" idx="0"/>
          </p:cNvCxnSpPr>
          <p:nvPr/>
        </p:nvCxnSpPr>
        <p:spPr>
          <a:xfrm flipH="1">
            <a:off x="3695040" y="4587840"/>
            <a:ext cx="142956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2" name=""/>
          <p:cNvCxnSpPr>
            <a:stCxn id="1967" idx="2"/>
            <a:endCxn id="1946" idx="0"/>
          </p:cNvCxnSpPr>
          <p:nvPr/>
        </p:nvCxnSpPr>
        <p:spPr>
          <a:xfrm flipH="1">
            <a:off x="4277520" y="4587840"/>
            <a:ext cx="84708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3" name=""/>
          <p:cNvCxnSpPr>
            <a:stCxn id="1967" idx="2"/>
            <a:endCxn id="1882" idx="0"/>
          </p:cNvCxnSpPr>
          <p:nvPr/>
        </p:nvCxnSpPr>
        <p:spPr>
          <a:xfrm flipH="1">
            <a:off x="4838400" y="4587840"/>
            <a:ext cx="28656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4" name=""/>
          <p:cNvCxnSpPr>
            <a:stCxn id="1967" idx="2"/>
            <a:endCxn id="1949" idx="0"/>
          </p:cNvCxnSpPr>
          <p:nvPr/>
        </p:nvCxnSpPr>
        <p:spPr>
          <a:xfrm>
            <a:off x="5124240" y="4587840"/>
            <a:ext cx="33876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5" name=""/>
          <p:cNvCxnSpPr>
            <a:stCxn id="1967" idx="2"/>
            <a:endCxn id="1948" idx="0"/>
          </p:cNvCxnSpPr>
          <p:nvPr/>
        </p:nvCxnSpPr>
        <p:spPr>
          <a:xfrm>
            <a:off x="5124600" y="4587840"/>
            <a:ext cx="94824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6" name=""/>
          <p:cNvCxnSpPr>
            <a:stCxn id="1967" idx="2"/>
            <a:endCxn id="1950" idx="0"/>
          </p:cNvCxnSpPr>
          <p:nvPr/>
        </p:nvCxnSpPr>
        <p:spPr>
          <a:xfrm>
            <a:off x="5124600" y="4587840"/>
            <a:ext cx="155808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7" name=""/>
          <p:cNvCxnSpPr>
            <a:stCxn id="1967" idx="2"/>
            <a:endCxn id="1951" idx="0"/>
          </p:cNvCxnSpPr>
          <p:nvPr/>
        </p:nvCxnSpPr>
        <p:spPr>
          <a:xfrm>
            <a:off x="5124240" y="4587840"/>
            <a:ext cx="209124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8" name=""/>
          <p:cNvCxnSpPr>
            <a:stCxn id="1967" idx="2"/>
            <a:endCxn id="1953" idx="0"/>
          </p:cNvCxnSpPr>
          <p:nvPr/>
        </p:nvCxnSpPr>
        <p:spPr>
          <a:xfrm>
            <a:off x="5124240" y="4587840"/>
            <a:ext cx="270108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69" name=""/>
          <p:cNvCxnSpPr>
            <a:stCxn id="1967" idx="2"/>
            <a:endCxn id="1952" idx="0"/>
          </p:cNvCxnSpPr>
          <p:nvPr/>
        </p:nvCxnSpPr>
        <p:spPr>
          <a:xfrm>
            <a:off x="5124600" y="4587840"/>
            <a:ext cx="331056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070" name=""/>
          <p:cNvCxnSpPr>
            <a:stCxn id="1967" idx="2"/>
            <a:endCxn id="1954" idx="0"/>
          </p:cNvCxnSpPr>
          <p:nvPr/>
        </p:nvCxnSpPr>
        <p:spPr>
          <a:xfrm>
            <a:off x="5124600" y="4587840"/>
            <a:ext cx="3844080" cy="4420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7010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7620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82296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8763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648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867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362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895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505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4114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5335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1430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752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7" name=""/>
          <p:cNvCxnSpPr>
            <a:stCxn id="2083" idx="6"/>
            <a:endCxn id="2084" idx="2"/>
          </p:cNvCxnSpPr>
          <p:nvPr/>
        </p:nvCxnSpPr>
        <p:spPr>
          <a:xfrm>
            <a:off x="3808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88" name=""/>
          <p:cNvCxnSpPr>
            <a:stCxn id="2084" idx="6"/>
            <a:endCxn id="2085" idx="2"/>
          </p:cNvCxnSpPr>
          <p:nvPr/>
        </p:nvCxnSpPr>
        <p:spPr>
          <a:xfrm>
            <a:off x="9140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89" name=""/>
          <p:cNvCxnSpPr>
            <a:stCxn id="2085" idx="6"/>
            <a:endCxn id="2086" idx="2"/>
          </p:cNvCxnSpPr>
          <p:nvPr/>
        </p:nvCxnSpPr>
        <p:spPr>
          <a:xfrm>
            <a:off x="15235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0" name=""/>
          <p:cNvCxnSpPr>
            <a:stCxn id="2086" idx="6"/>
            <a:endCxn id="2079" idx="2"/>
          </p:cNvCxnSpPr>
          <p:nvPr/>
        </p:nvCxnSpPr>
        <p:spPr>
          <a:xfrm>
            <a:off x="2133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1" name=""/>
          <p:cNvCxnSpPr>
            <a:stCxn id="2079" idx="6"/>
            <a:endCxn id="2080" idx="2"/>
          </p:cNvCxnSpPr>
          <p:nvPr/>
        </p:nvCxnSpPr>
        <p:spPr>
          <a:xfrm>
            <a:off x="27428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2" name=""/>
          <p:cNvCxnSpPr>
            <a:stCxn id="2080" idx="6"/>
            <a:endCxn id="2081" idx="2"/>
          </p:cNvCxnSpPr>
          <p:nvPr/>
        </p:nvCxnSpPr>
        <p:spPr>
          <a:xfrm>
            <a:off x="3276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3" name=""/>
          <p:cNvCxnSpPr>
            <a:stCxn id="2081" idx="6"/>
            <a:endCxn id="2082" idx="2"/>
          </p:cNvCxnSpPr>
          <p:nvPr/>
        </p:nvCxnSpPr>
        <p:spPr>
          <a:xfrm>
            <a:off x="3885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4" name=""/>
          <p:cNvCxnSpPr>
            <a:stCxn id="2082" idx="6"/>
            <a:endCxn id="2075" idx="2"/>
          </p:cNvCxnSpPr>
          <p:nvPr/>
        </p:nvCxnSpPr>
        <p:spPr>
          <a:xfrm>
            <a:off x="44956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5" name=""/>
          <p:cNvCxnSpPr>
            <a:stCxn id="2075" idx="6"/>
            <a:endCxn id="2076" idx="2"/>
          </p:cNvCxnSpPr>
          <p:nvPr/>
        </p:nvCxnSpPr>
        <p:spPr>
          <a:xfrm>
            <a:off x="5028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6" name=""/>
          <p:cNvCxnSpPr>
            <a:stCxn id="2076" idx="6"/>
            <a:endCxn id="2077" idx="2"/>
          </p:cNvCxnSpPr>
          <p:nvPr/>
        </p:nvCxnSpPr>
        <p:spPr>
          <a:xfrm>
            <a:off x="56383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7" name=""/>
          <p:cNvCxnSpPr>
            <a:stCxn id="2077" idx="6"/>
            <a:endCxn id="2078" idx="2"/>
          </p:cNvCxnSpPr>
          <p:nvPr/>
        </p:nvCxnSpPr>
        <p:spPr>
          <a:xfrm>
            <a:off x="6248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8" name=""/>
          <p:cNvCxnSpPr>
            <a:stCxn id="2078" idx="6"/>
            <a:endCxn id="2071" idx="2"/>
          </p:cNvCxnSpPr>
          <p:nvPr/>
        </p:nvCxnSpPr>
        <p:spPr>
          <a:xfrm>
            <a:off x="68576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9" name=""/>
          <p:cNvCxnSpPr>
            <a:stCxn id="2071" idx="6"/>
            <a:endCxn id="2072" idx="2"/>
          </p:cNvCxnSpPr>
          <p:nvPr/>
        </p:nvCxnSpPr>
        <p:spPr>
          <a:xfrm>
            <a:off x="7391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00" name=""/>
          <p:cNvCxnSpPr>
            <a:stCxn id="2072" idx="6"/>
            <a:endCxn id="2073" idx="2"/>
          </p:cNvCxnSpPr>
          <p:nvPr/>
        </p:nvCxnSpPr>
        <p:spPr>
          <a:xfrm>
            <a:off x="80006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01" name=""/>
          <p:cNvCxnSpPr>
            <a:stCxn id="2073" idx="6"/>
            <a:endCxn id="2074" idx="2"/>
          </p:cNvCxnSpPr>
          <p:nvPr/>
        </p:nvCxnSpPr>
        <p:spPr>
          <a:xfrm>
            <a:off x="86104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102" name=""/>
          <p:cNvSpPr/>
          <p:nvPr/>
        </p:nvSpPr>
        <p:spPr>
          <a:xfrm>
            <a:off x="10713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615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680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290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823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433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0431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576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799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1897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409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942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8161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552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8674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7010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7620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82296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8763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648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257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477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362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895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505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1430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752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3" name=""/>
          <p:cNvCxnSpPr>
            <a:stCxn id="2129" idx="6"/>
            <a:endCxn id="2130" idx="2"/>
          </p:cNvCxnSpPr>
          <p:nvPr/>
        </p:nvCxnSpPr>
        <p:spPr>
          <a:xfrm>
            <a:off x="3808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34" name=""/>
          <p:cNvCxnSpPr>
            <a:stCxn id="2130" idx="6"/>
            <a:endCxn id="2131" idx="2"/>
          </p:cNvCxnSpPr>
          <p:nvPr/>
        </p:nvCxnSpPr>
        <p:spPr>
          <a:xfrm>
            <a:off x="9140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35" name=""/>
          <p:cNvCxnSpPr>
            <a:stCxn id="2131" idx="6"/>
            <a:endCxn id="2132" idx="2"/>
          </p:cNvCxnSpPr>
          <p:nvPr/>
        </p:nvCxnSpPr>
        <p:spPr>
          <a:xfrm>
            <a:off x="15235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36" name=""/>
          <p:cNvCxnSpPr>
            <a:stCxn id="2132" idx="6"/>
            <a:endCxn id="2125" idx="2"/>
          </p:cNvCxnSpPr>
          <p:nvPr/>
        </p:nvCxnSpPr>
        <p:spPr>
          <a:xfrm>
            <a:off x="2133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37" name=""/>
          <p:cNvCxnSpPr>
            <a:stCxn id="2125" idx="6"/>
            <a:endCxn id="2126" idx="2"/>
          </p:cNvCxnSpPr>
          <p:nvPr/>
        </p:nvCxnSpPr>
        <p:spPr>
          <a:xfrm>
            <a:off x="27428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38" name=""/>
          <p:cNvCxnSpPr>
            <a:stCxn id="2126" idx="6"/>
            <a:endCxn id="2127" idx="2"/>
          </p:cNvCxnSpPr>
          <p:nvPr/>
        </p:nvCxnSpPr>
        <p:spPr>
          <a:xfrm>
            <a:off x="3276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39" name=""/>
          <p:cNvCxnSpPr>
            <a:stCxn id="2127" idx="6"/>
            <a:endCxn id="2128" idx="2"/>
          </p:cNvCxnSpPr>
          <p:nvPr/>
        </p:nvCxnSpPr>
        <p:spPr>
          <a:xfrm>
            <a:off x="3885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40" name=""/>
          <p:cNvCxnSpPr>
            <a:stCxn id="2128" idx="6"/>
            <a:endCxn id="2121" idx="2"/>
          </p:cNvCxnSpPr>
          <p:nvPr/>
        </p:nvCxnSpPr>
        <p:spPr>
          <a:xfrm>
            <a:off x="44956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41" name=""/>
          <p:cNvCxnSpPr>
            <a:stCxn id="2121" idx="6"/>
            <a:endCxn id="2122" idx="2"/>
          </p:cNvCxnSpPr>
          <p:nvPr/>
        </p:nvCxnSpPr>
        <p:spPr>
          <a:xfrm>
            <a:off x="5028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42" name=""/>
          <p:cNvCxnSpPr>
            <a:stCxn id="2122" idx="6"/>
            <a:endCxn id="2123" idx="2"/>
          </p:cNvCxnSpPr>
          <p:nvPr/>
        </p:nvCxnSpPr>
        <p:spPr>
          <a:xfrm>
            <a:off x="56383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43" name=""/>
          <p:cNvCxnSpPr>
            <a:stCxn id="2123" idx="6"/>
            <a:endCxn id="2124" idx="2"/>
          </p:cNvCxnSpPr>
          <p:nvPr/>
        </p:nvCxnSpPr>
        <p:spPr>
          <a:xfrm>
            <a:off x="6248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44" name=""/>
          <p:cNvCxnSpPr>
            <a:stCxn id="2124" idx="6"/>
            <a:endCxn id="2117" idx="2"/>
          </p:cNvCxnSpPr>
          <p:nvPr/>
        </p:nvCxnSpPr>
        <p:spPr>
          <a:xfrm>
            <a:off x="68576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45" name=""/>
          <p:cNvCxnSpPr>
            <a:stCxn id="2117" idx="6"/>
            <a:endCxn id="2118" idx="2"/>
          </p:cNvCxnSpPr>
          <p:nvPr/>
        </p:nvCxnSpPr>
        <p:spPr>
          <a:xfrm>
            <a:off x="7391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46" name=""/>
          <p:cNvCxnSpPr>
            <a:stCxn id="2118" idx="6"/>
            <a:endCxn id="2119" idx="2"/>
          </p:cNvCxnSpPr>
          <p:nvPr/>
        </p:nvCxnSpPr>
        <p:spPr>
          <a:xfrm>
            <a:off x="80006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147" name=""/>
          <p:cNvCxnSpPr>
            <a:stCxn id="2119" idx="6"/>
            <a:endCxn id="2120" idx="2"/>
          </p:cNvCxnSpPr>
          <p:nvPr/>
        </p:nvCxnSpPr>
        <p:spPr>
          <a:xfrm>
            <a:off x="86104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2148" name=""/>
          <p:cNvSpPr/>
          <p:nvPr/>
        </p:nvSpPr>
        <p:spPr>
          <a:xfrm>
            <a:off x="10713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615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680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290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23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433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0431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576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799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1897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409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942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8161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552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674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620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82296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8763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648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257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867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477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362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895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505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114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2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9" name=""/>
          <p:cNvCxnSpPr>
            <a:stCxn id="2175" idx="6"/>
            <a:endCxn id="2176" idx="2"/>
          </p:cNvCxnSpPr>
          <p:nvPr/>
        </p:nvCxnSpPr>
        <p:spPr>
          <a:xfrm>
            <a:off x="3808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0" name=""/>
          <p:cNvCxnSpPr>
            <a:stCxn id="2176" idx="6"/>
            <a:endCxn id="2177" idx="2"/>
          </p:cNvCxnSpPr>
          <p:nvPr/>
        </p:nvCxnSpPr>
        <p:spPr>
          <a:xfrm>
            <a:off x="9140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1" name=""/>
          <p:cNvCxnSpPr>
            <a:stCxn id="2177" idx="6"/>
            <a:endCxn id="2178" idx="2"/>
          </p:cNvCxnSpPr>
          <p:nvPr/>
        </p:nvCxnSpPr>
        <p:spPr>
          <a:xfrm>
            <a:off x="15235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2" name=""/>
          <p:cNvCxnSpPr>
            <a:stCxn id="2178" idx="6"/>
            <a:endCxn id="2171" idx="2"/>
          </p:cNvCxnSpPr>
          <p:nvPr/>
        </p:nvCxnSpPr>
        <p:spPr>
          <a:xfrm>
            <a:off x="2133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3" name=""/>
          <p:cNvCxnSpPr>
            <a:stCxn id="2171" idx="6"/>
            <a:endCxn id="2172" idx="2"/>
          </p:cNvCxnSpPr>
          <p:nvPr/>
        </p:nvCxnSpPr>
        <p:spPr>
          <a:xfrm>
            <a:off x="27428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4" name=""/>
          <p:cNvCxnSpPr>
            <a:stCxn id="2172" idx="6"/>
            <a:endCxn id="2173" idx="2"/>
          </p:cNvCxnSpPr>
          <p:nvPr/>
        </p:nvCxnSpPr>
        <p:spPr>
          <a:xfrm>
            <a:off x="3276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5" name=""/>
          <p:cNvCxnSpPr>
            <a:stCxn id="2173" idx="6"/>
            <a:endCxn id="2174" idx="2"/>
          </p:cNvCxnSpPr>
          <p:nvPr/>
        </p:nvCxnSpPr>
        <p:spPr>
          <a:xfrm>
            <a:off x="3885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6" name=""/>
          <p:cNvCxnSpPr>
            <a:stCxn id="2174" idx="6"/>
            <a:endCxn id="2167" idx="2"/>
          </p:cNvCxnSpPr>
          <p:nvPr/>
        </p:nvCxnSpPr>
        <p:spPr>
          <a:xfrm>
            <a:off x="44956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7" name=""/>
          <p:cNvCxnSpPr>
            <a:stCxn id="2167" idx="6"/>
            <a:endCxn id="2168" idx="2"/>
          </p:cNvCxnSpPr>
          <p:nvPr/>
        </p:nvCxnSpPr>
        <p:spPr>
          <a:xfrm>
            <a:off x="5028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8" name=""/>
          <p:cNvCxnSpPr>
            <a:stCxn id="2168" idx="6"/>
            <a:endCxn id="2169" idx="2"/>
          </p:cNvCxnSpPr>
          <p:nvPr/>
        </p:nvCxnSpPr>
        <p:spPr>
          <a:xfrm>
            <a:off x="56383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89" name=""/>
          <p:cNvCxnSpPr>
            <a:stCxn id="2169" idx="6"/>
            <a:endCxn id="2170" idx="2"/>
          </p:cNvCxnSpPr>
          <p:nvPr/>
        </p:nvCxnSpPr>
        <p:spPr>
          <a:xfrm>
            <a:off x="6248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90" name=""/>
          <p:cNvCxnSpPr>
            <a:stCxn id="2170" idx="6"/>
            <a:endCxn id="2163" idx="2"/>
          </p:cNvCxnSpPr>
          <p:nvPr/>
        </p:nvCxnSpPr>
        <p:spPr>
          <a:xfrm>
            <a:off x="68576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91" name=""/>
          <p:cNvCxnSpPr>
            <a:stCxn id="2163" idx="6"/>
            <a:endCxn id="2164" idx="2"/>
          </p:cNvCxnSpPr>
          <p:nvPr/>
        </p:nvCxnSpPr>
        <p:spPr>
          <a:xfrm>
            <a:off x="7391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92" name=""/>
          <p:cNvCxnSpPr>
            <a:stCxn id="2164" idx="6"/>
            <a:endCxn id="2165" idx="2"/>
          </p:cNvCxnSpPr>
          <p:nvPr/>
        </p:nvCxnSpPr>
        <p:spPr>
          <a:xfrm>
            <a:off x="80006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193" name=""/>
          <p:cNvCxnSpPr>
            <a:stCxn id="2165" idx="6"/>
            <a:endCxn id="2166" idx="2"/>
          </p:cNvCxnSpPr>
          <p:nvPr/>
        </p:nvCxnSpPr>
        <p:spPr>
          <a:xfrm>
            <a:off x="86104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2194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0" name=""/>
          <p:cNvCxnSpPr>
            <a:stCxn id="2206" idx="6"/>
            <a:endCxn id="2207" idx="2"/>
          </p:cNvCxnSpPr>
          <p:nvPr/>
        </p:nvCxnSpPr>
        <p:spPr>
          <a:xfrm>
            <a:off x="3808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11" name=""/>
          <p:cNvCxnSpPr>
            <a:stCxn id="2207" idx="6"/>
            <a:endCxn id="2208" idx="2"/>
          </p:cNvCxnSpPr>
          <p:nvPr/>
        </p:nvCxnSpPr>
        <p:spPr>
          <a:xfrm>
            <a:off x="9140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12" name=""/>
          <p:cNvCxnSpPr>
            <a:stCxn id="2208" idx="6"/>
            <a:endCxn id="2209" idx="2"/>
          </p:cNvCxnSpPr>
          <p:nvPr/>
        </p:nvCxnSpPr>
        <p:spPr>
          <a:xfrm>
            <a:off x="15235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13" name=""/>
          <p:cNvCxnSpPr>
            <a:stCxn id="2209" idx="6"/>
            <a:endCxn id="2202" idx="2"/>
          </p:cNvCxnSpPr>
          <p:nvPr/>
        </p:nvCxnSpPr>
        <p:spPr>
          <a:xfrm>
            <a:off x="2133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14" name=""/>
          <p:cNvCxnSpPr>
            <a:stCxn id="2202" idx="6"/>
            <a:endCxn id="2203" idx="2"/>
          </p:cNvCxnSpPr>
          <p:nvPr/>
        </p:nvCxnSpPr>
        <p:spPr>
          <a:xfrm>
            <a:off x="27428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15" name=""/>
          <p:cNvCxnSpPr>
            <a:stCxn id="2203" idx="6"/>
            <a:endCxn id="2204" idx="2"/>
          </p:cNvCxnSpPr>
          <p:nvPr/>
        </p:nvCxnSpPr>
        <p:spPr>
          <a:xfrm>
            <a:off x="3276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16" name=""/>
          <p:cNvCxnSpPr>
            <a:stCxn id="2204" idx="6"/>
            <a:endCxn id="2205" idx="2"/>
          </p:cNvCxnSpPr>
          <p:nvPr/>
        </p:nvCxnSpPr>
        <p:spPr>
          <a:xfrm>
            <a:off x="3885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17" name=""/>
          <p:cNvCxnSpPr>
            <a:stCxn id="2205" idx="6"/>
            <a:endCxn id="2198" idx="2"/>
          </p:cNvCxnSpPr>
          <p:nvPr/>
        </p:nvCxnSpPr>
        <p:spPr>
          <a:xfrm>
            <a:off x="44956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18" name=""/>
          <p:cNvCxnSpPr>
            <a:stCxn id="2198" idx="6"/>
            <a:endCxn id="2199" idx="2"/>
          </p:cNvCxnSpPr>
          <p:nvPr/>
        </p:nvCxnSpPr>
        <p:spPr>
          <a:xfrm>
            <a:off x="5028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19" name=""/>
          <p:cNvCxnSpPr>
            <a:stCxn id="2199" idx="6"/>
            <a:endCxn id="2200" idx="2"/>
          </p:cNvCxnSpPr>
          <p:nvPr/>
        </p:nvCxnSpPr>
        <p:spPr>
          <a:xfrm>
            <a:off x="56383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20" name=""/>
          <p:cNvCxnSpPr>
            <a:stCxn id="2200" idx="6"/>
            <a:endCxn id="2201" idx="2"/>
          </p:cNvCxnSpPr>
          <p:nvPr/>
        </p:nvCxnSpPr>
        <p:spPr>
          <a:xfrm>
            <a:off x="6248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21" name=""/>
          <p:cNvCxnSpPr>
            <a:stCxn id="2201" idx="6"/>
            <a:endCxn id="2194" idx="2"/>
          </p:cNvCxnSpPr>
          <p:nvPr/>
        </p:nvCxnSpPr>
        <p:spPr>
          <a:xfrm>
            <a:off x="68576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22" name=""/>
          <p:cNvCxnSpPr>
            <a:stCxn id="2194" idx="6"/>
            <a:endCxn id="2195" idx="2"/>
          </p:cNvCxnSpPr>
          <p:nvPr/>
        </p:nvCxnSpPr>
        <p:spPr>
          <a:xfrm>
            <a:off x="7391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23" name=""/>
          <p:cNvCxnSpPr>
            <a:stCxn id="2195" idx="6"/>
            <a:endCxn id="2196" idx="2"/>
          </p:cNvCxnSpPr>
          <p:nvPr/>
        </p:nvCxnSpPr>
        <p:spPr>
          <a:xfrm>
            <a:off x="80006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224" name=""/>
          <p:cNvCxnSpPr>
            <a:stCxn id="2196" idx="6"/>
            <a:endCxn id="2197" idx="2"/>
          </p:cNvCxnSpPr>
          <p:nvPr/>
        </p:nvCxnSpPr>
        <p:spPr>
          <a:xfrm>
            <a:off x="86104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225" name=""/>
          <p:cNvSpPr/>
          <p:nvPr/>
        </p:nvSpPr>
        <p:spPr>
          <a:xfrm>
            <a:off x="10713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615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680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290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2823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433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0431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576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799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1897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409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42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81615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7552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8695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276720" y="45720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10080" y="457200"/>
            <a:ext cx="38124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335200" y="457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201480" y="457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200400" y="23623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562720" y="2362320"/>
            <a:ext cx="380880" cy="3808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8748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125520" y="2362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733920" y="39625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878000" y="3962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658680" y="3962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4" name=""/>
          <p:cNvCxnSpPr>
            <a:stCxn id="2241" idx="1"/>
            <a:endCxn id="2245" idx="0"/>
          </p:cNvCxnSpPr>
          <p:nvPr/>
        </p:nvCxnSpPr>
        <p:spPr>
          <a:xfrm flipH="1">
            <a:off x="3433320" y="198000"/>
            <a:ext cx="758160" cy="2595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255" name=""/>
          <p:cNvCxnSpPr>
            <a:stCxn id="2241" idx="3"/>
            <a:endCxn id="2244" idx="0"/>
          </p:cNvCxnSpPr>
          <p:nvPr/>
        </p:nvCxnSpPr>
        <p:spPr>
          <a:xfrm>
            <a:off x="4545000" y="198000"/>
            <a:ext cx="1037520" cy="2595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256" name=""/>
          <p:cNvCxnSpPr>
            <a:stCxn id="2241" idx="2"/>
            <a:endCxn id="2249" idx="0"/>
          </p:cNvCxnSpPr>
          <p:nvPr/>
        </p:nvCxnSpPr>
        <p:spPr>
          <a:xfrm flipH="1">
            <a:off x="3357000" y="396720"/>
            <a:ext cx="1011960" cy="19663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257" name=""/>
          <p:cNvCxnSpPr>
            <a:stCxn id="2241" idx="2"/>
            <a:endCxn id="2248" idx="0"/>
          </p:cNvCxnSpPr>
          <p:nvPr/>
        </p:nvCxnSpPr>
        <p:spPr>
          <a:xfrm>
            <a:off x="4368960" y="396720"/>
            <a:ext cx="1365840" cy="19663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258" name=""/>
          <p:cNvCxnSpPr>
            <a:stCxn id="2241" idx="2"/>
            <a:endCxn id="2253" idx="0"/>
          </p:cNvCxnSpPr>
          <p:nvPr/>
        </p:nvCxnSpPr>
        <p:spPr>
          <a:xfrm flipH="1">
            <a:off x="3890520" y="396360"/>
            <a:ext cx="478800" cy="35665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259" name=""/>
          <p:cNvCxnSpPr>
            <a:stCxn id="2241" idx="2"/>
            <a:endCxn id="2252" idx="0"/>
          </p:cNvCxnSpPr>
          <p:nvPr/>
        </p:nvCxnSpPr>
        <p:spPr>
          <a:xfrm>
            <a:off x="4368600" y="396360"/>
            <a:ext cx="756360" cy="35665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260" name=""/>
          <p:cNvCxnSpPr>
            <a:stCxn id="2083" idx="4"/>
          </p:cNvCxnSpPr>
          <p:nvPr/>
        </p:nvCxnSpPr>
        <p:spPr>
          <a:xfrm>
            <a:off x="190440" y="213336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61" name=""/>
          <p:cNvCxnSpPr>
            <a:stCxn id="2103" idx="2"/>
            <a:endCxn id="2207" idx="0"/>
          </p:cNvCxnSpPr>
          <p:nvPr/>
        </p:nvCxnSpPr>
        <p:spPr>
          <a:xfrm>
            <a:off x="6966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62" name=""/>
          <p:cNvCxnSpPr>
            <a:stCxn id="2085" idx="4"/>
            <a:endCxn id="2208" idx="0"/>
          </p:cNvCxnSpPr>
          <p:nvPr/>
        </p:nvCxnSpPr>
        <p:spPr>
          <a:xfrm>
            <a:off x="133308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63" name=""/>
          <p:cNvCxnSpPr>
            <a:stCxn id="2104" idx="2"/>
            <a:endCxn id="2209" idx="0"/>
          </p:cNvCxnSpPr>
          <p:nvPr/>
        </p:nvCxnSpPr>
        <p:spPr>
          <a:xfrm>
            <a:off x="1915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64" name=""/>
          <p:cNvCxnSpPr>
            <a:stCxn id="2105" idx="2"/>
            <a:endCxn id="2202" idx="0"/>
          </p:cNvCxnSpPr>
          <p:nvPr/>
        </p:nvCxnSpPr>
        <p:spPr>
          <a:xfrm>
            <a:off x="2525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65" name=""/>
          <p:cNvCxnSpPr>
            <a:stCxn id="2106" idx="2"/>
            <a:endCxn id="2203" idx="0"/>
          </p:cNvCxnSpPr>
          <p:nvPr/>
        </p:nvCxnSpPr>
        <p:spPr>
          <a:xfrm>
            <a:off x="3058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66" name=""/>
          <p:cNvCxnSpPr>
            <a:stCxn id="2107" idx="2"/>
            <a:endCxn id="2204" idx="0"/>
          </p:cNvCxnSpPr>
          <p:nvPr/>
        </p:nvCxnSpPr>
        <p:spPr>
          <a:xfrm>
            <a:off x="3668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67" name=""/>
          <p:cNvCxnSpPr>
            <a:stCxn id="2108" idx="2"/>
            <a:endCxn id="2205" idx="0"/>
          </p:cNvCxnSpPr>
          <p:nvPr/>
        </p:nvCxnSpPr>
        <p:spPr>
          <a:xfrm>
            <a:off x="427788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68" name=""/>
          <p:cNvCxnSpPr>
            <a:stCxn id="2109" idx="2"/>
            <a:endCxn id="2198" idx="0"/>
          </p:cNvCxnSpPr>
          <p:nvPr/>
        </p:nvCxnSpPr>
        <p:spPr>
          <a:xfrm>
            <a:off x="4811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69" name=""/>
          <p:cNvCxnSpPr>
            <a:stCxn id="2111" idx="2"/>
            <a:endCxn id="2199" idx="0"/>
          </p:cNvCxnSpPr>
          <p:nvPr/>
        </p:nvCxnSpPr>
        <p:spPr>
          <a:xfrm flipH="1">
            <a:off x="54478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70" name=""/>
          <p:cNvCxnSpPr>
            <a:stCxn id="2077" idx="4"/>
            <a:endCxn id="2200" idx="0"/>
          </p:cNvCxnSpPr>
          <p:nvPr/>
        </p:nvCxnSpPr>
        <p:spPr>
          <a:xfrm>
            <a:off x="605772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71" name=""/>
          <p:cNvCxnSpPr>
            <a:stCxn id="2112" idx="2"/>
            <a:endCxn id="2201" idx="0"/>
          </p:cNvCxnSpPr>
          <p:nvPr/>
        </p:nvCxnSpPr>
        <p:spPr>
          <a:xfrm flipH="1">
            <a:off x="6667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72" name=""/>
          <p:cNvCxnSpPr>
            <a:stCxn id="2113" idx="2"/>
            <a:endCxn id="2194" idx="0"/>
          </p:cNvCxnSpPr>
          <p:nvPr/>
        </p:nvCxnSpPr>
        <p:spPr>
          <a:xfrm flipH="1">
            <a:off x="7200360" y="214920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73" name=""/>
          <p:cNvCxnSpPr>
            <a:stCxn id="2115" idx="2"/>
            <a:endCxn id="2195" idx="0"/>
          </p:cNvCxnSpPr>
          <p:nvPr/>
        </p:nvCxnSpPr>
        <p:spPr>
          <a:xfrm flipH="1">
            <a:off x="7810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74" name=""/>
          <p:cNvCxnSpPr>
            <a:stCxn id="2114" idx="2"/>
            <a:endCxn id="2196" idx="0"/>
          </p:cNvCxnSpPr>
          <p:nvPr/>
        </p:nvCxnSpPr>
        <p:spPr>
          <a:xfrm flipH="1">
            <a:off x="84196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75" name=""/>
          <p:cNvCxnSpPr>
            <a:stCxn id="2116" idx="2"/>
            <a:endCxn id="2197" idx="0"/>
          </p:cNvCxnSpPr>
          <p:nvPr/>
        </p:nvCxnSpPr>
        <p:spPr>
          <a:xfrm>
            <a:off x="8947080" y="214920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76" name=""/>
          <p:cNvCxnSpPr>
            <a:stCxn id="2129" idx="4"/>
            <a:endCxn id="2206" idx="1"/>
          </p:cNvCxnSpPr>
          <p:nvPr/>
        </p:nvCxnSpPr>
        <p:spPr>
          <a:xfrm flipH="1">
            <a:off x="547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77" name=""/>
          <p:cNvCxnSpPr>
            <a:stCxn id="2149" idx="2"/>
          </p:cNvCxnSpPr>
          <p:nvPr/>
        </p:nvCxnSpPr>
        <p:spPr>
          <a:xfrm flipH="1">
            <a:off x="610920" y="3825720"/>
            <a:ext cx="86400" cy="268704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78" name=""/>
          <p:cNvCxnSpPr>
            <a:stCxn id="2148" idx="2"/>
            <a:endCxn id="2208" idx="1"/>
          </p:cNvCxnSpPr>
          <p:nvPr/>
        </p:nvCxnSpPr>
        <p:spPr>
          <a:xfrm flipH="1">
            <a:off x="119808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79" name=""/>
          <p:cNvCxnSpPr>
            <a:stCxn id="2150" idx="2"/>
            <a:endCxn id="2209" idx="1"/>
          </p:cNvCxnSpPr>
          <p:nvPr/>
        </p:nvCxnSpPr>
        <p:spPr>
          <a:xfrm flipH="1">
            <a:off x="1807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0" name=""/>
          <p:cNvCxnSpPr>
            <a:stCxn id="2151" idx="2"/>
            <a:endCxn id="2202" idx="1"/>
          </p:cNvCxnSpPr>
          <p:nvPr/>
        </p:nvCxnSpPr>
        <p:spPr>
          <a:xfrm flipH="1">
            <a:off x="2417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1" name=""/>
          <p:cNvCxnSpPr>
            <a:stCxn id="2152" idx="2"/>
            <a:endCxn id="2203" idx="1"/>
          </p:cNvCxnSpPr>
          <p:nvPr/>
        </p:nvCxnSpPr>
        <p:spPr>
          <a:xfrm flipH="1">
            <a:off x="2950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2" name=""/>
          <p:cNvCxnSpPr>
            <a:stCxn id="2153" idx="2"/>
            <a:endCxn id="2204" idx="1"/>
          </p:cNvCxnSpPr>
          <p:nvPr/>
        </p:nvCxnSpPr>
        <p:spPr>
          <a:xfrm flipH="1">
            <a:off x="3560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3" name=""/>
          <p:cNvCxnSpPr>
            <a:stCxn id="2128" idx="4"/>
            <a:endCxn id="2205" idx="1"/>
          </p:cNvCxnSpPr>
          <p:nvPr/>
        </p:nvCxnSpPr>
        <p:spPr>
          <a:xfrm flipH="1">
            <a:off x="41695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4" name=""/>
          <p:cNvCxnSpPr>
            <a:stCxn id="2155" idx="2"/>
            <a:endCxn id="2198" idx="1"/>
          </p:cNvCxnSpPr>
          <p:nvPr/>
        </p:nvCxnSpPr>
        <p:spPr>
          <a:xfrm flipH="1">
            <a:off x="4703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5" name=""/>
          <p:cNvCxnSpPr>
            <a:stCxn id="2157" idx="2"/>
            <a:endCxn id="2199" idx="1"/>
          </p:cNvCxnSpPr>
          <p:nvPr/>
        </p:nvCxnSpPr>
        <p:spPr>
          <a:xfrm flipH="1">
            <a:off x="53125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6" name=""/>
          <p:cNvCxnSpPr>
            <a:stCxn id="2156" idx="2"/>
            <a:endCxn id="2200" idx="1"/>
          </p:cNvCxnSpPr>
          <p:nvPr/>
        </p:nvCxnSpPr>
        <p:spPr>
          <a:xfrm flipH="1">
            <a:off x="5922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7" name=""/>
          <p:cNvCxnSpPr>
            <a:stCxn id="2158" idx="2"/>
            <a:endCxn id="2201" idx="1"/>
          </p:cNvCxnSpPr>
          <p:nvPr/>
        </p:nvCxnSpPr>
        <p:spPr>
          <a:xfrm flipH="1">
            <a:off x="653184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8" name=""/>
          <p:cNvCxnSpPr>
            <a:stCxn id="2159" idx="2"/>
            <a:endCxn id="2194" idx="1"/>
          </p:cNvCxnSpPr>
          <p:nvPr/>
        </p:nvCxnSpPr>
        <p:spPr>
          <a:xfrm flipH="1">
            <a:off x="7065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89" name=""/>
          <p:cNvCxnSpPr>
            <a:stCxn id="2118" idx="4"/>
            <a:endCxn id="2195" idx="1"/>
          </p:cNvCxnSpPr>
          <p:nvPr/>
        </p:nvCxnSpPr>
        <p:spPr>
          <a:xfrm flipH="1">
            <a:off x="767484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90" name=""/>
          <p:cNvCxnSpPr>
            <a:stCxn id="2160" idx="2"/>
            <a:endCxn id="2196" idx="1"/>
          </p:cNvCxnSpPr>
          <p:nvPr/>
        </p:nvCxnSpPr>
        <p:spPr>
          <a:xfrm flipH="1">
            <a:off x="82843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91" name=""/>
          <p:cNvCxnSpPr>
            <a:stCxn id="2162" idx="2"/>
            <a:endCxn id="2197" idx="1"/>
          </p:cNvCxnSpPr>
          <p:nvPr/>
        </p:nvCxnSpPr>
        <p:spPr>
          <a:xfrm flipH="1">
            <a:off x="8817840" y="382536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292" name=""/>
          <p:cNvCxnSpPr>
            <a:stCxn id="2175" idx="4"/>
            <a:endCxn id="2206" idx="7"/>
          </p:cNvCxnSpPr>
          <p:nvPr/>
        </p:nvCxnSpPr>
        <p:spPr>
          <a:xfrm>
            <a:off x="1900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293" name=""/>
          <p:cNvCxnSpPr>
            <a:stCxn id="2176" idx="4"/>
            <a:endCxn id="2207" idx="7"/>
          </p:cNvCxnSpPr>
          <p:nvPr/>
        </p:nvCxnSpPr>
        <p:spPr>
          <a:xfrm>
            <a:off x="7236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294" name=""/>
          <p:cNvCxnSpPr>
            <a:stCxn id="2225" idx="2"/>
            <a:endCxn id="2208" idx="7"/>
          </p:cNvCxnSpPr>
          <p:nvPr/>
        </p:nvCxnSpPr>
        <p:spPr>
          <a:xfrm>
            <a:off x="130644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295" name=""/>
          <p:cNvCxnSpPr>
            <a:stCxn id="2227" idx="2"/>
            <a:endCxn id="2209" idx="7"/>
          </p:cNvCxnSpPr>
          <p:nvPr/>
        </p:nvCxnSpPr>
        <p:spPr>
          <a:xfrm>
            <a:off x="1915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296" name=""/>
          <p:cNvCxnSpPr>
            <a:stCxn id="2228" idx="2"/>
            <a:endCxn id="2202" idx="7"/>
          </p:cNvCxnSpPr>
          <p:nvPr/>
        </p:nvCxnSpPr>
        <p:spPr>
          <a:xfrm>
            <a:off x="2525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297" name=""/>
          <p:cNvCxnSpPr>
            <a:stCxn id="2229" idx="2"/>
            <a:endCxn id="2203" idx="7"/>
          </p:cNvCxnSpPr>
          <p:nvPr/>
        </p:nvCxnSpPr>
        <p:spPr>
          <a:xfrm>
            <a:off x="3058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298" name=""/>
          <p:cNvCxnSpPr>
            <a:stCxn id="2230" idx="2"/>
            <a:endCxn id="2204" idx="7"/>
          </p:cNvCxnSpPr>
          <p:nvPr/>
        </p:nvCxnSpPr>
        <p:spPr>
          <a:xfrm>
            <a:off x="3668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299" name=""/>
          <p:cNvCxnSpPr>
            <a:stCxn id="2174" idx="4"/>
            <a:endCxn id="2205" idx="7"/>
          </p:cNvCxnSpPr>
          <p:nvPr/>
        </p:nvCxnSpPr>
        <p:spPr>
          <a:xfrm>
            <a:off x="4304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300" name=""/>
          <p:cNvCxnSpPr>
            <a:stCxn id="2167" idx="4"/>
            <a:endCxn id="2198" idx="7"/>
          </p:cNvCxnSpPr>
          <p:nvPr/>
        </p:nvCxnSpPr>
        <p:spPr>
          <a:xfrm>
            <a:off x="48384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301" name=""/>
          <p:cNvCxnSpPr>
            <a:stCxn id="2168" idx="4"/>
            <a:endCxn id="2199" idx="7"/>
          </p:cNvCxnSpPr>
          <p:nvPr/>
        </p:nvCxnSpPr>
        <p:spPr>
          <a:xfrm>
            <a:off x="5447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302" name=""/>
          <p:cNvCxnSpPr>
            <a:stCxn id="2233" idx="2"/>
            <a:endCxn id="2200" idx="7"/>
          </p:cNvCxnSpPr>
          <p:nvPr/>
        </p:nvCxnSpPr>
        <p:spPr>
          <a:xfrm>
            <a:off x="6071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303" name=""/>
          <p:cNvCxnSpPr>
            <a:stCxn id="2235" idx="2"/>
            <a:endCxn id="2201" idx="7"/>
          </p:cNvCxnSpPr>
          <p:nvPr/>
        </p:nvCxnSpPr>
        <p:spPr>
          <a:xfrm>
            <a:off x="6681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304" name=""/>
          <p:cNvCxnSpPr>
            <a:stCxn id="2236" idx="2"/>
            <a:endCxn id="2194" idx="7"/>
          </p:cNvCxnSpPr>
          <p:nvPr/>
        </p:nvCxnSpPr>
        <p:spPr>
          <a:xfrm>
            <a:off x="7214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305" name=""/>
          <p:cNvCxnSpPr>
            <a:stCxn id="2238" idx="2"/>
            <a:endCxn id="2195" idx="7"/>
          </p:cNvCxnSpPr>
          <p:nvPr/>
        </p:nvCxnSpPr>
        <p:spPr>
          <a:xfrm>
            <a:off x="7824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306" name=""/>
          <p:cNvCxnSpPr>
            <a:stCxn id="2237" idx="2"/>
            <a:endCxn id="2196" idx="7"/>
          </p:cNvCxnSpPr>
          <p:nvPr/>
        </p:nvCxnSpPr>
        <p:spPr>
          <a:xfrm>
            <a:off x="843408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307" name=""/>
          <p:cNvCxnSpPr>
            <a:stCxn id="2239" idx="2"/>
            <a:endCxn id="2197" idx="7"/>
          </p:cNvCxnSpPr>
          <p:nvPr/>
        </p:nvCxnSpPr>
        <p:spPr>
          <a:xfrm>
            <a:off x="8967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308" name=""/>
          <p:cNvCxnSpPr>
            <a:stCxn id="2244" idx="2"/>
            <a:endCxn id="2083" idx="0"/>
          </p:cNvCxnSpPr>
          <p:nvPr/>
        </p:nvCxnSpPr>
        <p:spPr>
          <a:xfrm flipH="1">
            <a:off x="190080" y="853920"/>
            <a:ext cx="5392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09" name=""/>
          <p:cNvCxnSpPr>
            <a:stCxn id="2244" idx="2"/>
            <a:endCxn id="2103" idx="0"/>
          </p:cNvCxnSpPr>
          <p:nvPr/>
        </p:nvCxnSpPr>
        <p:spPr>
          <a:xfrm flipH="1">
            <a:off x="696240" y="853920"/>
            <a:ext cx="48855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0" name=""/>
          <p:cNvCxnSpPr>
            <a:stCxn id="2244" idx="2"/>
            <a:endCxn id="2102" idx="0"/>
          </p:cNvCxnSpPr>
          <p:nvPr/>
        </p:nvCxnSpPr>
        <p:spPr>
          <a:xfrm flipH="1">
            <a:off x="1306080" y="853920"/>
            <a:ext cx="4276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1" name=""/>
          <p:cNvCxnSpPr>
            <a:stCxn id="2244" idx="2"/>
            <a:endCxn id="2104" idx="0"/>
          </p:cNvCxnSpPr>
          <p:nvPr/>
        </p:nvCxnSpPr>
        <p:spPr>
          <a:xfrm flipH="1">
            <a:off x="1915920" y="853920"/>
            <a:ext cx="3666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2" name=""/>
          <p:cNvCxnSpPr>
            <a:stCxn id="2244" idx="2"/>
            <a:endCxn id="2105" idx="0"/>
          </p:cNvCxnSpPr>
          <p:nvPr/>
        </p:nvCxnSpPr>
        <p:spPr>
          <a:xfrm flipH="1">
            <a:off x="2525040" y="853920"/>
            <a:ext cx="305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3" name=""/>
          <p:cNvCxnSpPr>
            <a:stCxn id="2244" idx="2"/>
            <a:endCxn id="2106" idx="0"/>
          </p:cNvCxnSpPr>
          <p:nvPr/>
        </p:nvCxnSpPr>
        <p:spPr>
          <a:xfrm flipH="1">
            <a:off x="3058560" y="853920"/>
            <a:ext cx="2523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4" name=""/>
          <p:cNvCxnSpPr>
            <a:stCxn id="2244" idx="2"/>
            <a:endCxn id="2081" idx="0"/>
          </p:cNvCxnSpPr>
          <p:nvPr/>
        </p:nvCxnSpPr>
        <p:spPr>
          <a:xfrm flipH="1">
            <a:off x="3695040" y="853920"/>
            <a:ext cx="188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5" name=""/>
          <p:cNvCxnSpPr>
            <a:stCxn id="2244" idx="2"/>
            <a:endCxn id="2082" idx="0"/>
          </p:cNvCxnSpPr>
          <p:nvPr/>
        </p:nvCxnSpPr>
        <p:spPr>
          <a:xfrm flipH="1">
            <a:off x="4305240" y="853920"/>
            <a:ext cx="127692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6" name=""/>
          <p:cNvCxnSpPr>
            <a:stCxn id="2244" idx="2"/>
            <a:endCxn id="2075" idx="0"/>
          </p:cNvCxnSpPr>
          <p:nvPr/>
        </p:nvCxnSpPr>
        <p:spPr>
          <a:xfrm flipH="1">
            <a:off x="4838400" y="853920"/>
            <a:ext cx="743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7" name=""/>
          <p:cNvCxnSpPr>
            <a:stCxn id="2244" idx="2"/>
            <a:endCxn id="2076" idx="0"/>
          </p:cNvCxnSpPr>
          <p:nvPr/>
        </p:nvCxnSpPr>
        <p:spPr>
          <a:xfrm flipH="1">
            <a:off x="5447520" y="853920"/>
            <a:ext cx="1342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8" name=""/>
          <p:cNvCxnSpPr>
            <a:stCxn id="2244" idx="2"/>
            <a:endCxn id="2077" idx="0"/>
          </p:cNvCxnSpPr>
          <p:nvPr/>
        </p:nvCxnSpPr>
        <p:spPr>
          <a:xfrm>
            <a:off x="5581440" y="853920"/>
            <a:ext cx="477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19" name=""/>
          <p:cNvCxnSpPr>
            <a:stCxn id="2244" idx="2"/>
            <a:endCxn id="2078" idx="0"/>
          </p:cNvCxnSpPr>
          <p:nvPr/>
        </p:nvCxnSpPr>
        <p:spPr>
          <a:xfrm>
            <a:off x="5581800" y="853920"/>
            <a:ext cx="10864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20" name=""/>
          <p:cNvCxnSpPr>
            <a:stCxn id="2244" idx="2"/>
            <a:endCxn id="2071" idx="0"/>
          </p:cNvCxnSpPr>
          <p:nvPr/>
        </p:nvCxnSpPr>
        <p:spPr>
          <a:xfrm>
            <a:off x="5581800" y="853920"/>
            <a:ext cx="1620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21" name=""/>
          <p:cNvCxnSpPr>
            <a:stCxn id="2244" idx="2"/>
            <a:endCxn id="2115" idx="0"/>
          </p:cNvCxnSpPr>
          <p:nvPr/>
        </p:nvCxnSpPr>
        <p:spPr>
          <a:xfrm>
            <a:off x="5581440" y="853920"/>
            <a:ext cx="22438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22" name=""/>
          <p:cNvCxnSpPr>
            <a:stCxn id="2244" idx="2"/>
            <a:endCxn id="2114" idx="0"/>
          </p:cNvCxnSpPr>
          <p:nvPr/>
        </p:nvCxnSpPr>
        <p:spPr>
          <a:xfrm>
            <a:off x="5581800" y="853920"/>
            <a:ext cx="28533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23" name=""/>
          <p:cNvCxnSpPr>
            <a:stCxn id="2244" idx="2"/>
            <a:endCxn id="2116" idx="0"/>
          </p:cNvCxnSpPr>
          <p:nvPr/>
        </p:nvCxnSpPr>
        <p:spPr>
          <a:xfrm>
            <a:off x="5581800" y="853920"/>
            <a:ext cx="3366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24" name=""/>
          <p:cNvCxnSpPr>
            <a:stCxn id="2248" idx="2"/>
            <a:endCxn id="2129" idx="0"/>
          </p:cNvCxnSpPr>
          <p:nvPr/>
        </p:nvCxnSpPr>
        <p:spPr>
          <a:xfrm flipH="1">
            <a:off x="190080" y="2758680"/>
            <a:ext cx="55440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25" name=""/>
          <p:cNvCxnSpPr>
            <a:stCxn id="2248" idx="2"/>
            <a:endCxn id="2149" idx="0"/>
          </p:cNvCxnSpPr>
          <p:nvPr/>
        </p:nvCxnSpPr>
        <p:spPr>
          <a:xfrm flipH="1">
            <a:off x="696600" y="2758680"/>
            <a:ext cx="50378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26" name=""/>
          <p:cNvCxnSpPr>
            <a:stCxn id="2248" idx="2"/>
            <a:endCxn id="2148" idx="0"/>
          </p:cNvCxnSpPr>
          <p:nvPr/>
        </p:nvCxnSpPr>
        <p:spPr>
          <a:xfrm flipH="1">
            <a:off x="1305720" y="2758680"/>
            <a:ext cx="44283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27" name=""/>
          <p:cNvCxnSpPr>
            <a:stCxn id="2248" idx="2"/>
            <a:endCxn id="2150" idx="0"/>
          </p:cNvCxnSpPr>
          <p:nvPr/>
        </p:nvCxnSpPr>
        <p:spPr>
          <a:xfrm flipH="1">
            <a:off x="1915560" y="2758680"/>
            <a:ext cx="38185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28" name=""/>
          <p:cNvCxnSpPr>
            <a:stCxn id="2248" idx="2"/>
            <a:endCxn id="2151" idx="0"/>
          </p:cNvCxnSpPr>
          <p:nvPr/>
        </p:nvCxnSpPr>
        <p:spPr>
          <a:xfrm flipH="1">
            <a:off x="2525400" y="2758680"/>
            <a:ext cx="3209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29" name=""/>
          <p:cNvCxnSpPr>
            <a:stCxn id="2248" idx="2"/>
            <a:endCxn id="2152" idx="0"/>
          </p:cNvCxnSpPr>
          <p:nvPr/>
        </p:nvCxnSpPr>
        <p:spPr>
          <a:xfrm flipH="1">
            <a:off x="3058920" y="2758680"/>
            <a:ext cx="26755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0" name=""/>
          <p:cNvCxnSpPr>
            <a:stCxn id="2248" idx="2"/>
            <a:endCxn id="2153" idx="0"/>
          </p:cNvCxnSpPr>
          <p:nvPr/>
        </p:nvCxnSpPr>
        <p:spPr>
          <a:xfrm flipH="1">
            <a:off x="3668040" y="2758680"/>
            <a:ext cx="2066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1" name=""/>
          <p:cNvCxnSpPr>
            <a:stCxn id="2248" idx="2"/>
            <a:endCxn id="2154" idx="0"/>
          </p:cNvCxnSpPr>
          <p:nvPr/>
        </p:nvCxnSpPr>
        <p:spPr>
          <a:xfrm flipH="1">
            <a:off x="4277880" y="2758680"/>
            <a:ext cx="14565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2" name=""/>
          <p:cNvCxnSpPr>
            <a:stCxn id="2248" idx="2"/>
            <a:endCxn id="2155" idx="0"/>
          </p:cNvCxnSpPr>
          <p:nvPr/>
        </p:nvCxnSpPr>
        <p:spPr>
          <a:xfrm flipH="1">
            <a:off x="4811400" y="2758680"/>
            <a:ext cx="923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3" name=""/>
          <p:cNvCxnSpPr>
            <a:stCxn id="2248" idx="2"/>
            <a:endCxn id="2157" idx="0"/>
          </p:cNvCxnSpPr>
          <p:nvPr/>
        </p:nvCxnSpPr>
        <p:spPr>
          <a:xfrm flipH="1">
            <a:off x="5462280" y="2758680"/>
            <a:ext cx="2721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4" name=""/>
          <p:cNvCxnSpPr>
            <a:stCxn id="2248" idx="2"/>
            <a:endCxn id="2156" idx="0"/>
          </p:cNvCxnSpPr>
          <p:nvPr/>
        </p:nvCxnSpPr>
        <p:spPr>
          <a:xfrm>
            <a:off x="5733720" y="2758680"/>
            <a:ext cx="3387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5" name=""/>
          <p:cNvCxnSpPr>
            <a:stCxn id="2248" idx="2"/>
            <a:endCxn id="2124" idx="0"/>
          </p:cNvCxnSpPr>
          <p:nvPr/>
        </p:nvCxnSpPr>
        <p:spPr>
          <a:xfrm>
            <a:off x="5733720" y="2758680"/>
            <a:ext cx="9342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6" name=""/>
          <p:cNvCxnSpPr>
            <a:stCxn id="2248" idx="2"/>
            <a:endCxn id="2159" idx="0"/>
          </p:cNvCxnSpPr>
          <p:nvPr/>
        </p:nvCxnSpPr>
        <p:spPr>
          <a:xfrm>
            <a:off x="5734080" y="2758680"/>
            <a:ext cx="14817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7" name=""/>
          <p:cNvCxnSpPr>
            <a:stCxn id="2248" idx="2"/>
            <a:endCxn id="2161" idx="0"/>
          </p:cNvCxnSpPr>
          <p:nvPr/>
        </p:nvCxnSpPr>
        <p:spPr>
          <a:xfrm>
            <a:off x="5734080" y="2758680"/>
            <a:ext cx="20916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8" name=""/>
          <p:cNvCxnSpPr>
            <a:stCxn id="2248" idx="2"/>
            <a:endCxn id="2160" idx="0"/>
          </p:cNvCxnSpPr>
          <p:nvPr/>
        </p:nvCxnSpPr>
        <p:spPr>
          <a:xfrm>
            <a:off x="5733720" y="2758680"/>
            <a:ext cx="270108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39" name=""/>
          <p:cNvCxnSpPr>
            <a:stCxn id="2248" idx="2"/>
            <a:endCxn id="2162" idx="0"/>
          </p:cNvCxnSpPr>
          <p:nvPr/>
        </p:nvCxnSpPr>
        <p:spPr>
          <a:xfrm>
            <a:off x="5733720" y="2758680"/>
            <a:ext cx="32137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40" name=""/>
          <p:cNvCxnSpPr>
            <a:stCxn id="2252" idx="2"/>
            <a:endCxn id="2175" idx="0"/>
          </p:cNvCxnSpPr>
          <p:nvPr/>
        </p:nvCxnSpPr>
        <p:spPr>
          <a:xfrm flipH="1">
            <a:off x="190080" y="4358880"/>
            <a:ext cx="4934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41" name=""/>
          <p:cNvCxnSpPr>
            <a:stCxn id="2252" idx="2"/>
            <a:endCxn id="2226" idx="0"/>
          </p:cNvCxnSpPr>
          <p:nvPr/>
        </p:nvCxnSpPr>
        <p:spPr>
          <a:xfrm flipH="1">
            <a:off x="696240" y="4358880"/>
            <a:ext cx="44283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42" name=""/>
          <p:cNvCxnSpPr>
            <a:stCxn id="2252" idx="2"/>
            <a:endCxn id="2225" idx="0"/>
          </p:cNvCxnSpPr>
          <p:nvPr/>
        </p:nvCxnSpPr>
        <p:spPr>
          <a:xfrm flipH="1">
            <a:off x="1306080" y="4358880"/>
            <a:ext cx="3818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43" name=""/>
          <p:cNvCxnSpPr>
            <a:stCxn id="2252" idx="2"/>
            <a:endCxn id="2227" idx="0"/>
          </p:cNvCxnSpPr>
          <p:nvPr/>
        </p:nvCxnSpPr>
        <p:spPr>
          <a:xfrm flipH="1">
            <a:off x="1915920" y="4358880"/>
            <a:ext cx="3209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44" name=""/>
          <p:cNvCxnSpPr>
            <a:stCxn id="2252" idx="2"/>
            <a:endCxn id="2228" idx="0"/>
          </p:cNvCxnSpPr>
          <p:nvPr/>
        </p:nvCxnSpPr>
        <p:spPr>
          <a:xfrm flipH="1">
            <a:off x="2525040" y="4358880"/>
            <a:ext cx="2599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45" name=""/>
          <p:cNvCxnSpPr>
            <a:stCxn id="2252" idx="2"/>
            <a:endCxn id="2229" idx="0"/>
          </p:cNvCxnSpPr>
          <p:nvPr/>
        </p:nvCxnSpPr>
        <p:spPr>
          <a:xfrm flipH="1">
            <a:off x="3058560" y="4358880"/>
            <a:ext cx="2066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46" name=""/>
          <p:cNvCxnSpPr>
            <a:stCxn id="2252" idx="2"/>
            <a:endCxn id="2173" idx="0"/>
          </p:cNvCxnSpPr>
          <p:nvPr/>
        </p:nvCxnSpPr>
        <p:spPr>
          <a:xfrm flipH="1">
            <a:off x="3695040" y="4358880"/>
            <a:ext cx="1429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47" name=""/>
          <p:cNvCxnSpPr>
            <a:stCxn id="2252" idx="2"/>
            <a:endCxn id="2231" idx="0"/>
          </p:cNvCxnSpPr>
          <p:nvPr/>
        </p:nvCxnSpPr>
        <p:spPr>
          <a:xfrm flipH="1">
            <a:off x="4277520" y="4358880"/>
            <a:ext cx="847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48" name=""/>
          <p:cNvCxnSpPr>
            <a:stCxn id="2252" idx="2"/>
            <a:endCxn id="2167" idx="0"/>
          </p:cNvCxnSpPr>
          <p:nvPr/>
        </p:nvCxnSpPr>
        <p:spPr>
          <a:xfrm flipH="1">
            <a:off x="4838400" y="4358880"/>
            <a:ext cx="286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49" name=""/>
          <p:cNvCxnSpPr>
            <a:stCxn id="2252" idx="2"/>
            <a:endCxn id="2234" idx="0"/>
          </p:cNvCxnSpPr>
          <p:nvPr/>
        </p:nvCxnSpPr>
        <p:spPr>
          <a:xfrm>
            <a:off x="5124240" y="4358880"/>
            <a:ext cx="3387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50" name=""/>
          <p:cNvCxnSpPr>
            <a:stCxn id="2252" idx="2"/>
            <a:endCxn id="2233" idx="0"/>
          </p:cNvCxnSpPr>
          <p:nvPr/>
        </p:nvCxnSpPr>
        <p:spPr>
          <a:xfrm>
            <a:off x="5124600" y="4358880"/>
            <a:ext cx="948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51" name=""/>
          <p:cNvCxnSpPr>
            <a:stCxn id="2252" idx="2"/>
            <a:endCxn id="2235" idx="0"/>
          </p:cNvCxnSpPr>
          <p:nvPr/>
        </p:nvCxnSpPr>
        <p:spPr>
          <a:xfrm>
            <a:off x="5124600" y="4358880"/>
            <a:ext cx="1558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52" name=""/>
          <p:cNvCxnSpPr>
            <a:stCxn id="2252" idx="2"/>
            <a:endCxn id="2236" idx="0"/>
          </p:cNvCxnSpPr>
          <p:nvPr/>
        </p:nvCxnSpPr>
        <p:spPr>
          <a:xfrm>
            <a:off x="5124240" y="4358880"/>
            <a:ext cx="2091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53" name=""/>
          <p:cNvCxnSpPr>
            <a:stCxn id="2252" idx="2"/>
            <a:endCxn id="2238" idx="0"/>
          </p:cNvCxnSpPr>
          <p:nvPr/>
        </p:nvCxnSpPr>
        <p:spPr>
          <a:xfrm>
            <a:off x="5124240" y="4358880"/>
            <a:ext cx="2701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54" name=""/>
          <p:cNvCxnSpPr>
            <a:stCxn id="2252" idx="2"/>
            <a:endCxn id="2237" idx="0"/>
          </p:cNvCxnSpPr>
          <p:nvPr/>
        </p:nvCxnSpPr>
        <p:spPr>
          <a:xfrm>
            <a:off x="5124600" y="4358880"/>
            <a:ext cx="3310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55" name=""/>
          <p:cNvCxnSpPr>
            <a:stCxn id="2252" idx="2"/>
            <a:endCxn id="2239" idx="0"/>
          </p:cNvCxnSpPr>
          <p:nvPr/>
        </p:nvCxnSpPr>
        <p:spPr>
          <a:xfrm>
            <a:off x="5124600" y="4358880"/>
            <a:ext cx="3844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356" name=""/>
          <p:cNvCxnSpPr>
            <a:stCxn id="2245" idx="2"/>
            <a:endCxn id="2083" idx="0"/>
          </p:cNvCxnSpPr>
          <p:nvPr/>
        </p:nvCxnSpPr>
        <p:spPr>
          <a:xfrm flipH="1">
            <a:off x="189720" y="853920"/>
            <a:ext cx="3243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7" name=""/>
          <p:cNvCxnSpPr>
            <a:stCxn id="2245" idx="2"/>
            <a:endCxn id="2103" idx="0"/>
          </p:cNvCxnSpPr>
          <p:nvPr/>
        </p:nvCxnSpPr>
        <p:spPr>
          <a:xfrm flipH="1">
            <a:off x="696960" y="853920"/>
            <a:ext cx="27370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8" name=""/>
          <p:cNvCxnSpPr>
            <a:stCxn id="2245" idx="2"/>
            <a:endCxn id="2109" idx="0"/>
          </p:cNvCxnSpPr>
          <p:nvPr/>
        </p:nvCxnSpPr>
        <p:spPr>
          <a:xfrm>
            <a:off x="3433680" y="853920"/>
            <a:ext cx="13788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9" name=""/>
          <p:cNvCxnSpPr>
            <a:stCxn id="2245" idx="2"/>
            <a:endCxn id="2111" idx="0"/>
          </p:cNvCxnSpPr>
          <p:nvPr/>
        </p:nvCxnSpPr>
        <p:spPr>
          <a:xfrm>
            <a:off x="3433680" y="853920"/>
            <a:ext cx="20296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0" name=""/>
          <p:cNvCxnSpPr>
            <a:stCxn id="2245" idx="2"/>
            <a:endCxn id="2110" idx="0"/>
          </p:cNvCxnSpPr>
          <p:nvPr/>
        </p:nvCxnSpPr>
        <p:spPr>
          <a:xfrm>
            <a:off x="3433320" y="853920"/>
            <a:ext cx="26391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1" name=""/>
          <p:cNvCxnSpPr>
            <a:stCxn id="2245" idx="2"/>
            <a:endCxn id="2112" idx="0"/>
          </p:cNvCxnSpPr>
          <p:nvPr/>
        </p:nvCxnSpPr>
        <p:spPr>
          <a:xfrm>
            <a:off x="3433320" y="853920"/>
            <a:ext cx="32490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2" name=""/>
          <p:cNvCxnSpPr>
            <a:stCxn id="2249" idx="2"/>
            <a:endCxn id="2129" idx="0"/>
          </p:cNvCxnSpPr>
          <p:nvPr/>
        </p:nvCxnSpPr>
        <p:spPr>
          <a:xfrm flipH="1">
            <a:off x="190080" y="2758680"/>
            <a:ext cx="316800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363" name=""/>
          <p:cNvCxnSpPr>
            <a:stCxn id="2249" idx="2"/>
            <a:endCxn id="2149" idx="0"/>
          </p:cNvCxnSpPr>
          <p:nvPr/>
        </p:nvCxnSpPr>
        <p:spPr>
          <a:xfrm flipH="1">
            <a:off x="696240" y="2758680"/>
            <a:ext cx="26614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364" name=""/>
          <p:cNvCxnSpPr>
            <a:stCxn id="2249" idx="2"/>
            <a:endCxn id="2155" idx="0"/>
          </p:cNvCxnSpPr>
          <p:nvPr/>
        </p:nvCxnSpPr>
        <p:spPr>
          <a:xfrm>
            <a:off x="3357360" y="2758680"/>
            <a:ext cx="14547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365" name=""/>
          <p:cNvCxnSpPr>
            <a:stCxn id="2249" idx="2"/>
            <a:endCxn id="2157" idx="0"/>
          </p:cNvCxnSpPr>
          <p:nvPr/>
        </p:nvCxnSpPr>
        <p:spPr>
          <a:xfrm>
            <a:off x="3357360" y="2758680"/>
            <a:ext cx="210564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366" name=""/>
          <p:cNvCxnSpPr>
            <a:stCxn id="2249" idx="2"/>
            <a:endCxn id="2123" idx="0"/>
          </p:cNvCxnSpPr>
          <p:nvPr/>
        </p:nvCxnSpPr>
        <p:spPr>
          <a:xfrm>
            <a:off x="3357360" y="2758680"/>
            <a:ext cx="27010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367" name=""/>
          <p:cNvCxnSpPr>
            <a:stCxn id="2249" idx="2"/>
            <a:endCxn id="2158" idx="0"/>
          </p:cNvCxnSpPr>
          <p:nvPr/>
        </p:nvCxnSpPr>
        <p:spPr>
          <a:xfrm>
            <a:off x="3357720" y="2758680"/>
            <a:ext cx="33249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368" name=""/>
          <p:cNvCxnSpPr>
            <a:stCxn id="2253" idx="2"/>
            <a:endCxn id="2175" idx="0"/>
          </p:cNvCxnSpPr>
          <p:nvPr/>
        </p:nvCxnSpPr>
        <p:spPr>
          <a:xfrm flipH="1">
            <a:off x="189720" y="4358880"/>
            <a:ext cx="37011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69" name=""/>
          <p:cNvCxnSpPr>
            <a:stCxn id="2253" idx="2"/>
            <a:endCxn id="2226" idx="0"/>
          </p:cNvCxnSpPr>
          <p:nvPr/>
        </p:nvCxnSpPr>
        <p:spPr>
          <a:xfrm flipH="1">
            <a:off x="696600" y="4358880"/>
            <a:ext cx="31946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70" name=""/>
          <p:cNvCxnSpPr>
            <a:stCxn id="2253" idx="2"/>
            <a:endCxn id="2232" idx="0"/>
          </p:cNvCxnSpPr>
          <p:nvPr/>
        </p:nvCxnSpPr>
        <p:spPr>
          <a:xfrm>
            <a:off x="3890880" y="4358880"/>
            <a:ext cx="92160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71" name=""/>
          <p:cNvCxnSpPr>
            <a:stCxn id="2253" idx="2"/>
            <a:endCxn id="2234" idx="0"/>
          </p:cNvCxnSpPr>
          <p:nvPr/>
        </p:nvCxnSpPr>
        <p:spPr>
          <a:xfrm>
            <a:off x="3890880" y="4358880"/>
            <a:ext cx="157248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72" name=""/>
          <p:cNvCxnSpPr>
            <a:stCxn id="2253" idx="2"/>
            <a:endCxn id="2233" idx="0"/>
          </p:cNvCxnSpPr>
          <p:nvPr/>
        </p:nvCxnSpPr>
        <p:spPr>
          <a:xfrm>
            <a:off x="3890520" y="4358880"/>
            <a:ext cx="21819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73" name=""/>
          <p:cNvCxnSpPr>
            <a:stCxn id="2253" idx="2"/>
            <a:endCxn id="2235" idx="0"/>
          </p:cNvCxnSpPr>
          <p:nvPr/>
        </p:nvCxnSpPr>
        <p:spPr>
          <a:xfrm>
            <a:off x="3890520" y="4358880"/>
            <a:ext cx="27914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/>
          <p:nvPr/>
        </p:nvSpPr>
        <p:spPr>
          <a:xfrm>
            <a:off x="7010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7620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82296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8763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648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867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362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895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505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4114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5335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1430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752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0" name=""/>
          <p:cNvCxnSpPr>
            <a:stCxn id="2386" idx="6"/>
            <a:endCxn id="2387" idx="2"/>
          </p:cNvCxnSpPr>
          <p:nvPr/>
        </p:nvCxnSpPr>
        <p:spPr>
          <a:xfrm>
            <a:off x="3808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91" name=""/>
          <p:cNvCxnSpPr>
            <a:stCxn id="2387" idx="6"/>
            <a:endCxn id="2388" idx="2"/>
          </p:cNvCxnSpPr>
          <p:nvPr/>
        </p:nvCxnSpPr>
        <p:spPr>
          <a:xfrm>
            <a:off x="9140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92" name=""/>
          <p:cNvCxnSpPr>
            <a:stCxn id="2388" idx="6"/>
            <a:endCxn id="2389" idx="2"/>
          </p:cNvCxnSpPr>
          <p:nvPr/>
        </p:nvCxnSpPr>
        <p:spPr>
          <a:xfrm>
            <a:off x="15235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93" name=""/>
          <p:cNvCxnSpPr>
            <a:stCxn id="2389" idx="6"/>
            <a:endCxn id="2382" idx="2"/>
          </p:cNvCxnSpPr>
          <p:nvPr/>
        </p:nvCxnSpPr>
        <p:spPr>
          <a:xfrm>
            <a:off x="2133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94" name=""/>
          <p:cNvCxnSpPr>
            <a:stCxn id="2382" idx="6"/>
            <a:endCxn id="2383" idx="2"/>
          </p:cNvCxnSpPr>
          <p:nvPr/>
        </p:nvCxnSpPr>
        <p:spPr>
          <a:xfrm>
            <a:off x="27428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95" name=""/>
          <p:cNvCxnSpPr>
            <a:stCxn id="2383" idx="6"/>
            <a:endCxn id="2384" idx="2"/>
          </p:cNvCxnSpPr>
          <p:nvPr/>
        </p:nvCxnSpPr>
        <p:spPr>
          <a:xfrm>
            <a:off x="3276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96" name=""/>
          <p:cNvCxnSpPr>
            <a:stCxn id="2384" idx="6"/>
            <a:endCxn id="2385" idx="2"/>
          </p:cNvCxnSpPr>
          <p:nvPr/>
        </p:nvCxnSpPr>
        <p:spPr>
          <a:xfrm>
            <a:off x="3885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97" name=""/>
          <p:cNvCxnSpPr>
            <a:stCxn id="2385" idx="6"/>
            <a:endCxn id="2378" idx="2"/>
          </p:cNvCxnSpPr>
          <p:nvPr/>
        </p:nvCxnSpPr>
        <p:spPr>
          <a:xfrm>
            <a:off x="44956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98" name=""/>
          <p:cNvCxnSpPr>
            <a:stCxn id="2378" idx="6"/>
            <a:endCxn id="2379" idx="2"/>
          </p:cNvCxnSpPr>
          <p:nvPr/>
        </p:nvCxnSpPr>
        <p:spPr>
          <a:xfrm>
            <a:off x="5028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99" name=""/>
          <p:cNvCxnSpPr>
            <a:stCxn id="2379" idx="6"/>
            <a:endCxn id="2380" idx="2"/>
          </p:cNvCxnSpPr>
          <p:nvPr/>
        </p:nvCxnSpPr>
        <p:spPr>
          <a:xfrm>
            <a:off x="56383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400" name=""/>
          <p:cNvCxnSpPr>
            <a:stCxn id="2380" idx="6"/>
            <a:endCxn id="2381" idx="2"/>
          </p:cNvCxnSpPr>
          <p:nvPr/>
        </p:nvCxnSpPr>
        <p:spPr>
          <a:xfrm>
            <a:off x="6248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401" name=""/>
          <p:cNvCxnSpPr>
            <a:stCxn id="2381" idx="6"/>
            <a:endCxn id="2374" idx="2"/>
          </p:cNvCxnSpPr>
          <p:nvPr/>
        </p:nvCxnSpPr>
        <p:spPr>
          <a:xfrm>
            <a:off x="68576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402" name=""/>
          <p:cNvCxnSpPr>
            <a:stCxn id="2374" idx="6"/>
            <a:endCxn id="2375" idx="2"/>
          </p:cNvCxnSpPr>
          <p:nvPr/>
        </p:nvCxnSpPr>
        <p:spPr>
          <a:xfrm>
            <a:off x="7391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403" name=""/>
          <p:cNvCxnSpPr>
            <a:stCxn id="2375" idx="6"/>
            <a:endCxn id="2376" idx="2"/>
          </p:cNvCxnSpPr>
          <p:nvPr/>
        </p:nvCxnSpPr>
        <p:spPr>
          <a:xfrm>
            <a:off x="80006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404" name=""/>
          <p:cNvCxnSpPr>
            <a:stCxn id="2376" idx="6"/>
            <a:endCxn id="2377" idx="2"/>
          </p:cNvCxnSpPr>
          <p:nvPr/>
        </p:nvCxnSpPr>
        <p:spPr>
          <a:xfrm>
            <a:off x="86104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405" name=""/>
          <p:cNvSpPr/>
          <p:nvPr/>
        </p:nvSpPr>
        <p:spPr>
          <a:xfrm>
            <a:off x="10713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615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1680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290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2823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433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40431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576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799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51897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409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942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8161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552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8674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010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620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82296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763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648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257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6477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362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895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505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11430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1752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6" name=""/>
          <p:cNvCxnSpPr>
            <a:stCxn id="2432" idx="6"/>
            <a:endCxn id="2433" idx="2"/>
          </p:cNvCxnSpPr>
          <p:nvPr/>
        </p:nvCxnSpPr>
        <p:spPr>
          <a:xfrm>
            <a:off x="3808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37" name=""/>
          <p:cNvCxnSpPr>
            <a:stCxn id="2433" idx="6"/>
            <a:endCxn id="2434" idx="2"/>
          </p:cNvCxnSpPr>
          <p:nvPr/>
        </p:nvCxnSpPr>
        <p:spPr>
          <a:xfrm>
            <a:off x="9140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38" name=""/>
          <p:cNvCxnSpPr>
            <a:stCxn id="2434" idx="6"/>
            <a:endCxn id="2435" idx="2"/>
          </p:cNvCxnSpPr>
          <p:nvPr/>
        </p:nvCxnSpPr>
        <p:spPr>
          <a:xfrm>
            <a:off x="15235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39" name=""/>
          <p:cNvCxnSpPr>
            <a:stCxn id="2435" idx="6"/>
            <a:endCxn id="2428" idx="2"/>
          </p:cNvCxnSpPr>
          <p:nvPr/>
        </p:nvCxnSpPr>
        <p:spPr>
          <a:xfrm>
            <a:off x="2133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0" name=""/>
          <p:cNvCxnSpPr>
            <a:stCxn id="2428" idx="6"/>
            <a:endCxn id="2429" idx="2"/>
          </p:cNvCxnSpPr>
          <p:nvPr/>
        </p:nvCxnSpPr>
        <p:spPr>
          <a:xfrm>
            <a:off x="27428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1" name=""/>
          <p:cNvCxnSpPr>
            <a:stCxn id="2429" idx="6"/>
            <a:endCxn id="2430" idx="2"/>
          </p:cNvCxnSpPr>
          <p:nvPr/>
        </p:nvCxnSpPr>
        <p:spPr>
          <a:xfrm>
            <a:off x="3276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2" name=""/>
          <p:cNvCxnSpPr>
            <a:stCxn id="2430" idx="6"/>
            <a:endCxn id="2431" idx="2"/>
          </p:cNvCxnSpPr>
          <p:nvPr/>
        </p:nvCxnSpPr>
        <p:spPr>
          <a:xfrm>
            <a:off x="3885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3" name=""/>
          <p:cNvCxnSpPr>
            <a:stCxn id="2431" idx="6"/>
            <a:endCxn id="2424" idx="2"/>
          </p:cNvCxnSpPr>
          <p:nvPr/>
        </p:nvCxnSpPr>
        <p:spPr>
          <a:xfrm>
            <a:off x="44956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4" name=""/>
          <p:cNvCxnSpPr>
            <a:stCxn id="2424" idx="6"/>
            <a:endCxn id="2425" idx="2"/>
          </p:cNvCxnSpPr>
          <p:nvPr/>
        </p:nvCxnSpPr>
        <p:spPr>
          <a:xfrm>
            <a:off x="5028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5" name=""/>
          <p:cNvCxnSpPr>
            <a:stCxn id="2425" idx="6"/>
            <a:endCxn id="2426" idx="2"/>
          </p:cNvCxnSpPr>
          <p:nvPr/>
        </p:nvCxnSpPr>
        <p:spPr>
          <a:xfrm>
            <a:off x="56383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6" name=""/>
          <p:cNvCxnSpPr>
            <a:stCxn id="2426" idx="6"/>
            <a:endCxn id="2427" idx="2"/>
          </p:cNvCxnSpPr>
          <p:nvPr/>
        </p:nvCxnSpPr>
        <p:spPr>
          <a:xfrm>
            <a:off x="6248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7" name=""/>
          <p:cNvCxnSpPr>
            <a:stCxn id="2427" idx="6"/>
            <a:endCxn id="2420" idx="2"/>
          </p:cNvCxnSpPr>
          <p:nvPr/>
        </p:nvCxnSpPr>
        <p:spPr>
          <a:xfrm>
            <a:off x="68576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8" name=""/>
          <p:cNvCxnSpPr>
            <a:stCxn id="2420" idx="6"/>
            <a:endCxn id="2421" idx="2"/>
          </p:cNvCxnSpPr>
          <p:nvPr/>
        </p:nvCxnSpPr>
        <p:spPr>
          <a:xfrm>
            <a:off x="7391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49" name=""/>
          <p:cNvCxnSpPr>
            <a:stCxn id="2421" idx="6"/>
            <a:endCxn id="2422" idx="2"/>
          </p:cNvCxnSpPr>
          <p:nvPr/>
        </p:nvCxnSpPr>
        <p:spPr>
          <a:xfrm>
            <a:off x="80006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450" name=""/>
          <p:cNvCxnSpPr>
            <a:stCxn id="2422" idx="6"/>
            <a:endCxn id="2423" idx="2"/>
          </p:cNvCxnSpPr>
          <p:nvPr/>
        </p:nvCxnSpPr>
        <p:spPr>
          <a:xfrm>
            <a:off x="86104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2451" name=""/>
          <p:cNvSpPr/>
          <p:nvPr/>
        </p:nvSpPr>
        <p:spPr>
          <a:xfrm>
            <a:off x="10713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615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680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290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823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433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0431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576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799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1897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6409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6942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8161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552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8674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7620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82296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8763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648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5257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867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477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362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895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3505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114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752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2" name=""/>
          <p:cNvCxnSpPr>
            <a:stCxn id="2478" idx="6"/>
            <a:endCxn id="2479" idx="2"/>
          </p:cNvCxnSpPr>
          <p:nvPr/>
        </p:nvCxnSpPr>
        <p:spPr>
          <a:xfrm>
            <a:off x="3808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83" name=""/>
          <p:cNvCxnSpPr>
            <a:stCxn id="2479" idx="6"/>
            <a:endCxn id="2480" idx="2"/>
          </p:cNvCxnSpPr>
          <p:nvPr/>
        </p:nvCxnSpPr>
        <p:spPr>
          <a:xfrm>
            <a:off x="9140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84" name=""/>
          <p:cNvCxnSpPr>
            <a:stCxn id="2480" idx="6"/>
            <a:endCxn id="2481" idx="2"/>
          </p:cNvCxnSpPr>
          <p:nvPr/>
        </p:nvCxnSpPr>
        <p:spPr>
          <a:xfrm>
            <a:off x="15235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85" name=""/>
          <p:cNvCxnSpPr>
            <a:stCxn id="2481" idx="6"/>
            <a:endCxn id="2474" idx="2"/>
          </p:cNvCxnSpPr>
          <p:nvPr/>
        </p:nvCxnSpPr>
        <p:spPr>
          <a:xfrm>
            <a:off x="2133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86" name=""/>
          <p:cNvCxnSpPr>
            <a:stCxn id="2474" idx="6"/>
            <a:endCxn id="2475" idx="2"/>
          </p:cNvCxnSpPr>
          <p:nvPr/>
        </p:nvCxnSpPr>
        <p:spPr>
          <a:xfrm>
            <a:off x="27428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87" name=""/>
          <p:cNvCxnSpPr>
            <a:stCxn id="2475" idx="6"/>
            <a:endCxn id="2476" idx="2"/>
          </p:cNvCxnSpPr>
          <p:nvPr/>
        </p:nvCxnSpPr>
        <p:spPr>
          <a:xfrm>
            <a:off x="3276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88" name=""/>
          <p:cNvCxnSpPr>
            <a:stCxn id="2476" idx="6"/>
            <a:endCxn id="2477" idx="2"/>
          </p:cNvCxnSpPr>
          <p:nvPr/>
        </p:nvCxnSpPr>
        <p:spPr>
          <a:xfrm>
            <a:off x="3885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89" name=""/>
          <p:cNvCxnSpPr>
            <a:stCxn id="2477" idx="6"/>
            <a:endCxn id="2470" idx="2"/>
          </p:cNvCxnSpPr>
          <p:nvPr/>
        </p:nvCxnSpPr>
        <p:spPr>
          <a:xfrm>
            <a:off x="44956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90" name=""/>
          <p:cNvCxnSpPr>
            <a:stCxn id="2470" idx="6"/>
            <a:endCxn id="2471" idx="2"/>
          </p:cNvCxnSpPr>
          <p:nvPr/>
        </p:nvCxnSpPr>
        <p:spPr>
          <a:xfrm>
            <a:off x="5028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91" name=""/>
          <p:cNvCxnSpPr>
            <a:stCxn id="2471" idx="6"/>
            <a:endCxn id="2472" idx="2"/>
          </p:cNvCxnSpPr>
          <p:nvPr/>
        </p:nvCxnSpPr>
        <p:spPr>
          <a:xfrm>
            <a:off x="56383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92" name=""/>
          <p:cNvCxnSpPr>
            <a:stCxn id="2472" idx="6"/>
            <a:endCxn id="2473" idx="2"/>
          </p:cNvCxnSpPr>
          <p:nvPr/>
        </p:nvCxnSpPr>
        <p:spPr>
          <a:xfrm>
            <a:off x="6248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93" name=""/>
          <p:cNvCxnSpPr>
            <a:stCxn id="2473" idx="6"/>
            <a:endCxn id="2466" idx="2"/>
          </p:cNvCxnSpPr>
          <p:nvPr/>
        </p:nvCxnSpPr>
        <p:spPr>
          <a:xfrm>
            <a:off x="68576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94" name=""/>
          <p:cNvCxnSpPr>
            <a:stCxn id="2466" idx="6"/>
            <a:endCxn id="2467" idx="2"/>
          </p:cNvCxnSpPr>
          <p:nvPr/>
        </p:nvCxnSpPr>
        <p:spPr>
          <a:xfrm>
            <a:off x="7391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95" name=""/>
          <p:cNvCxnSpPr>
            <a:stCxn id="2467" idx="6"/>
            <a:endCxn id="2468" idx="2"/>
          </p:cNvCxnSpPr>
          <p:nvPr/>
        </p:nvCxnSpPr>
        <p:spPr>
          <a:xfrm>
            <a:off x="80006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496" name=""/>
          <p:cNvCxnSpPr>
            <a:stCxn id="2468" idx="6"/>
            <a:endCxn id="2469" idx="2"/>
          </p:cNvCxnSpPr>
          <p:nvPr/>
        </p:nvCxnSpPr>
        <p:spPr>
          <a:xfrm>
            <a:off x="86104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2497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3" name=""/>
          <p:cNvCxnSpPr>
            <a:stCxn id="2509" idx="6"/>
            <a:endCxn id="2510" idx="2"/>
          </p:cNvCxnSpPr>
          <p:nvPr/>
        </p:nvCxnSpPr>
        <p:spPr>
          <a:xfrm>
            <a:off x="3808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4" name=""/>
          <p:cNvCxnSpPr>
            <a:stCxn id="2510" idx="6"/>
            <a:endCxn id="2511" idx="2"/>
          </p:cNvCxnSpPr>
          <p:nvPr/>
        </p:nvCxnSpPr>
        <p:spPr>
          <a:xfrm>
            <a:off x="9140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5" name=""/>
          <p:cNvCxnSpPr>
            <a:stCxn id="2511" idx="6"/>
            <a:endCxn id="2512" idx="2"/>
          </p:cNvCxnSpPr>
          <p:nvPr/>
        </p:nvCxnSpPr>
        <p:spPr>
          <a:xfrm>
            <a:off x="15235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6" name=""/>
          <p:cNvCxnSpPr>
            <a:stCxn id="2512" idx="6"/>
            <a:endCxn id="2505" idx="2"/>
          </p:cNvCxnSpPr>
          <p:nvPr/>
        </p:nvCxnSpPr>
        <p:spPr>
          <a:xfrm>
            <a:off x="2133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7" name=""/>
          <p:cNvCxnSpPr>
            <a:stCxn id="2505" idx="6"/>
            <a:endCxn id="2506" idx="2"/>
          </p:cNvCxnSpPr>
          <p:nvPr/>
        </p:nvCxnSpPr>
        <p:spPr>
          <a:xfrm>
            <a:off x="27428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8" name=""/>
          <p:cNvCxnSpPr>
            <a:stCxn id="2506" idx="6"/>
            <a:endCxn id="2507" idx="2"/>
          </p:cNvCxnSpPr>
          <p:nvPr/>
        </p:nvCxnSpPr>
        <p:spPr>
          <a:xfrm>
            <a:off x="3276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9" name=""/>
          <p:cNvCxnSpPr>
            <a:stCxn id="2507" idx="6"/>
            <a:endCxn id="2508" idx="2"/>
          </p:cNvCxnSpPr>
          <p:nvPr/>
        </p:nvCxnSpPr>
        <p:spPr>
          <a:xfrm>
            <a:off x="3885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20" name=""/>
          <p:cNvCxnSpPr>
            <a:stCxn id="2508" idx="6"/>
            <a:endCxn id="2501" idx="2"/>
          </p:cNvCxnSpPr>
          <p:nvPr/>
        </p:nvCxnSpPr>
        <p:spPr>
          <a:xfrm>
            <a:off x="44956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21" name=""/>
          <p:cNvCxnSpPr>
            <a:stCxn id="2501" idx="6"/>
            <a:endCxn id="2502" idx="2"/>
          </p:cNvCxnSpPr>
          <p:nvPr/>
        </p:nvCxnSpPr>
        <p:spPr>
          <a:xfrm>
            <a:off x="5028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22" name=""/>
          <p:cNvCxnSpPr>
            <a:stCxn id="2502" idx="6"/>
            <a:endCxn id="2503" idx="2"/>
          </p:cNvCxnSpPr>
          <p:nvPr/>
        </p:nvCxnSpPr>
        <p:spPr>
          <a:xfrm>
            <a:off x="56383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23" name=""/>
          <p:cNvCxnSpPr>
            <a:stCxn id="2503" idx="6"/>
            <a:endCxn id="2504" idx="2"/>
          </p:cNvCxnSpPr>
          <p:nvPr/>
        </p:nvCxnSpPr>
        <p:spPr>
          <a:xfrm>
            <a:off x="6248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24" name=""/>
          <p:cNvCxnSpPr>
            <a:stCxn id="2504" idx="6"/>
            <a:endCxn id="2497" idx="2"/>
          </p:cNvCxnSpPr>
          <p:nvPr/>
        </p:nvCxnSpPr>
        <p:spPr>
          <a:xfrm>
            <a:off x="68576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25" name=""/>
          <p:cNvCxnSpPr>
            <a:stCxn id="2497" idx="6"/>
            <a:endCxn id="2498" idx="2"/>
          </p:cNvCxnSpPr>
          <p:nvPr/>
        </p:nvCxnSpPr>
        <p:spPr>
          <a:xfrm>
            <a:off x="7391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26" name=""/>
          <p:cNvCxnSpPr>
            <a:stCxn id="2498" idx="6"/>
            <a:endCxn id="2499" idx="2"/>
          </p:cNvCxnSpPr>
          <p:nvPr/>
        </p:nvCxnSpPr>
        <p:spPr>
          <a:xfrm>
            <a:off x="80006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27" name=""/>
          <p:cNvCxnSpPr>
            <a:stCxn id="2499" idx="6"/>
            <a:endCxn id="2500" idx="2"/>
          </p:cNvCxnSpPr>
          <p:nvPr/>
        </p:nvCxnSpPr>
        <p:spPr>
          <a:xfrm>
            <a:off x="86104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528" name=""/>
          <p:cNvSpPr/>
          <p:nvPr/>
        </p:nvSpPr>
        <p:spPr>
          <a:xfrm>
            <a:off x="10713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615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680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290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823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433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0431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576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799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897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409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942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81615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7552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8695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276720" y="45720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410080" y="457200"/>
            <a:ext cx="38124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335200" y="457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3201480" y="457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200400" y="23623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562720" y="2362320"/>
            <a:ext cx="380880" cy="3808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48748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125520" y="2362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733920" y="39625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878000" y="3962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658680" y="3962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7" name=""/>
          <p:cNvCxnSpPr>
            <a:stCxn id="2544" idx="1"/>
            <a:endCxn id="2548" idx="0"/>
          </p:cNvCxnSpPr>
          <p:nvPr/>
        </p:nvCxnSpPr>
        <p:spPr>
          <a:xfrm flipH="1">
            <a:off x="3433320" y="198000"/>
            <a:ext cx="758160" cy="2595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558" name=""/>
          <p:cNvCxnSpPr>
            <a:stCxn id="2544" idx="3"/>
            <a:endCxn id="2547" idx="0"/>
          </p:cNvCxnSpPr>
          <p:nvPr/>
        </p:nvCxnSpPr>
        <p:spPr>
          <a:xfrm>
            <a:off x="4545000" y="198000"/>
            <a:ext cx="1037520" cy="2595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559" name=""/>
          <p:cNvCxnSpPr>
            <a:stCxn id="2544" idx="2"/>
            <a:endCxn id="2552" idx="0"/>
          </p:cNvCxnSpPr>
          <p:nvPr/>
        </p:nvCxnSpPr>
        <p:spPr>
          <a:xfrm flipH="1">
            <a:off x="3357000" y="396720"/>
            <a:ext cx="1011960" cy="19663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560" name=""/>
          <p:cNvCxnSpPr>
            <a:stCxn id="2544" idx="2"/>
            <a:endCxn id="2551" idx="0"/>
          </p:cNvCxnSpPr>
          <p:nvPr/>
        </p:nvCxnSpPr>
        <p:spPr>
          <a:xfrm>
            <a:off x="4368960" y="396720"/>
            <a:ext cx="1365840" cy="19663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561" name=""/>
          <p:cNvCxnSpPr>
            <a:stCxn id="2544" idx="2"/>
            <a:endCxn id="2556" idx="0"/>
          </p:cNvCxnSpPr>
          <p:nvPr/>
        </p:nvCxnSpPr>
        <p:spPr>
          <a:xfrm flipH="1">
            <a:off x="3890520" y="396360"/>
            <a:ext cx="478800" cy="35665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562" name=""/>
          <p:cNvCxnSpPr>
            <a:stCxn id="2544" idx="2"/>
            <a:endCxn id="2555" idx="0"/>
          </p:cNvCxnSpPr>
          <p:nvPr/>
        </p:nvCxnSpPr>
        <p:spPr>
          <a:xfrm>
            <a:off x="4368600" y="396360"/>
            <a:ext cx="756360" cy="35665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563" name=""/>
          <p:cNvCxnSpPr>
            <a:stCxn id="2386" idx="4"/>
          </p:cNvCxnSpPr>
          <p:nvPr/>
        </p:nvCxnSpPr>
        <p:spPr>
          <a:xfrm>
            <a:off x="190440" y="213336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64" name=""/>
          <p:cNvCxnSpPr>
            <a:stCxn id="2406" idx="2"/>
            <a:endCxn id="2510" idx="0"/>
          </p:cNvCxnSpPr>
          <p:nvPr/>
        </p:nvCxnSpPr>
        <p:spPr>
          <a:xfrm>
            <a:off x="6966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65" name=""/>
          <p:cNvCxnSpPr>
            <a:stCxn id="2388" idx="4"/>
            <a:endCxn id="2511" idx="0"/>
          </p:cNvCxnSpPr>
          <p:nvPr/>
        </p:nvCxnSpPr>
        <p:spPr>
          <a:xfrm>
            <a:off x="133308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66" name=""/>
          <p:cNvCxnSpPr>
            <a:stCxn id="2407" idx="2"/>
            <a:endCxn id="2512" idx="0"/>
          </p:cNvCxnSpPr>
          <p:nvPr/>
        </p:nvCxnSpPr>
        <p:spPr>
          <a:xfrm>
            <a:off x="1915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67" name=""/>
          <p:cNvCxnSpPr>
            <a:stCxn id="2408" idx="2"/>
            <a:endCxn id="2505" idx="0"/>
          </p:cNvCxnSpPr>
          <p:nvPr/>
        </p:nvCxnSpPr>
        <p:spPr>
          <a:xfrm>
            <a:off x="2525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68" name=""/>
          <p:cNvCxnSpPr>
            <a:stCxn id="2409" idx="2"/>
            <a:endCxn id="2506" idx="0"/>
          </p:cNvCxnSpPr>
          <p:nvPr/>
        </p:nvCxnSpPr>
        <p:spPr>
          <a:xfrm>
            <a:off x="3058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69" name=""/>
          <p:cNvCxnSpPr>
            <a:stCxn id="2410" idx="2"/>
            <a:endCxn id="2507" idx="0"/>
          </p:cNvCxnSpPr>
          <p:nvPr/>
        </p:nvCxnSpPr>
        <p:spPr>
          <a:xfrm>
            <a:off x="3668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0" name=""/>
          <p:cNvCxnSpPr>
            <a:stCxn id="2411" idx="2"/>
            <a:endCxn id="2508" idx="0"/>
          </p:cNvCxnSpPr>
          <p:nvPr/>
        </p:nvCxnSpPr>
        <p:spPr>
          <a:xfrm>
            <a:off x="427788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1" name=""/>
          <p:cNvCxnSpPr>
            <a:stCxn id="2412" idx="2"/>
            <a:endCxn id="2501" idx="0"/>
          </p:cNvCxnSpPr>
          <p:nvPr/>
        </p:nvCxnSpPr>
        <p:spPr>
          <a:xfrm>
            <a:off x="4811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2" name=""/>
          <p:cNvCxnSpPr>
            <a:stCxn id="2414" idx="2"/>
            <a:endCxn id="2502" idx="0"/>
          </p:cNvCxnSpPr>
          <p:nvPr/>
        </p:nvCxnSpPr>
        <p:spPr>
          <a:xfrm flipH="1">
            <a:off x="54478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3" name=""/>
          <p:cNvCxnSpPr>
            <a:stCxn id="2380" idx="4"/>
            <a:endCxn id="2503" idx="0"/>
          </p:cNvCxnSpPr>
          <p:nvPr/>
        </p:nvCxnSpPr>
        <p:spPr>
          <a:xfrm>
            <a:off x="605772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4" name=""/>
          <p:cNvCxnSpPr>
            <a:stCxn id="2415" idx="2"/>
            <a:endCxn id="2504" idx="0"/>
          </p:cNvCxnSpPr>
          <p:nvPr/>
        </p:nvCxnSpPr>
        <p:spPr>
          <a:xfrm flipH="1">
            <a:off x="6667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5" name=""/>
          <p:cNvCxnSpPr>
            <a:stCxn id="2416" idx="2"/>
            <a:endCxn id="2497" idx="0"/>
          </p:cNvCxnSpPr>
          <p:nvPr/>
        </p:nvCxnSpPr>
        <p:spPr>
          <a:xfrm flipH="1">
            <a:off x="7200360" y="214920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6" name=""/>
          <p:cNvCxnSpPr>
            <a:stCxn id="2418" idx="2"/>
            <a:endCxn id="2498" idx="0"/>
          </p:cNvCxnSpPr>
          <p:nvPr/>
        </p:nvCxnSpPr>
        <p:spPr>
          <a:xfrm flipH="1">
            <a:off x="7810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7" name=""/>
          <p:cNvCxnSpPr>
            <a:stCxn id="2417" idx="2"/>
            <a:endCxn id="2499" idx="0"/>
          </p:cNvCxnSpPr>
          <p:nvPr/>
        </p:nvCxnSpPr>
        <p:spPr>
          <a:xfrm flipH="1">
            <a:off x="84196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8" name=""/>
          <p:cNvCxnSpPr>
            <a:stCxn id="2419" idx="2"/>
            <a:endCxn id="2500" idx="0"/>
          </p:cNvCxnSpPr>
          <p:nvPr/>
        </p:nvCxnSpPr>
        <p:spPr>
          <a:xfrm>
            <a:off x="8947080" y="214920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79" name=""/>
          <p:cNvCxnSpPr>
            <a:stCxn id="2432" idx="4"/>
            <a:endCxn id="2509" idx="1"/>
          </p:cNvCxnSpPr>
          <p:nvPr/>
        </p:nvCxnSpPr>
        <p:spPr>
          <a:xfrm flipH="1">
            <a:off x="547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0" name=""/>
          <p:cNvCxnSpPr>
            <a:stCxn id="2452" idx="2"/>
          </p:cNvCxnSpPr>
          <p:nvPr/>
        </p:nvCxnSpPr>
        <p:spPr>
          <a:xfrm flipH="1">
            <a:off x="610920" y="3825720"/>
            <a:ext cx="86400" cy="268704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1" name=""/>
          <p:cNvCxnSpPr>
            <a:stCxn id="2451" idx="2"/>
            <a:endCxn id="2511" idx="1"/>
          </p:cNvCxnSpPr>
          <p:nvPr/>
        </p:nvCxnSpPr>
        <p:spPr>
          <a:xfrm flipH="1">
            <a:off x="119808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2" name=""/>
          <p:cNvCxnSpPr>
            <a:stCxn id="2453" idx="2"/>
            <a:endCxn id="2512" idx="1"/>
          </p:cNvCxnSpPr>
          <p:nvPr/>
        </p:nvCxnSpPr>
        <p:spPr>
          <a:xfrm flipH="1">
            <a:off x="1807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3" name=""/>
          <p:cNvCxnSpPr>
            <a:stCxn id="2454" idx="2"/>
            <a:endCxn id="2505" idx="1"/>
          </p:cNvCxnSpPr>
          <p:nvPr/>
        </p:nvCxnSpPr>
        <p:spPr>
          <a:xfrm flipH="1">
            <a:off x="2417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4" name=""/>
          <p:cNvCxnSpPr>
            <a:stCxn id="2455" idx="2"/>
            <a:endCxn id="2506" idx="1"/>
          </p:cNvCxnSpPr>
          <p:nvPr/>
        </p:nvCxnSpPr>
        <p:spPr>
          <a:xfrm flipH="1">
            <a:off x="2950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5" name=""/>
          <p:cNvCxnSpPr>
            <a:stCxn id="2456" idx="2"/>
            <a:endCxn id="2507" idx="1"/>
          </p:cNvCxnSpPr>
          <p:nvPr/>
        </p:nvCxnSpPr>
        <p:spPr>
          <a:xfrm flipH="1">
            <a:off x="3560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6" name=""/>
          <p:cNvCxnSpPr>
            <a:stCxn id="2431" idx="4"/>
            <a:endCxn id="2508" idx="1"/>
          </p:cNvCxnSpPr>
          <p:nvPr/>
        </p:nvCxnSpPr>
        <p:spPr>
          <a:xfrm flipH="1">
            <a:off x="41695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7" name=""/>
          <p:cNvCxnSpPr>
            <a:stCxn id="2458" idx="2"/>
            <a:endCxn id="2501" idx="1"/>
          </p:cNvCxnSpPr>
          <p:nvPr/>
        </p:nvCxnSpPr>
        <p:spPr>
          <a:xfrm flipH="1">
            <a:off x="4703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8" name=""/>
          <p:cNvCxnSpPr>
            <a:stCxn id="2460" idx="2"/>
            <a:endCxn id="2502" idx="1"/>
          </p:cNvCxnSpPr>
          <p:nvPr/>
        </p:nvCxnSpPr>
        <p:spPr>
          <a:xfrm flipH="1">
            <a:off x="53125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89" name=""/>
          <p:cNvCxnSpPr>
            <a:stCxn id="2459" idx="2"/>
            <a:endCxn id="2503" idx="1"/>
          </p:cNvCxnSpPr>
          <p:nvPr/>
        </p:nvCxnSpPr>
        <p:spPr>
          <a:xfrm flipH="1">
            <a:off x="5922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90" name=""/>
          <p:cNvCxnSpPr>
            <a:stCxn id="2461" idx="2"/>
            <a:endCxn id="2504" idx="1"/>
          </p:cNvCxnSpPr>
          <p:nvPr/>
        </p:nvCxnSpPr>
        <p:spPr>
          <a:xfrm flipH="1">
            <a:off x="653184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91" name=""/>
          <p:cNvCxnSpPr>
            <a:stCxn id="2462" idx="2"/>
            <a:endCxn id="2497" idx="1"/>
          </p:cNvCxnSpPr>
          <p:nvPr/>
        </p:nvCxnSpPr>
        <p:spPr>
          <a:xfrm flipH="1">
            <a:off x="7065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92" name=""/>
          <p:cNvCxnSpPr>
            <a:stCxn id="2421" idx="4"/>
            <a:endCxn id="2498" idx="1"/>
          </p:cNvCxnSpPr>
          <p:nvPr/>
        </p:nvCxnSpPr>
        <p:spPr>
          <a:xfrm flipH="1">
            <a:off x="767484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93" name=""/>
          <p:cNvCxnSpPr>
            <a:stCxn id="2463" idx="2"/>
            <a:endCxn id="2499" idx="1"/>
          </p:cNvCxnSpPr>
          <p:nvPr/>
        </p:nvCxnSpPr>
        <p:spPr>
          <a:xfrm flipH="1">
            <a:off x="82843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94" name=""/>
          <p:cNvCxnSpPr>
            <a:stCxn id="2465" idx="2"/>
            <a:endCxn id="2500" idx="1"/>
          </p:cNvCxnSpPr>
          <p:nvPr/>
        </p:nvCxnSpPr>
        <p:spPr>
          <a:xfrm flipH="1">
            <a:off x="8817840" y="382536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595" name=""/>
          <p:cNvCxnSpPr>
            <a:stCxn id="2478" idx="4"/>
            <a:endCxn id="2509" idx="7"/>
          </p:cNvCxnSpPr>
          <p:nvPr/>
        </p:nvCxnSpPr>
        <p:spPr>
          <a:xfrm>
            <a:off x="1900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596" name=""/>
          <p:cNvCxnSpPr>
            <a:stCxn id="2479" idx="4"/>
            <a:endCxn id="2510" idx="7"/>
          </p:cNvCxnSpPr>
          <p:nvPr/>
        </p:nvCxnSpPr>
        <p:spPr>
          <a:xfrm>
            <a:off x="7236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597" name=""/>
          <p:cNvCxnSpPr>
            <a:stCxn id="2528" idx="2"/>
            <a:endCxn id="2511" idx="7"/>
          </p:cNvCxnSpPr>
          <p:nvPr/>
        </p:nvCxnSpPr>
        <p:spPr>
          <a:xfrm>
            <a:off x="130644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598" name=""/>
          <p:cNvCxnSpPr>
            <a:stCxn id="2530" idx="2"/>
            <a:endCxn id="2512" idx="7"/>
          </p:cNvCxnSpPr>
          <p:nvPr/>
        </p:nvCxnSpPr>
        <p:spPr>
          <a:xfrm>
            <a:off x="1915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599" name=""/>
          <p:cNvCxnSpPr>
            <a:stCxn id="2531" idx="2"/>
            <a:endCxn id="2505" idx="7"/>
          </p:cNvCxnSpPr>
          <p:nvPr/>
        </p:nvCxnSpPr>
        <p:spPr>
          <a:xfrm>
            <a:off x="2525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0" name=""/>
          <p:cNvCxnSpPr>
            <a:stCxn id="2532" idx="2"/>
            <a:endCxn id="2506" idx="7"/>
          </p:cNvCxnSpPr>
          <p:nvPr/>
        </p:nvCxnSpPr>
        <p:spPr>
          <a:xfrm>
            <a:off x="3058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1" name=""/>
          <p:cNvCxnSpPr>
            <a:stCxn id="2533" idx="2"/>
            <a:endCxn id="2507" idx="7"/>
          </p:cNvCxnSpPr>
          <p:nvPr/>
        </p:nvCxnSpPr>
        <p:spPr>
          <a:xfrm>
            <a:off x="3668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2" name=""/>
          <p:cNvCxnSpPr>
            <a:stCxn id="2477" idx="4"/>
            <a:endCxn id="2508" idx="7"/>
          </p:cNvCxnSpPr>
          <p:nvPr/>
        </p:nvCxnSpPr>
        <p:spPr>
          <a:xfrm>
            <a:off x="4304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3" name=""/>
          <p:cNvCxnSpPr>
            <a:stCxn id="2470" idx="4"/>
            <a:endCxn id="2501" idx="7"/>
          </p:cNvCxnSpPr>
          <p:nvPr/>
        </p:nvCxnSpPr>
        <p:spPr>
          <a:xfrm>
            <a:off x="48384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4" name=""/>
          <p:cNvCxnSpPr>
            <a:stCxn id="2471" idx="4"/>
            <a:endCxn id="2502" idx="7"/>
          </p:cNvCxnSpPr>
          <p:nvPr/>
        </p:nvCxnSpPr>
        <p:spPr>
          <a:xfrm>
            <a:off x="5447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5" name=""/>
          <p:cNvCxnSpPr>
            <a:stCxn id="2536" idx="2"/>
            <a:endCxn id="2503" idx="7"/>
          </p:cNvCxnSpPr>
          <p:nvPr/>
        </p:nvCxnSpPr>
        <p:spPr>
          <a:xfrm>
            <a:off x="6071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6" name=""/>
          <p:cNvCxnSpPr>
            <a:stCxn id="2538" idx="2"/>
            <a:endCxn id="2504" idx="7"/>
          </p:cNvCxnSpPr>
          <p:nvPr/>
        </p:nvCxnSpPr>
        <p:spPr>
          <a:xfrm>
            <a:off x="6681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7" name=""/>
          <p:cNvCxnSpPr>
            <a:stCxn id="2539" idx="2"/>
            <a:endCxn id="2497" idx="7"/>
          </p:cNvCxnSpPr>
          <p:nvPr/>
        </p:nvCxnSpPr>
        <p:spPr>
          <a:xfrm>
            <a:off x="7214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8" name=""/>
          <p:cNvCxnSpPr>
            <a:stCxn id="2541" idx="2"/>
            <a:endCxn id="2498" idx="7"/>
          </p:cNvCxnSpPr>
          <p:nvPr/>
        </p:nvCxnSpPr>
        <p:spPr>
          <a:xfrm>
            <a:off x="7824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09" name=""/>
          <p:cNvCxnSpPr>
            <a:stCxn id="2540" idx="2"/>
            <a:endCxn id="2499" idx="7"/>
          </p:cNvCxnSpPr>
          <p:nvPr/>
        </p:nvCxnSpPr>
        <p:spPr>
          <a:xfrm>
            <a:off x="843408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10" name=""/>
          <p:cNvCxnSpPr>
            <a:stCxn id="2542" idx="2"/>
            <a:endCxn id="2500" idx="7"/>
          </p:cNvCxnSpPr>
          <p:nvPr/>
        </p:nvCxnSpPr>
        <p:spPr>
          <a:xfrm>
            <a:off x="8967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2611" name=""/>
          <p:cNvCxnSpPr>
            <a:stCxn id="2547" idx="2"/>
            <a:endCxn id="2386" idx="0"/>
          </p:cNvCxnSpPr>
          <p:nvPr/>
        </p:nvCxnSpPr>
        <p:spPr>
          <a:xfrm flipH="1">
            <a:off x="190080" y="853920"/>
            <a:ext cx="5392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2" name=""/>
          <p:cNvCxnSpPr>
            <a:stCxn id="2547" idx="2"/>
            <a:endCxn id="2406" idx="0"/>
          </p:cNvCxnSpPr>
          <p:nvPr/>
        </p:nvCxnSpPr>
        <p:spPr>
          <a:xfrm flipH="1">
            <a:off x="696240" y="853920"/>
            <a:ext cx="48855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3" name=""/>
          <p:cNvCxnSpPr>
            <a:stCxn id="2547" idx="2"/>
            <a:endCxn id="2405" idx="0"/>
          </p:cNvCxnSpPr>
          <p:nvPr/>
        </p:nvCxnSpPr>
        <p:spPr>
          <a:xfrm flipH="1">
            <a:off x="1306080" y="853920"/>
            <a:ext cx="4276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4" name=""/>
          <p:cNvCxnSpPr>
            <a:stCxn id="2547" idx="2"/>
            <a:endCxn id="2407" idx="0"/>
          </p:cNvCxnSpPr>
          <p:nvPr/>
        </p:nvCxnSpPr>
        <p:spPr>
          <a:xfrm flipH="1">
            <a:off x="1915920" y="853920"/>
            <a:ext cx="3666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5" name=""/>
          <p:cNvCxnSpPr>
            <a:stCxn id="2547" idx="2"/>
            <a:endCxn id="2408" idx="0"/>
          </p:cNvCxnSpPr>
          <p:nvPr/>
        </p:nvCxnSpPr>
        <p:spPr>
          <a:xfrm flipH="1">
            <a:off x="2525040" y="853920"/>
            <a:ext cx="305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6" name=""/>
          <p:cNvCxnSpPr>
            <a:stCxn id="2547" idx="2"/>
            <a:endCxn id="2409" idx="0"/>
          </p:cNvCxnSpPr>
          <p:nvPr/>
        </p:nvCxnSpPr>
        <p:spPr>
          <a:xfrm flipH="1">
            <a:off x="3058560" y="853920"/>
            <a:ext cx="2523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7" name=""/>
          <p:cNvCxnSpPr>
            <a:stCxn id="2547" idx="2"/>
            <a:endCxn id="2384" idx="0"/>
          </p:cNvCxnSpPr>
          <p:nvPr/>
        </p:nvCxnSpPr>
        <p:spPr>
          <a:xfrm flipH="1">
            <a:off x="3695040" y="853920"/>
            <a:ext cx="188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8" name=""/>
          <p:cNvCxnSpPr>
            <a:stCxn id="2547" idx="2"/>
            <a:endCxn id="2385" idx="0"/>
          </p:cNvCxnSpPr>
          <p:nvPr/>
        </p:nvCxnSpPr>
        <p:spPr>
          <a:xfrm flipH="1">
            <a:off x="4305240" y="853920"/>
            <a:ext cx="127692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9" name=""/>
          <p:cNvCxnSpPr>
            <a:stCxn id="2547" idx="2"/>
            <a:endCxn id="2378" idx="0"/>
          </p:cNvCxnSpPr>
          <p:nvPr/>
        </p:nvCxnSpPr>
        <p:spPr>
          <a:xfrm flipH="1">
            <a:off x="4838400" y="853920"/>
            <a:ext cx="743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0" name=""/>
          <p:cNvCxnSpPr>
            <a:stCxn id="2547" idx="2"/>
            <a:endCxn id="2379" idx="0"/>
          </p:cNvCxnSpPr>
          <p:nvPr/>
        </p:nvCxnSpPr>
        <p:spPr>
          <a:xfrm flipH="1">
            <a:off x="5447520" y="853920"/>
            <a:ext cx="1342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1" name=""/>
          <p:cNvCxnSpPr>
            <a:stCxn id="2547" idx="2"/>
            <a:endCxn id="2380" idx="0"/>
          </p:cNvCxnSpPr>
          <p:nvPr/>
        </p:nvCxnSpPr>
        <p:spPr>
          <a:xfrm>
            <a:off x="5581440" y="853920"/>
            <a:ext cx="477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2" name=""/>
          <p:cNvCxnSpPr>
            <a:stCxn id="2547" idx="2"/>
            <a:endCxn id="2381" idx="0"/>
          </p:cNvCxnSpPr>
          <p:nvPr/>
        </p:nvCxnSpPr>
        <p:spPr>
          <a:xfrm>
            <a:off x="5581800" y="853920"/>
            <a:ext cx="10864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3" name=""/>
          <p:cNvCxnSpPr>
            <a:stCxn id="2547" idx="2"/>
            <a:endCxn id="2374" idx="0"/>
          </p:cNvCxnSpPr>
          <p:nvPr/>
        </p:nvCxnSpPr>
        <p:spPr>
          <a:xfrm>
            <a:off x="5581800" y="853920"/>
            <a:ext cx="1620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4" name=""/>
          <p:cNvCxnSpPr>
            <a:stCxn id="2547" idx="2"/>
            <a:endCxn id="2418" idx="0"/>
          </p:cNvCxnSpPr>
          <p:nvPr/>
        </p:nvCxnSpPr>
        <p:spPr>
          <a:xfrm>
            <a:off x="5581440" y="853920"/>
            <a:ext cx="22438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5" name=""/>
          <p:cNvCxnSpPr>
            <a:stCxn id="2547" idx="2"/>
            <a:endCxn id="2417" idx="0"/>
          </p:cNvCxnSpPr>
          <p:nvPr/>
        </p:nvCxnSpPr>
        <p:spPr>
          <a:xfrm>
            <a:off x="5581800" y="853920"/>
            <a:ext cx="28533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6" name=""/>
          <p:cNvCxnSpPr>
            <a:stCxn id="2547" idx="2"/>
            <a:endCxn id="2419" idx="0"/>
          </p:cNvCxnSpPr>
          <p:nvPr/>
        </p:nvCxnSpPr>
        <p:spPr>
          <a:xfrm>
            <a:off x="5581800" y="853920"/>
            <a:ext cx="3366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7" name=""/>
          <p:cNvCxnSpPr>
            <a:stCxn id="2551" idx="2"/>
            <a:endCxn id="2432" idx="0"/>
          </p:cNvCxnSpPr>
          <p:nvPr/>
        </p:nvCxnSpPr>
        <p:spPr>
          <a:xfrm flipH="1">
            <a:off x="190080" y="2758680"/>
            <a:ext cx="55440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28" name=""/>
          <p:cNvCxnSpPr>
            <a:stCxn id="2551" idx="2"/>
            <a:endCxn id="2452" idx="0"/>
          </p:cNvCxnSpPr>
          <p:nvPr/>
        </p:nvCxnSpPr>
        <p:spPr>
          <a:xfrm flipH="1">
            <a:off x="696600" y="2758680"/>
            <a:ext cx="50378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29" name=""/>
          <p:cNvCxnSpPr>
            <a:stCxn id="2551" idx="2"/>
            <a:endCxn id="2451" idx="0"/>
          </p:cNvCxnSpPr>
          <p:nvPr/>
        </p:nvCxnSpPr>
        <p:spPr>
          <a:xfrm flipH="1">
            <a:off x="1305720" y="2758680"/>
            <a:ext cx="44283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0" name=""/>
          <p:cNvCxnSpPr>
            <a:stCxn id="2551" idx="2"/>
            <a:endCxn id="2453" idx="0"/>
          </p:cNvCxnSpPr>
          <p:nvPr/>
        </p:nvCxnSpPr>
        <p:spPr>
          <a:xfrm flipH="1">
            <a:off x="1915560" y="2758680"/>
            <a:ext cx="38185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1" name=""/>
          <p:cNvCxnSpPr>
            <a:stCxn id="2551" idx="2"/>
            <a:endCxn id="2454" idx="0"/>
          </p:cNvCxnSpPr>
          <p:nvPr/>
        </p:nvCxnSpPr>
        <p:spPr>
          <a:xfrm flipH="1">
            <a:off x="2525400" y="2758680"/>
            <a:ext cx="3209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2" name=""/>
          <p:cNvCxnSpPr>
            <a:stCxn id="2551" idx="2"/>
            <a:endCxn id="2455" idx="0"/>
          </p:cNvCxnSpPr>
          <p:nvPr/>
        </p:nvCxnSpPr>
        <p:spPr>
          <a:xfrm flipH="1">
            <a:off x="3058920" y="2758680"/>
            <a:ext cx="26755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3" name=""/>
          <p:cNvCxnSpPr>
            <a:stCxn id="2551" idx="2"/>
            <a:endCxn id="2456" idx="0"/>
          </p:cNvCxnSpPr>
          <p:nvPr/>
        </p:nvCxnSpPr>
        <p:spPr>
          <a:xfrm flipH="1">
            <a:off x="3668040" y="2758680"/>
            <a:ext cx="2066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4" name=""/>
          <p:cNvCxnSpPr>
            <a:stCxn id="2551" idx="2"/>
            <a:endCxn id="2457" idx="0"/>
          </p:cNvCxnSpPr>
          <p:nvPr/>
        </p:nvCxnSpPr>
        <p:spPr>
          <a:xfrm flipH="1">
            <a:off x="4277880" y="2758680"/>
            <a:ext cx="14565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5" name=""/>
          <p:cNvCxnSpPr>
            <a:stCxn id="2551" idx="2"/>
            <a:endCxn id="2458" idx="0"/>
          </p:cNvCxnSpPr>
          <p:nvPr/>
        </p:nvCxnSpPr>
        <p:spPr>
          <a:xfrm flipH="1">
            <a:off x="4811400" y="2758680"/>
            <a:ext cx="923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6" name=""/>
          <p:cNvCxnSpPr>
            <a:stCxn id="2551" idx="2"/>
            <a:endCxn id="2460" idx="0"/>
          </p:cNvCxnSpPr>
          <p:nvPr/>
        </p:nvCxnSpPr>
        <p:spPr>
          <a:xfrm flipH="1">
            <a:off x="5462280" y="2758680"/>
            <a:ext cx="2721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7" name=""/>
          <p:cNvCxnSpPr>
            <a:stCxn id="2551" idx="2"/>
            <a:endCxn id="2459" idx="0"/>
          </p:cNvCxnSpPr>
          <p:nvPr/>
        </p:nvCxnSpPr>
        <p:spPr>
          <a:xfrm>
            <a:off x="5733720" y="2758680"/>
            <a:ext cx="3387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8" name=""/>
          <p:cNvCxnSpPr>
            <a:stCxn id="2551" idx="2"/>
            <a:endCxn id="2427" idx="0"/>
          </p:cNvCxnSpPr>
          <p:nvPr/>
        </p:nvCxnSpPr>
        <p:spPr>
          <a:xfrm>
            <a:off x="5733720" y="2758680"/>
            <a:ext cx="9342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39" name=""/>
          <p:cNvCxnSpPr>
            <a:stCxn id="2551" idx="2"/>
            <a:endCxn id="2462" idx="0"/>
          </p:cNvCxnSpPr>
          <p:nvPr/>
        </p:nvCxnSpPr>
        <p:spPr>
          <a:xfrm>
            <a:off x="5734080" y="2758680"/>
            <a:ext cx="14817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40" name=""/>
          <p:cNvCxnSpPr>
            <a:stCxn id="2551" idx="2"/>
            <a:endCxn id="2464" idx="0"/>
          </p:cNvCxnSpPr>
          <p:nvPr/>
        </p:nvCxnSpPr>
        <p:spPr>
          <a:xfrm>
            <a:off x="5734080" y="2758680"/>
            <a:ext cx="20916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41" name=""/>
          <p:cNvCxnSpPr>
            <a:stCxn id="2551" idx="2"/>
            <a:endCxn id="2463" idx="0"/>
          </p:cNvCxnSpPr>
          <p:nvPr/>
        </p:nvCxnSpPr>
        <p:spPr>
          <a:xfrm>
            <a:off x="5733720" y="2758680"/>
            <a:ext cx="270108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42" name=""/>
          <p:cNvCxnSpPr>
            <a:stCxn id="2551" idx="2"/>
            <a:endCxn id="2465" idx="0"/>
          </p:cNvCxnSpPr>
          <p:nvPr/>
        </p:nvCxnSpPr>
        <p:spPr>
          <a:xfrm>
            <a:off x="5733720" y="2758680"/>
            <a:ext cx="32137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43" name=""/>
          <p:cNvCxnSpPr>
            <a:stCxn id="2555" idx="2"/>
            <a:endCxn id="2478" idx="0"/>
          </p:cNvCxnSpPr>
          <p:nvPr/>
        </p:nvCxnSpPr>
        <p:spPr>
          <a:xfrm flipH="1">
            <a:off x="190080" y="4358880"/>
            <a:ext cx="4934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44" name=""/>
          <p:cNvCxnSpPr>
            <a:stCxn id="2555" idx="2"/>
            <a:endCxn id="2529" idx="0"/>
          </p:cNvCxnSpPr>
          <p:nvPr/>
        </p:nvCxnSpPr>
        <p:spPr>
          <a:xfrm flipH="1">
            <a:off x="696240" y="4358880"/>
            <a:ext cx="44283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45" name=""/>
          <p:cNvCxnSpPr>
            <a:stCxn id="2555" idx="2"/>
            <a:endCxn id="2528" idx="0"/>
          </p:cNvCxnSpPr>
          <p:nvPr/>
        </p:nvCxnSpPr>
        <p:spPr>
          <a:xfrm flipH="1">
            <a:off x="1306080" y="4358880"/>
            <a:ext cx="3818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46" name=""/>
          <p:cNvCxnSpPr>
            <a:stCxn id="2555" idx="2"/>
            <a:endCxn id="2530" idx="0"/>
          </p:cNvCxnSpPr>
          <p:nvPr/>
        </p:nvCxnSpPr>
        <p:spPr>
          <a:xfrm flipH="1">
            <a:off x="1915920" y="4358880"/>
            <a:ext cx="3209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47" name=""/>
          <p:cNvCxnSpPr>
            <a:stCxn id="2555" idx="2"/>
            <a:endCxn id="2531" idx="0"/>
          </p:cNvCxnSpPr>
          <p:nvPr/>
        </p:nvCxnSpPr>
        <p:spPr>
          <a:xfrm flipH="1">
            <a:off x="2525040" y="4358880"/>
            <a:ext cx="2599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48" name=""/>
          <p:cNvCxnSpPr>
            <a:stCxn id="2555" idx="2"/>
            <a:endCxn id="2532" idx="0"/>
          </p:cNvCxnSpPr>
          <p:nvPr/>
        </p:nvCxnSpPr>
        <p:spPr>
          <a:xfrm flipH="1">
            <a:off x="3058560" y="4358880"/>
            <a:ext cx="2066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49" name=""/>
          <p:cNvCxnSpPr>
            <a:stCxn id="2555" idx="2"/>
            <a:endCxn id="2476" idx="0"/>
          </p:cNvCxnSpPr>
          <p:nvPr/>
        </p:nvCxnSpPr>
        <p:spPr>
          <a:xfrm flipH="1">
            <a:off x="3695040" y="4358880"/>
            <a:ext cx="1429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0" name=""/>
          <p:cNvCxnSpPr>
            <a:stCxn id="2555" idx="2"/>
            <a:endCxn id="2534" idx="0"/>
          </p:cNvCxnSpPr>
          <p:nvPr/>
        </p:nvCxnSpPr>
        <p:spPr>
          <a:xfrm flipH="1">
            <a:off x="4277520" y="4358880"/>
            <a:ext cx="847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1" name=""/>
          <p:cNvCxnSpPr>
            <a:stCxn id="2555" idx="2"/>
            <a:endCxn id="2470" idx="0"/>
          </p:cNvCxnSpPr>
          <p:nvPr/>
        </p:nvCxnSpPr>
        <p:spPr>
          <a:xfrm flipH="1">
            <a:off x="4838400" y="4358880"/>
            <a:ext cx="286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2" name=""/>
          <p:cNvCxnSpPr>
            <a:stCxn id="2555" idx="2"/>
            <a:endCxn id="2537" idx="0"/>
          </p:cNvCxnSpPr>
          <p:nvPr/>
        </p:nvCxnSpPr>
        <p:spPr>
          <a:xfrm>
            <a:off x="5124240" y="4358880"/>
            <a:ext cx="3387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3" name=""/>
          <p:cNvCxnSpPr>
            <a:stCxn id="2555" idx="2"/>
            <a:endCxn id="2536" idx="0"/>
          </p:cNvCxnSpPr>
          <p:nvPr/>
        </p:nvCxnSpPr>
        <p:spPr>
          <a:xfrm>
            <a:off x="5124600" y="4358880"/>
            <a:ext cx="948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4" name=""/>
          <p:cNvCxnSpPr>
            <a:stCxn id="2555" idx="2"/>
            <a:endCxn id="2538" idx="0"/>
          </p:cNvCxnSpPr>
          <p:nvPr/>
        </p:nvCxnSpPr>
        <p:spPr>
          <a:xfrm>
            <a:off x="5124600" y="4358880"/>
            <a:ext cx="1558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5" name=""/>
          <p:cNvCxnSpPr>
            <a:stCxn id="2555" idx="2"/>
            <a:endCxn id="2539" idx="0"/>
          </p:cNvCxnSpPr>
          <p:nvPr/>
        </p:nvCxnSpPr>
        <p:spPr>
          <a:xfrm>
            <a:off x="5124240" y="4358880"/>
            <a:ext cx="2091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6" name=""/>
          <p:cNvCxnSpPr>
            <a:stCxn id="2555" idx="2"/>
            <a:endCxn id="2541" idx="0"/>
          </p:cNvCxnSpPr>
          <p:nvPr/>
        </p:nvCxnSpPr>
        <p:spPr>
          <a:xfrm>
            <a:off x="5124240" y="4358880"/>
            <a:ext cx="2701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7" name=""/>
          <p:cNvCxnSpPr>
            <a:stCxn id="2555" idx="2"/>
            <a:endCxn id="2540" idx="0"/>
          </p:cNvCxnSpPr>
          <p:nvPr/>
        </p:nvCxnSpPr>
        <p:spPr>
          <a:xfrm>
            <a:off x="5124600" y="4358880"/>
            <a:ext cx="3310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8" name=""/>
          <p:cNvCxnSpPr>
            <a:stCxn id="2555" idx="2"/>
            <a:endCxn id="2542" idx="0"/>
          </p:cNvCxnSpPr>
          <p:nvPr/>
        </p:nvCxnSpPr>
        <p:spPr>
          <a:xfrm>
            <a:off x="5124600" y="4358880"/>
            <a:ext cx="3844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2659" name=""/>
          <p:cNvCxnSpPr>
            <a:stCxn id="2548" idx="2"/>
            <a:endCxn id="2386" idx="0"/>
          </p:cNvCxnSpPr>
          <p:nvPr/>
        </p:nvCxnSpPr>
        <p:spPr>
          <a:xfrm flipH="1">
            <a:off x="189720" y="853920"/>
            <a:ext cx="3243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60" name=""/>
          <p:cNvCxnSpPr>
            <a:stCxn id="2548" idx="2"/>
            <a:endCxn id="2406" idx="0"/>
          </p:cNvCxnSpPr>
          <p:nvPr/>
        </p:nvCxnSpPr>
        <p:spPr>
          <a:xfrm flipH="1">
            <a:off x="696960" y="853920"/>
            <a:ext cx="27370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61" name=""/>
          <p:cNvCxnSpPr>
            <a:stCxn id="2548" idx="2"/>
            <a:endCxn id="2412" idx="0"/>
          </p:cNvCxnSpPr>
          <p:nvPr/>
        </p:nvCxnSpPr>
        <p:spPr>
          <a:xfrm>
            <a:off x="3433680" y="853920"/>
            <a:ext cx="13788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62" name=""/>
          <p:cNvCxnSpPr>
            <a:stCxn id="2548" idx="2"/>
            <a:endCxn id="2414" idx="0"/>
          </p:cNvCxnSpPr>
          <p:nvPr/>
        </p:nvCxnSpPr>
        <p:spPr>
          <a:xfrm>
            <a:off x="3433680" y="853920"/>
            <a:ext cx="20296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63" name=""/>
          <p:cNvCxnSpPr>
            <a:stCxn id="2548" idx="2"/>
            <a:endCxn id="2413" idx="0"/>
          </p:cNvCxnSpPr>
          <p:nvPr/>
        </p:nvCxnSpPr>
        <p:spPr>
          <a:xfrm>
            <a:off x="3433320" y="853920"/>
            <a:ext cx="26391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64" name=""/>
          <p:cNvCxnSpPr>
            <a:stCxn id="2548" idx="2"/>
            <a:endCxn id="2415" idx="0"/>
          </p:cNvCxnSpPr>
          <p:nvPr/>
        </p:nvCxnSpPr>
        <p:spPr>
          <a:xfrm>
            <a:off x="3433320" y="853920"/>
            <a:ext cx="32490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65" name=""/>
          <p:cNvCxnSpPr>
            <a:stCxn id="2552" idx="2"/>
            <a:endCxn id="2432" idx="0"/>
          </p:cNvCxnSpPr>
          <p:nvPr/>
        </p:nvCxnSpPr>
        <p:spPr>
          <a:xfrm flipH="1">
            <a:off x="190080" y="2758680"/>
            <a:ext cx="316800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666" name=""/>
          <p:cNvCxnSpPr>
            <a:stCxn id="2552" idx="2"/>
            <a:endCxn id="2452" idx="0"/>
          </p:cNvCxnSpPr>
          <p:nvPr/>
        </p:nvCxnSpPr>
        <p:spPr>
          <a:xfrm flipH="1">
            <a:off x="696240" y="2758680"/>
            <a:ext cx="26614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667" name=""/>
          <p:cNvCxnSpPr>
            <a:stCxn id="2552" idx="2"/>
            <a:endCxn id="2458" idx="0"/>
          </p:cNvCxnSpPr>
          <p:nvPr/>
        </p:nvCxnSpPr>
        <p:spPr>
          <a:xfrm>
            <a:off x="3357360" y="2758680"/>
            <a:ext cx="14547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668" name=""/>
          <p:cNvCxnSpPr>
            <a:stCxn id="2552" idx="2"/>
            <a:endCxn id="2460" idx="0"/>
          </p:cNvCxnSpPr>
          <p:nvPr/>
        </p:nvCxnSpPr>
        <p:spPr>
          <a:xfrm>
            <a:off x="3357360" y="2758680"/>
            <a:ext cx="210564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669" name=""/>
          <p:cNvCxnSpPr>
            <a:stCxn id="2552" idx="2"/>
            <a:endCxn id="2426" idx="0"/>
          </p:cNvCxnSpPr>
          <p:nvPr/>
        </p:nvCxnSpPr>
        <p:spPr>
          <a:xfrm>
            <a:off x="3357360" y="2758680"/>
            <a:ext cx="27010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670" name=""/>
          <p:cNvCxnSpPr>
            <a:stCxn id="2552" idx="2"/>
            <a:endCxn id="2461" idx="0"/>
          </p:cNvCxnSpPr>
          <p:nvPr/>
        </p:nvCxnSpPr>
        <p:spPr>
          <a:xfrm>
            <a:off x="3357720" y="2758680"/>
            <a:ext cx="33249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671" name=""/>
          <p:cNvCxnSpPr>
            <a:stCxn id="2556" idx="2"/>
            <a:endCxn id="2478" idx="0"/>
          </p:cNvCxnSpPr>
          <p:nvPr/>
        </p:nvCxnSpPr>
        <p:spPr>
          <a:xfrm flipH="1">
            <a:off x="189720" y="4358880"/>
            <a:ext cx="37011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672" name=""/>
          <p:cNvCxnSpPr>
            <a:stCxn id="2556" idx="2"/>
            <a:endCxn id="2529" idx="0"/>
          </p:cNvCxnSpPr>
          <p:nvPr/>
        </p:nvCxnSpPr>
        <p:spPr>
          <a:xfrm flipH="1">
            <a:off x="696600" y="4358880"/>
            <a:ext cx="31946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673" name=""/>
          <p:cNvCxnSpPr>
            <a:stCxn id="2556" idx="2"/>
            <a:endCxn id="2535" idx="0"/>
          </p:cNvCxnSpPr>
          <p:nvPr/>
        </p:nvCxnSpPr>
        <p:spPr>
          <a:xfrm>
            <a:off x="3890880" y="4358880"/>
            <a:ext cx="92160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674" name=""/>
          <p:cNvCxnSpPr>
            <a:stCxn id="2556" idx="2"/>
            <a:endCxn id="2537" idx="0"/>
          </p:cNvCxnSpPr>
          <p:nvPr/>
        </p:nvCxnSpPr>
        <p:spPr>
          <a:xfrm>
            <a:off x="3890880" y="4358880"/>
            <a:ext cx="157248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675" name=""/>
          <p:cNvCxnSpPr>
            <a:stCxn id="2556" idx="2"/>
            <a:endCxn id="2536" idx="0"/>
          </p:cNvCxnSpPr>
          <p:nvPr/>
        </p:nvCxnSpPr>
        <p:spPr>
          <a:xfrm>
            <a:off x="3890520" y="4358880"/>
            <a:ext cx="21819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676" name=""/>
          <p:cNvCxnSpPr>
            <a:stCxn id="2556" idx="2"/>
            <a:endCxn id="2538" idx="0"/>
          </p:cNvCxnSpPr>
          <p:nvPr/>
        </p:nvCxnSpPr>
        <p:spPr>
          <a:xfrm>
            <a:off x="3890520" y="4358880"/>
            <a:ext cx="27914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677" name=""/>
          <p:cNvSpPr/>
          <p:nvPr/>
        </p:nvSpPr>
        <p:spPr>
          <a:xfrm>
            <a:off x="10724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4626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681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291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824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3434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40442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4577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744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51354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6354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6887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81072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7497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861984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5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3" name=""/>
          <p:cNvCxnSpPr>
            <a:stCxn id="2548" idx="2"/>
            <a:endCxn id="2388" idx="0"/>
          </p:cNvCxnSpPr>
          <p:nvPr/>
        </p:nvCxnSpPr>
        <p:spPr>
          <a:xfrm flipH="1">
            <a:off x="1333080" y="853920"/>
            <a:ext cx="2100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94" name=""/>
          <p:cNvCxnSpPr>
            <a:stCxn id="2548" idx="2"/>
            <a:endCxn id="2407" idx="0"/>
          </p:cNvCxnSpPr>
          <p:nvPr/>
        </p:nvCxnSpPr>
        <p:spPr>
          <a:xfrm flipH="1">
            <a:off x="1915560" y="853920"/>
            <a:ext cx="151812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95" name=""/>
          <p:cNvCxnSpPr>
            <a:stCxn id="2552" idx="2"/>
            <a:endCxn id="2451" idx="0"/>
          </p:cNvCxnSpPr>
          <p:nvPr/>
        </p:nvCxnSpPr>
        <p:spPr>
          <a:xfrm flipH="1">
            <a:off x="1306080" y="2758680"/>
            <a:ext cx="205200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696" name=""/>
          <p:cNvCxnSpPr>
            <a:stCxn id="2552" idx="2"/>
            <a:endCxn id="2453" idx="0"/>
          </p:cNvCxnSpPr>
          <p:nvPr/>
        </p:nvCxnSpPr>
        <p:spPr>
          <a:xfrm flipH="1">
            <a:off x="1915920" y="2758680"/>
            <a:ext cx="14421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697" name=""/>
          <p:cNvCxnSpPr>
            <a:stCxn id="2556" idx="2"/>
            <a:endCxn id="2528" idx="0"/>
          </p:cNvCxnSpPr>
          <p:nvPr/>
        </p:nvCxnSpPr>
        <p:spPr>
          <a:xfrm flipH="1">
            <a:off x="1305720" y="4358880"/>
            <a:ext cx="25851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698" name=""/>
          <p:cNvCxnSpPr>
            <a:stCxn id="2556" idx="2"/>
            <a:endCxn id="2530" idx="0"/>
          </p:cNvCxnSpPr>
          <p:nvPr/>
        </p:nvCxnSpPr>
        <p:spPr>
          <a:xfrm flipH="1">
            <a:off x="1915560" y="4358880"/>
            <a:ext cx="197532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"/>
          <p:cNvSpPr/>
          <p:nvPr/>
        </p:nvSpPr>
        <p:spPr>
          <a:xfrm>
            <a:off x="70102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7620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82296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8763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46483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2578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8672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3623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8954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5053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1148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335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14300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1752480" y="2819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5" name=""/>
          <p:cNvCxnSpPr>
            <a:stCxn id="2711" idx="6"/>
            <a:endCxn id="2712" idx="2"/>
          </p:cNvCxnSpPr>
          <p:nvPr/>
        </p:nvCxnSpPr>
        <p:spPr>
          <a:xfrm>
            <a:off x="380880" y="300960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16" name=""/>
          <p:cNvCxnSpPr>
            <a:stCxn id="2712" idx="6"/>
            <a:endCxn id="2713" idx="2"/>
          </p:cNvCxnSpPr>
          <p:nvPr/>
        </p:nvCxnSpPr>
        <p:spPr>
          <a:xfrm>
            <a:off x="9140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17" name=""/>
          <p:cNvCxnSpPr>
            <a:stCxn id="2713" idx="6"/>
            <a:endCxn id="2714" idx="2"/>
          </p:cNvCxnSpPr>
          <p:nvPr/>
        </p:nvCxnSpPr>
        <p:spPr>
          <a:xfrm>
            <a:off x="152352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18" name=""/>
          <p:cNvCxnSpPr>
            <a:stCxn id="2714" idx="6"/>
            <a:endCxn id="2707" idx="2"/>
          </p:cNvCxnSpPr>
          <p:nvPr/>
        </p:nvCxnSpPr>
        <p:spPr>
          <a:xfrm>
            <a:off x="21333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19" name=""/>
          <p:cNvCxnSpPr>
            <a:stCxn id="2707" idx="6"/>
            <a:endCxn id="2708" idx="2"/>
          </p:cNvCxnSpPr>
          <p:nvPr/>
        </p:nvCxnSpPr>
        <p:spPr>
          <a:xfrm>
            <a:off x="2742840" y="300960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0" name=""/>
          <p:cNvCxnSpPr>
            <a:stCxn id="2708" idx="6"/>
            <a:endCxn id="2709" idx="2"/>
          </p:cNvCxnSpPr>
          <p:nvPr/>
        </p:nvCxnSpPr>
        <p:spPr>
          <a:xfrm>
            <a:off x="32763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1" name=""/>
          <p:cNvCxnSpPr>
            <a:stCxn id="2709" idx="6"/>
            <a:endCxn id="2710" idx="2"/>
          </p:cNvCxnSpPr>
          <p:nvPr/>
        </p:nvCxnSpPr>
        <p:spPr>
          <a:xfrm>
            <a:off x="38858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2" name=""/>
          <p:cNvCxnSpPr>
            <a:stCxn id="2710" idx="6"/>
            <a:endCxn id="2703" idx="2"/>
          </p:cNvCxnSpPr>
          <p:nvPr/>
        </p:nvCxnSpPr>
        <p:spPr>
          <a:xfrm>
            <a:off x="4495680" y="300960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3" name=""/>
          <p:cNvCxnSpPr>
            <a:stCxn id="2703" idx="6"/>
            <a:endCxn id="2704" idx="2"/>
          </p:cNvCxnSpPr>
          <p:nvPr/>
        </p:nvCxnSpPr>
        <p:spPr>
          <a:xfrm>
            <a:off x="50288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4" name=""/>
          <p:cNvCxnSpPr>
            <a:stCxn id="2704" idx="6"/>
            <a:endCxn id="2705" idx="2"/>
          </p:cNvCxnSpPr>
          <p:nvPr/>
        </p:nvCxnSpPr>
        <p:spPr>
          <a:xfrm>
            <a:off x="563832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5" name=""/>
          <p:cNvCxnSpPr>
            <a:stCxn id="2705" idx="6"/>
            <a:endCxn id="2706" idx="2"/>
          </p:cNvCxnSpPr>
          <p:nvPr/>
        </p:nvCxnSpPr>
        <p:spPr>
          <a:xfrm>
            <a:off x="62481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6" name=""/>
          <p:cNvCxnSpPr>
            <a:stCxn id="2706" idx="6"/>
            <a:endCxn id="2699" idx="2"/>
          </p:cNvCxnSpPr>
          <p:nvPr/>
        </p:nvCxnSpPr>
        <p:spPr>
          <a:xfrm>
            <a:off x="6857640" y="300960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7" name=""/>
          <p:cNvCxnSpPr>
            <a:stCxn id="2699" idx="6"/>
            <a:endCxn id="2700" idx="2"/>
          </p:cNvCxnSpPr>
          <p:nvPr/>
        </p:nvCxnSpPr>
        <p:spPr>
          <a:xfrm>
            <a:off x="739116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8" name=""/>
          <p:cNvCxnSpPr>
            <a:stCxn id="2700" idx="6"/>
            <a:endCxn id="2701" idx="2"/>
          </p:cNvCxnSpPr>
          <p:nvPr/>
        </p:nvCxnSpPr>
        <p:spPr>
          <a:xfrm>
            <a:off x="8000640" y="300960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29" name=""/>
          <p:cNvCxnSpPr>
            <a:stCxn id="2701" idx="6"/>
            <a:endCxn id="2702" idx="2"/>
          </p:cNvCxnSpPr>
          <p:nvPr/>
        </p:nvCxnSpPr>
        <p:spPr>
          <a:xfrm>
            <a:off x="8610480" y="300960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730" name=""/>
          <p:cNvSpPr/>
          <p:nvPr/>
        </p:nvSpPr>
        <p:spPr>
          <a:xfrm>
            <a:off x="107136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4615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168084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2903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282384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4333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404316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576320" y="28195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579960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18976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640908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694260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816156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755208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8674560" y="281952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010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7620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82296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8763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648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257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5867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477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2362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895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3505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114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335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11430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752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1" name=""/>
          <p:cNvCxnSpPr>
            <a:stCxn id="2757" idx="6"/>
            <a:endCxn id="2758" idx="2"/>
          </p:cNvCxnSpPr>
          <p:nvPr/>
        </p:nvCxnSpPr>
        <p:spPr>
          <a:xfrm>
            <a:off x="3808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62" name=""/>
          <p:cNvCxnSpPr>
            <a:stCxn id="2758" idx="6"/>
            <a:endCxn id="2759" idx="2"/>
          </p:cNvCxnSpPr>
          <p:nvPr/>
        </p:nvCxnSpPr>
        <p:spPr>
          <a:xfrm>
            <a:off x="9140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63" name=""/>
          <p:cNvCxnSpPr>
            <a:stCxn id="2759" idx="6"/>
            <a:endCxn id="2760" idx="2"/>
          </p:cNvCxnSpPr>
          <p:nvPr/>
        </p:nvCxnSpPr>
        <p:spPr>
          <a:xfrm>
            <a:off x="15235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64" name=""/>
          <p:cNvCxnSpPr>
            <a:stCxn id="2760" idx="6"/>
            <a:endCxn id="2753" idx="2"/>
          </p:cNvCxnSpPr>
          <p:nvPr/>
        </p:nvCxnSpPr>
        <p:spPr>
          <a:xfrm>
            <a:off x="2133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65" name=""/>
          <p:cNvCxnSpPr>
            <a:stCxn id="2753" idx="6"/>
            <a:endCxn id="2754" idx="2"/>
          </p:cNvCxnSpPr>
          <p:nvPr/>
        </p:nvCxnSpPr>
        <p:spPr>
          <a:xfrm>
            <a:off x="27428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66" name=""/>
          <p:cNvCxnSpPr>
            <a:stCxn id="2754" idx="6"/>
            <a:endCxn id="2755" idx="2"/>
          </p:cNvCxnSpPr>
          <p:nvPr/>
        </p:nvCxnSpPr>
        <p:spPr>
          <a:xfrm>
            <a:off x="3276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67" name=""/>
          <p:cNvCxnSpPr>
            <a:stCxn id="2755" idx="6"/>
            <a:endCxn id="2756" idx="2"/>
          </p:cNvCxnSpPr>
          <p:nvPr/>
        </p:nvCxnSpPr>
        <p:spPr>
          <a:xfrm>
            <a:off x="3885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68" name=""/>
          <p:cNvCxnSpPr>
            <a:stCxn id="2756" idx="6"/>
            <a:endCxn id="2749" idx="2"/>
          </p:cNvCxnSpPr>
          <p:nvPr/>
        </p:nvCxnSpPr>
        <p:spPr>
          <a:xfrm>
            <a:off x="44956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69" name=""/>
          <p:cNvCxnSpPr>
            <a:stCxn id="2749" idx="6"/>
            <a:endCxn id="2750" idx="2"/>
          </p:cNvCxnSpPr>
          <p:nvPr/>
        </p:nvCxnSpPr>
        <p:spPr>
          <a:xfrm>
            <a:off x="5028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70" name=""/>
          <p:cNvCxnSpPr>
            <a:stCxn id="2750" idx="6"/>
            <a:endCxn id="2751" idx="2"/>
          </p:cNvCxnSpPr>
          <p:nvPr/>
        </p:nvCxnSpPr>
        <p:spPr>
          <a:xfrm>
            <a:off x="56383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71" name=""/>
          <p:cNvCxnSpPr>
            <a:stCxn id="2751" idx="6"/>
            <a:endCxn id="2752" idx="2"/>
          </p:cNvCxnSpPr>
          <p:nvPr/>
        </p:nvCxnSpPr>
        <p:spPr>
          <a:xfrm>
            <a:off x="6248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72" name=""/>
          <p:cNvCxnSpPr>
            <a:stCxn id="2752" idx="6"/>
            <a:endCxn id="2745" idx="2"/>
          </p:cNvCxnSpPr>
          <p:nvPr/>
        </p:nvCxnSpPr>
        <p:spPr>
          <a:xfrm>
            <a:off x="68576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73" name=""/>
          <p:cNvCxnSpPr>
            <a:stCxn id="2745" idx="6"/>
            <a:endCxn id="2746" idx="2"/>
          </p:cNvCxnSpPr>
          <p:nvPr/>
        </p:nvCxnSpPr>
        <p:spPr>
          <a:xfrm>
            <a:off x="7391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74" name=""/>
          <p:cNvCxnSpPr>
            <a:stCxn id="2746" idx="6"/>
            <a:endCxn id="2747" idx="2"/>
          </p:cNvCxnSpPr>
          <p:nvPr/>
        </p:nvCxnSpPr>
        <p:spPr>
          <a:xfrm>
            <a:off x="80006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75" name=""/>
          <p:cNvCxnSpPr>
            <a:stCxn id="2747" idx="6"/>
            <a:endCxn id="2748" idx="2"/>
          </p:cNvCxnSpPr>
          <p:nvPr/>
        </p:nvCxnSpPr>
        <p:spPr>
          <a:xfrm>
            <a:off x="86104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776" name=""/>
          <p:cNvSpPr/>
          <p:nvPr/>
        </p:nvSpPr>
        <p:spPr>
          <a:xfrm>
            <a:off x="4267080" y="914400"/>
            <a:ext cx="38124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4269240" y="914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3276720" y="190512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315200" y="3809880"/>
            <a:ext cx="380880" cy="3812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239960" y="3809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20148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2" name=""/>
          <p:cNvCxnSpPr>
            <a:stCxn id="2777" idx="1"/>
            <a:endCxn id="2781" idx="0"/>
          </p:cNvCxnSpPr>
          <p:nvPr/>
        </p:nvCxnSpPr>
        <p:spPr>
          <a:xfrm flipH="1">
            <a:off x="3432960" y="1112400"/>
            <a:ext cx="834120" cy="7930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783" name=""/>
          <p:cNvCxnSpPr>
            <a:stCxn id="2777" idx="3"/>
            <a:endCxn id="2780" idx="0"/>
          </p:cNvCxnSpPr>
          <p:nvPr/>
        </p:nvCxnSpPr>
        <p:spPr>
          <a:xfrm>
            <a:off x="4620960" y="1112760"/>
            <a:ext cx="2865960" cy="269748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2784" name=""/>
          <p:cNvCxnSpPr>
            <a:stCxn id="2731" idx="2"/>
            <a:endCxn id="2758" idx="0"/>
          </p:cNvCxnSpPr>
          <p:nvPr/>
        </p:nvCxnSpPr>
        <p:spPr>
          <a:xfrm>
            <a:off x="6966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85" name=""/>
          <p:cNvCxnSpPr>
            <a:stCxn id="2713" idx="4"/>
            <a:endCxn id="2759" idx="0"/>
          </p:cNvCxnSpPr>
          <p:nvPr/>
        </p:nvCxnSpPr>
        <p:spPr>
          <a:xfrm>
            <a:off x="1333080" y="3200040"/>
            <a:ext cx="1080" cy="1997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86" name=""/>
          <p:cNvCxnSpPr>
            <a:stCxn id="2732" idx="2"/>
            <a:endCxn id="2760" idx="0"/>
          </p:cNvCxnSpPr>
          <p:nvPr/>
        </p:nvCxnSpPr>
        <p:spPr>
          <a:xfrm>
            <a:off x="191592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87" name=""/>
          <p:cNvCxnSpPr>
            <a:stCxn id="2733" idx="2"/>
            <a:endCxn id="2753" idx="0"/>
          </p:cNvCxnSpPr>
          <p:nvPr/>
        </p:nvCxnSpPr>
        <p:spPr>
          <a:xfrm>
            <a:off x="25254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88" name=""/>
          <p:cNvCxnSpPr>
            <a:stCxn id="2734" idx="2"/>
            <a:endCxn id="2754" idx="0"/>
          </p:cNvCxnSpPr>
          <p:nvPr/>
        </p:nvCxnSpPr>
        <p:spPr>
          <a:xfrm>
            <a:off x="305892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89" name=""/>
          <p:cNvCxnSpPr>
            <a:stCxn id="2735" idx="2"/>
            <a:endCxn id="2755" idx="0"/>
          </p:cNvCxnSpPr>
          <p:nvPr/>
        </p:nvCxnSpPr>
        <p:spPr>
          <a:xfrm>
            <a:off x="36684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0" name=""/>
          <p:cNvCxnSpPr>
            <a:stCxn id="2736" idx="2"/>
            <a:endCxn id="2756" idx="0"/>
          </p:cNvCxnSpPr>
          <p:nvPr/>
        </p:nvCxnSpPr>
        <p:spPr>
          <a:xfrm>
            <a:off x="427788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1" name=""/>
          <p:cNvCxnSpPr>
            <a:stCxn id="2737" idx="2"/>
            <a:endCxn id="2749" idx="0"/>
          </p:cNvCxnSpPr>
          <p:nvPr/>
        </p:nvCxnSpPr>
        <p:spPr>
          <a:xfrm>
            <a:off x="4811400" y="3215880"/>
            <a:ext cx="277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2" name=""/>
          <p:cNvCxnSpPr>
            <a:stCxn id="2739" idx="2"/>
            <a:endCxn id="2750" idx="0"/>
          </p:cNvCxnSpPr>
          <p:nvPr/>
        </p:nvCxnSpPr>
        <p:spPr>
          <a:xfrm flipH="1">
            <a:off x="544788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3" name=""/>
          <p:cNvCxnSpPr>
            <a:stCxn id="2705" idx="4"/>
            <a:endCxn id="2751" idx="0"/>
          </p:cNvCxnSpPr>
          <p:nvPr/>
        </p:nvCxnSpPr>
        <p:spPr>
          <a:xfrm>
            <a:off x="6057720" y="3200040"/>
            <a:ext cx="1080" cy="1997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4" name=""/>
          <p:cNvCxnSpPr>
            <a:stCxn id="2740" idx="2"/>
            <a:endCxn id="2752" idx="0"/>
          </p:cNvCxnSpPr>
          <p:nvPr/>
        </p:nvCxnSpPr>
        <p:spPr>
          <a:xfrm flipH="1">
            <a:off x="666720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5" name=""/>
          <p:cNvCxnSpPr>
            <a:stCxn id="2741" idx="2"/>
            <a:endCxn id="2745" idx="0"/>
          </p:cNvCxnSpPr>
          <p:nvPr/>
        </p:nvCxnSpPr>
        <p:spPr>
          <a:xfrm flipH="1">
            <a:off x="7200360" y="3215880"/>
            <a:ext cx="1476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6" name=""/>
          <p:cNvCxnSpPr>
            <a:stCxn id="2743" idx="2"/>
            <a:endCxn id="2746" idx="0"/>
          </p:cNvCxnSpPr>
          <p:nvPr/>
        </p:nvCxnSpPr>
        <p:spPr>
          <a:xfrm flipH="1">
            <a:off x="781020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7" name=""/>
          <p:cNvCxnSpPr>
            <a:stCxn id="2742" idx="2"/>
            <a:endCxn id="2747" idx="0"/>
          </p:cNvCxnSpPr>
          <p:nvPr/>
        </p:nvCxnSpPr>
        <p:spPr>
          <a:xfrm flipH="1">
            <a:off x="8419680" y="3215880"/>
            <a:ext cx="1512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8" name=""/>
          <p:cNvCxnSpPr>
            <a:stCxn id="2744" idx="2"/>
            <a:endCxn id="2748" idx="0"/>
          </p:cNvCxnSpPr>
          <p:nvPr/>
        </p:nvCxnSpPr>
        <p:spPr>
          <a:xfrm>
            <a:off x="8947080" y="3215880"/>
            <a:ext cx="720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799" name=""/>
          <p:cNvCxnSpPr>
            <a:stCxn id="2780" idx="2"/>
            <a:endCxn id="2711" idx="4"/>
          </p:cNvCxnSpPr>
          <p:nvPr/>
        </p:nvCxnSpPr>
        <p:spPr>
          <a:xfrm flipH="1" flipV="1">
            <a:off x="189720" y="3200040"/>
            <a:ext cx="7296840" cy="1007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0" name=""/>
          <p:cNvCxnSpPr>
            <a:stCxn id="2780" idx="2"/>
            <a:endCxn id="2731" idx="2"/>
          </p:cNvCxnSpPr>
          <p:nvPr/>
        </p:nvCxnSpPr>
        <p:spPr>
          <a:xfrm flipH="1" flipV="1">
            <a:off x="696600" y="3215880"/>
            <a:ext cx="679032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1" name=""/>
          <p:cNvCxnSpPr>
            <a:stCxn id="2780" idx="2"/>
            <a:endCxn id="2730" idx="2"/>
          </p:cNvCxnSpPr>
          <p:nvPr/>
        </p:nvCxnSpPr>
        <p:spPr>
          <a:xfrm flipH="1" flipV="1">
            <a:off x="1305720" y="3215880"/>
            <a:ext cx="618084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2" name=""/>
          <p:cNvCxnSpPr>
            <a:stCxn id="2780" idx="2"/>
            <a:endCxn id="2732" idx="2"/>
          </p:cNvCxnSpPr>
          <p:nvPr/>
        </p:nvCxnSpPr>
        <p:spPr>
          <a:xfrm flipH="1" flipV="1">
            <a:off x="1915560" y="3215880"/>
            <a:ext cx="557100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3" name=""/>
          <p:cNvCxnSpPr>
            <a:stCxn id="2780" idx="2"/>
            <a:endCxn id="2733" idx="2"/>
          </p:cNvCxnSpPr>
          <p:nvPr/>
        </p:nvCxnSpPr>
        <p:spPr>
          <a:xfrm flipH="1" flipV="1">
            <a:off x="2525400" y="3215880"/>
            <a:ext cx="496152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4" name=""/>
          <p:cNvCxnSpPr>
            <a:stCxn id="2780" idx="2"/>
            <a:endCxn id="2734" idx="2"/>
          </p:cNvCxnSpPr>
          <p:nvPr/>
        </p:nvCxnSpPr>
        <p:spPr>
          <a:xfrm flipH="1" flipV="1">
            <a:off x="3058920" y="3215880"/>
            <a:ext cx="442800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5" name=""/>
          <p:cNvCxnSpPr>
            <a:stCxn id="2780" idx="2"/>
            <a:endCxn id="2735" idx="2"/>
          </p:cNvCxnSpPr>
          <p:nvPr/>
        </p:nvCxnSpPr>
        <p:spPr>
          <a:xfrm flipH="1" flipV="1">
            <a:off x="3668040" y="3215880"/>
            <a:ext cx="381852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6" name=""/>
          <p:cNvCxnSpPr>
            <a:stCxn id="2780" idx="2"/>
            <a:endCxn id="2736" idx="2"/>
          </p:cNvCxnSpPr>
          <p:nvPr/>
        </p:nvCxnSpPr>
        <p:spPr>
          <a:xfrm flipH="1" flipV="1">
            <a:off x="4277880" y="3215880"/>
            <a:ext cx="320904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7" name=""/>
          <p:cNvCxnSpPr>
            <a:stCxn id="2780" idx="2"/>
            <a:endCxn id="2737" idx="2"/>
          </p:cNvCxnSpPr>
          <p:nvPr/>
        </p:nvCxnSpPr>
        <p:spPr>
          <a:xfrm flipH="1" flipV="1">
            <a:off x="4811400" y="3215880"/>
            <a:ext cx="267552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8" name=""/>
          <p:cNvCxnSpPr>
            <a:stCxn id="2780" idx="2"/>
            <a:endCxn id="2739" idx="2"/>
          </p:cNvCxnSpPr>
          <p:nvPr/>
        </p:nvCxnSpPr>
        <p:spPr>
          <a:xfrm flipH="1" flipV="1">
            <a:off x="5462280" y="3215880"/>
            <a:ext cx="202464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09" name=""/>
          <p:cNvCxnSpPr>
            <a:stCxn id="2780" idx="2"/>
            <a:endCxn id="2738" idx="2"/>
          </p:cNvCxnSpPr>
          <p:nvPr/>
        </p:nvCxnSpPr>
        <p:spPr>
          <a:xfrm flipH="1" flipV="1">
            <a:off x="6071400" y="3215880"/>
            <a:ext cx="141516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10" name=""/>
          <p:cNvCxnSpPr>
            <a:stCxn id="2780" idx="2"/>
            <a:endCxn id="2740" idx="2"/>
          </p:cNvCxnSpPr>
          <p:nvPr/>
        </p:nvCxnSpPr>
        <p:spPr>
          <a:xfrm flipH="1" flipV="1">
            <a:off x="6681240" y="3215880"/>
            <a:ext cx="80532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11" name=""/>
          <p:cNvCxnSpPr>
            <a:stCxn id="2780" idx="2"/>
            <a:endCxn id="2741" idx="2"/>
          </p:cNvCxnSpPr>
          <p:nvPr/>
        </p:nvCxnSpPr>
        <p:spPr>
          <a:xfrm flipH="1" flipV="1">
            <a:off x="7214760" y="3215880"/>
            <a:ext cx="27216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12" name=""/>
          <p:cNvCxnSpPr>
            <a:stCxn id="2780" idx="2"/>
            <a:endCxn id="2743" idx="2"/>
          </p:cNvCxnSpPr>
          <p:nvPr/>
        </p:nvCxnSpPr>
        <p:spPr>
          <a:xfrm flipV="1">
            <a:off x="7486560" y="3215880"/>
            <a:ext cx="33912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13" name=""/>
          <p:cNvCxnSpPr>
            <a:stCxn id="2780" idx="2"/>
            <a:endCxn id="2742" idx="2"/>
          </p:cNvCxnSpPr>
          <p:nvPr/>
        </p:nvCxnSpPr>
        <p:spPr>
          <a:xfrm flipV="1">
            <a:off x="7486200" y="3215880"/>
            <a:ext cx="94860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14" name=""/>
          <p:cNvCxnSpPr>
            <a:stCxn id="2780" idx="2"/>
            <a:endCxn id="2744" idx="2"/>
          </p:cNvCxnSpPr>
          <p:nvPr/>
        </p:nvCxnSpPr>
        <p:spPr>
          <a:xfrm flipV="1">
            <a:off x="7486200" y="3215880"/>
            <a:ext cx="1461240" cy="9914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15" name=""/>
          <p:cNvCxnSpPr>
            <a:stCxn id="2781" idx="2"/>
            <a:endCxn id="2711" idx="0"/>
          </p:cNvCxnSpPr>
          <p:nvPr/>
        </p:nvCxnSpPr>
        <p:spPr>
          <a:xfrm flipH="1">
            <a:off x="189720" y="2301840"/>
            <a:ext cx="324396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16" name=""/>
          <p:cNvCxnSpPr>
            <a:stCxn id="2781" idx="2"/>
            <a:endCxn id="2731" idx="0"/>
          </p:cNvCxnSpPr>
          <p:nvPr/>
        </p:nvCxnSpPr>
        <p:spPr>
          <a:xfrm flipH="1">
            <a:off x="696960" y="2301840"/>
            <a:ext cx="273708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17" name=""/>
          <p:cNvCxnSpPr>
            <a:stCxn id="2781" idx="2"/>
            <a:endCxn id="2737" idx="0"/>
          </p:cNvCxnSpPr>
          <p:nvPr/>
        </p:nvCxnSpPr>
        <p:spPr>
          <a:xfrm>
            <a:off x="3433680" y="2301840"/>
            <a:ext cx="137880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18" name=""/>
          <p:cNvCxnSpPr>
            <a:stCxn id="2781" idx="2"/>
            <a:endCxn id="2739" idx="0"/>
          </p:cNvCxnSpPr>
          <p:nvPr/>
        </p:nvCxnSpPr>
        <p:spPr>
          <a:xfrm>
            <a:off x="3433680" y="2301840"/>
            <a:ext cx="202968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19" name=""/>
          <p:cNvCxnSpPr>
            <a:stCxn id="2781" idx="2"/>
            <a:endCxn id="2738" idx="0"/>
          </p:cNvCxnSpPr>
          <p:nvPr/>
        </p:nvCxnSpPr>
        <p:spPr>
          <a:xfrm>
            <a:off x="3433320" y="2301840"/>
            <a:ext cx="263916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20" name=""/>
          <p:cNvCxnSpPr>
            <a:stCxn id="2781" idx="2"/>
            <a:endCxn id="2740" idx="0"/>
          </p:cNvCxnSpPr>
          <p:nvPr/>
        </p:nvCxnSpPr>
        <p:spPr>
          <a:xfrm>
            <a:off x="3433320" y="2301840"/>
            <a:ext cx="324900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1" name=""/>
          <p:cNvSpPr/>
          <p:nvPr/>
        </p:nvSpPr>
        <p:spPr>
          <a:xfrm>
            <a:off x="10724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626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681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291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824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434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40442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577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744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51354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6354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6887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81072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7497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861984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5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7" name=""/>
          <p:cNvCxnSpPr>
            <a:stCxn id="2711" idx="4"/>
            <a:endCxn id="2836" idx="0"/>
          </p:cNvCxnSpPr>
          <p:nvPr/>
        </p:nvCxnSpPr>
        <p:spPr>
          <a:xfrm>
            <a:off x="190080" y="3200040"/>
            <a:ext cx="35640" cy="19818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838" name=""/>
          <p:cNvSpPr/>
          <p:nvPr/>
        </p:nvSpPr>
        <p:spPr>
          <a:xfrm>
            <a:off x="79246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781320" y="1752480"/>
            <a:ext cx="22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0" name=""/>
          <p:cNvCxnSpPr>
            <a:stCxn id="2781" idx="2"/>
            <a:endCxn id="2730" idx="0"/>
          </p:cNvCxnSpPr>
          <p:nvPr/>
        </p:nvCxnSpPr>
        <p:spPr>
          <a:xfrm flipH="1">
            <a:off x="1305720" y="2301840"/>
            <a:ext cx="212796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41" name=""/>
          <p:cNvCxnSpPr>
            <a:stCxn id="2781" idx="2"/>
            <a:endCxn id="2732" idx="0"/>
          </p:cNvCxnSpPr>
          <p:nvPr/>
        </p:nvCxnSpPr>
        <p:spPr>
          <a:xfrm flipH="1">
            <a:off x="1915560" y="2301840"/>
            <a:ext cx="151812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42" name=""/>
          <p:cNvSpPr/>
          <p:nvPr/>
        </p:nvSpPr>
        <p:spPr>
          <a:xfrm>
            <a:off x="0" y="1828800"/>
            <a:ext cx="91440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4" name=""/>
          <p:cNvCxnSpPr>
            <a:stCxn id="2780" idx="2"/>
            <a:endCxn id="2836" idx="0"/>
          </p:cNvCxnSpPr>
          <p:nvPr/>
        </p:nvCxnSpPr>
        <p:spPr>
          <a:xfrm flipH="1">
            <a:off x="225000" y="4206600"/>
            <a:ext cx="7261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45" name=""/>
          <p:cNvCxnSpPr>
            <a:stCxn id="2780" idx="2"/>
            <a:endCxn id="2822" idx="0"/>
          </p:cNvCxnSpPr>
          <p:nvPr/>
        </p:nvCxnSpPr>
        <p:spPr>
          <a:xfrm flipH="1">
            <a:off x="682200" y="4206600"/>
            <a:ext cx="68047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46" name=""/>
          <p:cNvCxnSpPr>
            <a:stCxn id="2780" idx="2"/>
            <a:endCxn id="2821" idx="0"/>
          </p:cNvCxnSpPr>
          <p:nvPr/>
        </p:nvCxnSpPr>
        <p:spPr>
          <a:xfrm flipH="1">
            <a:off x="1292040" y="4206600"/>
            <a:ext cx="619488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47" name=""/>
          <p:cNvCxnSpPr>
            <a:stCxn id="2780" idx="2"/>
            <a:endCxn id="2823" idx="0"/>
          </p:cNvCxnSpPr>
          <p:nvPr/>
        </p:nvCxnSpPr>
        <p:spPr>
          <a:xfrm flipH="1">
            <a:off x="1901160" y="4206600"/>
            <a:ext cx="558540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48" name=""/>
          <p:cNvCxnSpPr>
            <a:stCxn id="2780" idx="2"/>
            <a:endCxn id="2824" idx="0"/>
          </p:cNvCxnSpPr>
          <p:nvPr/>
        </p:nvCxnSpPr>
        <p:spPr>
          <a:xfrm flipH="1">
            <a:off x="2511000" y="4206600"/>
            <a:ext cx="4975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49" name=""/>
          <p:cNvCxnSpPr>
            <a:stCxn id="2780" idx="2"/>
            <a:endCxn id="2825" idx="0"/>
          </p:cNvCxnSpPr>
          <p:nvPr/>
        </p:nvCxnSpPr>
        <p:spPr>
          <a:xfrm flipH="1">
            <a:off x="3044520" y="4206600"/>
            <a:ext cx="444240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0" name=""/>
          <p:cNvCxnSpPr>
            <a:stCxn id="2780" idx="2"/>
            <a:endCxn id="2826" idx="0"/>
          </p:cNvCxnSpPr>
          <p:nvPr/>
        </p:nvCxnSpPr>
        <p:spPr>
          <a:xfrm flipH="1">
            <a:off x="3653640" y="4206600"/>
            <a:ext cx="3832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1" name=""/>
          <p:cNvCxnSpPr>
            <a:stCxn id="2780" idx="2"/>
            <a:endCxn id="2827" idx="0"/>
          </p:cNvCxnSpPr>
          <p:nvPr/>
        </p:nvCxnSpPr>
        <p:spPr>
          <a:xfrm flipH="1">
            <a:off x="4263480" y="4206600"/>
            <a:ext cx="322308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2" name=""/>
          <p:cNvCxnSpPr>
            <a:stCxn id="2780" idx="2"/>
            <a:endCxn id="2828" idx="0"/>
          </p:cNvCxnSpPr>
          <p:nvPr/>
        </p:nvCxnSpPr>
        <p:spPr>
          <a:xfrm flipH="1">
            <a:off x="4797000" y="4206600"/>
            <a:ext cx="2689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3" name=""/>
          <p:cNvCxnSpPr>
            <a:stCxn id="2780" idx="2"/>
            <a:endCxn id="2830" idx="0"/>
          </p:cNvCxnSpPr>
          <p:nvPr/>
        </p:nvCxnSpPr>
        <p:spPr>
          <a:xfrm flipH="1">
            <a:off x="5392440" y="4206600"/>
            <a:ext cx="209448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4" name=""/>
          <p:cNvCxnSpPr>
            <a:stCxn id="2780" idx="2"/>
            <a:endCxn id="2829" idx="0"/>
          </p:cNvCxnSpPr>
          <p:nvPr/>
        </p:nvCxnSpPr>
        <p:spPr>
          <a:xfrm flipH="1">
            <a:off x="6001560" y="4206600"/>
            <a:ext cx="148500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5" name=""/>
          <p:cNvCxnSpPr>
            <a:stCxn id="2780" idx="2"/>
            <a:endCxn id="2831" idx="0"/>
          </p:cNvCxnSpPr>
          <p:nvPr/>
        </p:nvCxnSpPr>
        <p:spPr>
          <a:xfrm flipH="1">
            <a:off x="6611400" y="4206600"/>
            <a:ext cx="8755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6" name=""/>
          <p:cNvCxnSpPr>
            <a:stCxn id="2780" idx="2"/>
            <a:endCxn id="2832" idx="0"/>
          </p:cNvCxnSpPr>
          <p:nvPr/>
        </p:nvCxnSpPr>
        <p:spPr>
          <a:xfrm flipH="1">
            <a:off x="7144920" y="4206600"/>
            <a:ext cx="34200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7" name=""/>
          <p:cNvCxnSpPr>
            <a:stCxn id="2780" idx="2"/>
            <a:endCxn id="2834" idx="0"/>
          </p:cNvCxnSpPr>
          <p:nvPr/>
        </p:nvCxnSpPr>
        <p:spPr>
          <a:xfrm>
            <a:off x="7486200" y="4206600"/>
            <a:ext cx="26892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8" name=""/>
          <p:cNvCxnSpPr>
            <a:stCxn id="2780" idx="2"/>
            <a:endCxn id="2833" idx="0"/>
          </p:cNvCxnSpPr>
          <p:nvPr/>
        </p:nvCxnSpPr>
        <p:spPr>
          <a:xfrm>
            <a:off x="7486200" y="4206600"/>
            <a:ext cx="87876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859" name=""/>
          <p:cNvCxnSpPr>
            <a:stCxn id="2780" idx="2"/>
            <a:endCxn id="2835" idx="0"/>
          </p:cNvCxnSpPr>
          <p:nvPr/>
        </p:nvCxnSpPr>
        <p:spPr>
          <a:xfrm>
            <a:off x="7486200" y="4206600"/>
            <a:ext cx="1391040" cy="97524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860" name=""/>
          <p:cNvSpPr/>
          <p:nvPr/>
        </p:nvSpPr>
        <p:spPr>
          <a:xfrm>
            <a:off x="4952880" y="3505320"/>
            <a:ext cx="38124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56272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617220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666880" y="3505320"/>
            <a:ext cx="38124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20040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3809880" y="3505320"/>
            <a:ext cx="38124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0492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838080" y="3505320"/>
            <a:ext cx="38124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44792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057400" y="3505320"/>
            <a:ext cx="38088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1" name=""/>
          <p:cNvCxnSpPr>
            <a:stCxn id="2867" idx="6"/>
            <a:endCxn id="2868" idx="2"/>
          </p:cNvCxnSpPr>
          <p:nvPr/>
        </p:nvCxnSpPr>
        <p:spPr>
          <a:xfrm>
            <a:off x="685440" y="3695400"/>
            <a:ext cx="15300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872" name=""/>
          <p:cNvCxnSpPr>
            <a:stCxn id="2868" idx="6"/>
            <a:endCxn id="2869" idx="2"/>
          </p:cNvCxnSpPr>
          <p:nvPr/>
        </p:nvCxnSpPr>
        <p:spPr>
          <a:xfrm>
            <a:off x="121896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873" name=""/>
          <p:cNvCxnSpPr>
            <a:stCxn id="2869" idx="6"/>
            <a:endCxn id="2870" idx="2"/>
          </p:cNvCxnSpPr>
          <p:nvPr/>
        </p:nvCxnSpPr>
        <p:spPr>
          <a:xfrm>
            <a:off x="182844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874" name=""/>
          <p:cNvCxnSpPr>
            <a:stCxn id="2870" idx="6"/>
            <a:endCxn id="2863" idx="2"/>
          </p:cNvCxnSpPr>
          <p:nvPr/>
        </p:nvCxnSpPr>
        <p:spPr>
          <a:xfrm>
            <a:off x="243792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875" name=""/>
          <p:cNvCxnSpPr>
            <a:stCxn id="2863" idx="6"/>
            <a:endCxn id="2864" idx="2"/>
          </p:cNvCxnSpPr>
          <p:nvPr/>
        </p:nvCxnSpPr>
        <p:spPr>
          <a:xfrm>
            <a:off x="3047760" y="3695400"/>
            <a:ext cx="15300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876" name=""/>
          <p:cNvCxnSpPr>
            <a:stCxn id="2864" idx="6"/>
            <a:endCxn id="2865" idx="2"/>
          </p:cNvCxnSpPr>
          <p:nvPr/>
        </p:nvCxnSpPr>
        <p:spPr>
          <a:xfrm>
            <a:off x="358092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877" name=""/>
          <p:cNvCxnSpPr>
            <a:stCxn id="2865" idx="6"/>
            <a:endCxn id="2866" idx="2"/>
          </p:cNvCxnSpPr>
          <p:nvPr/>
        </p:nvCxnSpPr>
        <p:spPr>
          <a:xfrm>
            <a:off x="419076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878" name=""/>
          <p:cNvCxnSpPr>
            <a:stCxn id="2866" idx="6"/>
            <a:endCxn id="2860" idx="2"/>
          </p:cNvCxnSpPr>
          <p:nvPr/>
        </p:nvCxnSpPr>
        <p:spPr>
          <a:xfrm>
            <a:off x="4800240" y="3695400"/>
            <a:ext cx="15300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879" name=""/>
          <p:cNvCxnSpPr>
            <a:stCxn id="2860" idx="6"/>
            <a:endCxn id="2861" idx="2"/>
          </p:cNvCxnSpPr>
          <p:nvPr/>
        </p:nvCxnSpPr>
        <p:spPr>
          <a:xfrm>
            <a:off x="533376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880" name=""/>
          <p:cNvCxnSpPr>
            <a:stCxn id="2861" idx="6"/>
            <a:endCxn id="2862" idx="2"/>
          </p:cNvCxnSpPr>
          <p:nvPr/>
        </p:nvCxnSpPr>
        <p:spPr>
          <a:xfrm>
            <a:off x="5943240" y="369540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2881" name=""/>
          <p:cNvSpPr/>
          <p:nvPr/>
        </p:nvSpPr>
        <p:spPr>
          <a:xfrm>
            <a:off x="137664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7671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198612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5959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312912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7389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34844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881960" y="35053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104880" y="35053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5495040" y="35053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56960" y="3505320"/>
            <a:ext cx="63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2" name=""/>
          <p:cNvCxnSpPr>
            <a:endCxn id="2867" idx="1"/>
          </p:cNvCxnSpPr>
          <p:nvPr/>
        </p:nvCxnSpPr>
        <p:spPr>
          <a:xfrm>
            <a:off x="190440" y="3200040"/>
            <a:ext cx="170640" cy="36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893" name=""/>
          <p:cNvCxnSpPr>
            <a:endCxn id="2868" idx="1"/>
          </p:cNvCxnSpPr>
          <p:nvPr/>
        </p:nvCxnSpPr>
        <p:spPr>
          <a:xfrm>
            <a:off x="69660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894" name=""/>
          <p:cNvCxnSpPr>
            <a:endCxn id="2869" idx="1"/>
          </p:cNvCxnSpPr>
          <p:nvPr/>
        </p:nvCxnSpPr>
        <p:spPr>
          <a:xfrm>
            <a:off x="130608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895" name=""/>
          <p:cNvCxnSpPr>
            <a:endCxn id="2870" idx="1"/>
          </p:cNvCxnSpPr>
          <p:nvPr/>
        </p:nvCxnSpPr>
        <p:spPr>
          <a:xfrm>
            <a:off x="1916280" y="3215880"/>
            <a:ext cx="19728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896" name=""/>
          <p:cNvCxnSpPr>
            <a:endCxn id="2863" idx="1"/>
          </p:cNvCxnSpPr>
          <p:nvPr/>
        </p:nvCxnSpPr>
        <p:spPr>
          <a:xfrm>
            <a:off x="252540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897" name=""/>
          <p:cNvCxnSpPr>
            <a:endCxn id="2864" idx="1"/>
          </p:cNvCxnSpPr>
          <p:nvPr/>
        </p:nvCxnSpPr>
        <p:spPr>
          <a:xfrm>
            <a:off x="3059280" y="3215880"/>
            <a:ext cx="19728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898" name=""/>
          <p:cNvCxnSpPr>
            <a:endCxn id="2865" idx="1"/>
          </p:cNvCxnSpPr>
          <p:nvPr/>
        </p:nvCxnSpPr>
        <p:spPr>
          <a:xfrm>
            <a:off x="366840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899" name=""/>
          <p:cNvCxnSpPr>
            <a:endCxn id="2866" idx="1"/>
          </p:cNvCxnSpPr>
          <p:nvPr/>
        </p:nvCxnSpPr>
        <p:spPr>
          <a:xfrm>
            <a:off x="427788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00" name=""/>
          <p:cNvCxnSpPr>
            <a:endCxn id="2860" idx="1"/>
          </p:cNvCxnSpPr>
          <p:nvPr/>
        </p:nvCxnSpPr>
        <p:spPr>
          <a:xfrm>
            <a:off x="4811400" y="3215880"/>
            <a:ext cx="1976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01" name=""/>
          <p:cNvCxnSpPr>
            <a:endCxn id="2861" idx="1"/>
          </p:cNvCxnSpPr>
          <p:nvPr/>
        </p:nvCxnSpPr>
        <p:spPr>
          <a:xfrm>
            <a:off x="5462640" y="3215880"/>
            <a:ext cx="15588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02" name=""/>
          <p:cNvCxnSpPr>
            <a:endCxn id="2862" idx="1"/>
          </p:cNvCxnSpPr>
          <p:nvPr/>
        </p:nvCxnSpPr>
        <p:spPr>
          <a:xfrm>
            <a:off x="6072120" y="3215880"/>
            <a:ext cx="15588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03" name=""/>
          <p:cNvCxnSpPr>
            <a:stCxn id="2889" idx="0"/>
          </p:cNvCxnSpPr>
          <p:nvPr/>
        </p:nvCxnSpPr>
        <p:spPr>
          <a:xfrm flipV="1">
            <a:off x="6426000" y="3144240"/>
            <a:ext cx="10692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904" name=""/>
          <p:cNvCxnSpPr>
            <a:stCxn id="2890" idx="0"/>
            <a:endCxn id="2705" idx="3"/>
          </p:cNvCxnSpPr>
          <p:nvPr/>
        </p:nvCxnSpPr>
        <p:spPr>
          <a:xfrm flipV="1">
            <a:off x="5816520" y="3144240"/>
            <a:ext cx="10728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905" name=""/>
          <p:cNvCxnSpPr>
            <a:stCxn id="2888" idx="0"/>
            <a:endCxn id="2704" idx="3"/>
          </p:cNvCxnSpPr>
          <p:nvPr/>
        </p:nvCxnSpPr>
        <p:spPr>
          <a:xfrm flipV="1">
            <a:off x="5165640" y="3144240"/>
            <a:ext cx="14832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906" name=""/>
          <p:cNvCxnSpPr>
            <a:stCxn id="2887" idx="0"/>
            <a:endCxn id="2703" idx="3"/>
          </p:cNvCxnSpPr>
          <p:nvPr/>
        </p:nvCxnSpPr>
        <p:spPr>
          <a:xfrm flipV="1">
            <a:off x="4632480" y="3144240"/>
            <a:ext cx="7200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907" name=""/>
          <p:cNvCxnSpPr>
            <a:stCxn id="2891" idx="0"/>
            <a:endCxn id="2712" idx="3"/>
          </p:cNvCxnSpPr>
          <p:nvPr/>
        </p:nvCxnSpPr>
        <p:spPr>
          <a:xfrm flipV="1">
            <a:off x="473040" y="3144240"/>
            <a:ext cx="11664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908" name=""/>
          <p:cNvCxnSpPr>
            <a:stCxn id="2882" idx="0"/>
            <a:endCxn id="2713" idx="3"/>
          </p:cNvCxnSpPr>
          <p:nvPr/>
        </p:nvCxnSpPr>
        <p:spPr>
          <a:xfrm flipV="1">
            <a:off x="1050840" y="3144240"/>
            <a:ext cx="14832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2909" name=""/>
          <p:cNvCxnSpPr>
            <a:stCxn id="2881" idx="0"/>
            <a:endCxn id="2714" idx="3"/>
          </p:cNvCxnSpPr>
          <p:nvPr/>
        </p:nvCxnSpPr>
        <p:spPr>
          <a:xfrm flipV="1">
            <a:off x="1660680" y="3144240"/>
            <a:ext cx="148320" cy="36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"/>
          <p:cNvSpPr/>
          <p:nvPr/>
        </p:nvSpPr>
        <p:spPr>
          <a:xfrm>
            <a:off x="7010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7620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82296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8763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4648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867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362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895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3505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4114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5335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1430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752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6" name=""/>
          <p:cNvCxnSpPr>
            <a:stCxn id="2922" idx="6"/>
            <a:endCxn id="2923" idx="2"/>
          </p:cNvCxnSpPr>
          <p:nvPr/>
        </p:nvCxnSpPr>
        <p:spPr>
          <a:xfrm>
            <a:off x="3808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27" name=""/>
          <p:cNvCxnSpPr>
            <a:stCxn id="2923" idx="6"/>
            <a:endCxn id="2924" idx="2"/>
          </p:cNvCxnSpPr>
          <p:nvPr/>
        </p:nvCxnSpPr>
        <p:spPr>
          <a:xfrm>
            <a:off x="9140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28" name=""/>
          <p:cNvCxnSpPr>
            <a:stCxn id="2924" idx="6"/>
            <a:endCxn id="2925" idx="2"/>
          </p:cNvCxnSpPr>
          <p:nvPr/>
        </p:nvCxnSpPr>
        <p:spPr>
          <a:xfrm>
            <a:off x="15235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29" name=""/>
          <p:cNvCxnSpPr>
            <a:stCxn id="2925" idx="6"/>
            <a:endCxn id="2918" idx="2"/>
          </p:cNvCxnSpPr>
          <p:nvPr/>
        </p:nvCxnSpPr>
        <p:spPr>
          <a:xfrm>
            <a:off x="2133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0" name=""/>
          <p:cNvCxnSpPr>
            <a:stCxn id="2918" idx="6"/>
            <a:endCxn id="2919" idx="2"/>
          </p:cNvCxnSpPr>
          <p:nvPr/>
        </p:nvCxnSpPr>
        <p:spPr>
          <a:xfrm>
            <a:off x="27428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1" name=""/>
          <p:cNvCxnSpPr>
            <a:stCxn id="2919" idx="6"/>
            <a:endCxn id="2920" idx="2"/>
          </p:cNvCxnSpPr>
          <p:nvPr/>
        </p:nvCxnSpPr>
        <p:spPr>
          <a:xfrm>
            <a:off x="3276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2" name=""/>
          <p:cNvCxnSpPr>
            <a:stCxn id="2920" idx="6"/>
            <a:endCxn id="2921" idx="2"/>
          </p:cNvCxnSpPr>
          <p:nvPr/>
        </p:nvCxnSpPr>
        <p:spPr>
          <a:xfrm>
            <a:off x="3885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3" name=""/>
          <p:cNvCxnSpPr>
            <a:stCxn id="2921" idx="6"/>
            <a:endCxn id="2914" idx="2"/>
          </p:cNvCxnSpPr>
          <p:nvPr/>
        </p:nvCxnSpPr>
        <p:spPr>
          <a:xfrm>
            <a:off x="44956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4" name=""/>
          <p:cNvCxnSpPr>
            <a:stCxn id="2914" idx="6"/>
            <a:endCxn id="2915" idx="2"/>
          </p:cNvCxnSpPr>
          <p:nvPr/>
        </p:nvCxnSpPr>
        <p:spPr>
          <a:xfrm>
            <a:off x="5028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5" name=""/>
          <p:cNvCxnSpPr>
            <a:stCxn id="2915" idx="6"/>
            <a:endCxn id="2916" idx="2"/>
          </p:cNvCxnSpPr>
          <p:nvPr/>
        </p:nvCxnSpPr>
        <p:spPr>
          <a:xfrm>
            <a:off x="56383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6" name=""/>
          <p:cNvCxnSpPr>
            <a:stCxn id="2916" idx="6"/>
            <a:endCxn id="2917" idx="2"/>
          </p:cNvCxnSpPr>
          <p:nvPr/>
        </p:nvCxnSpPr>
        <p:spPr>
          <a:xfrm>
            <a:off x="6248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7" name=""/>
          <p:cNvCxnSpPr>
            <a:stCxn id="2917" idx="6"/>
            <a:endCxn id="2910" idx="2"/>
          </p:cNvCxnSpPr>
          <p:nvPr/>
        </p:nvCxnSpPr>
        <p:spPr>
          <a:xfrm>
            <a:off x="68576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8" name=""/>
          <p:cNvCxnSpPr>
            <a:stCxn id="2910" idx="6"/>
            <a:endCxn id="2911" idx="2"/>
          </p:cNvCxnSpPr>
          <p:nvPr/>
        </p:nvCxnSpPr>
        <p:spPr>
          <a:xfrm>
            <a:off x="7391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39" name=""/>
          <p:cNvCxnSpPr>
            <a:stCxn id="2911" idx="6"/>
            <a:endCxn id="2912" idx="2"/>
          </p:cNvCxnSpPr>
          <p:nvPr/>
        </p:nvCxnSpPr>
        <p:spPr>
          <a:xfrm>
            <a:off x="80006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940" name=""/>
          <p:cNvCxnSpPr>
            <a:stCxn id="2912" idx="6"/>
            <a:endCxn id="2913" idx="2"/>
          </p:cNvCxnSpPr>
          <p:nvPr/>
        </p:nvCxnSpPr>
        <p:spPr>
          <a:xfrm>
            <a:off x="86104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941" name=""/>
          <p:cNvSpPr/>
          <p:nvPr/>
        </p:nvSpPr>
        <p:spPr>
          <a:xfrm>
            <a:off x="10713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4615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680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290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2823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3433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40431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4576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5799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51897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6409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6942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8161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7552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8674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7010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7620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2296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763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4648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5257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477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2362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895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3505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11430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752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2" name=""/>
          <p:cNvCxnSpPr>
            <a:stCxn id="2968" idx="6"/>
            <a:endCxn id="2969" idx="2"/>
          </p:cNvCxnSpPr>
          <p:nvPr/>
        </p:nvCxnSpPr>
        <p:spPr>
          <a:xfrm>
            <a:off x="3808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73" name=""/>
          <p:cNvCxnSpPr>
            <a:stCxn id="2969" idx="6"/>
            <a:endCxn id="2970" idx="2"/>
          </p:cNvCxnSpPr>
          <p:nvPr/>
        </p:nvCxnSpPr>
        <p:spPr>
          <a:xfrm>
            <a:off x="9140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74" name=""/>
          <p:cNvCxnSpPr>
            <a:stCxn id="2970" idx="6"/>
            <a:endCxn id="2971" idx="2"/>
          </p:cNvCxnSpPr>
          <p:nvPr/>
        </p:nvCxnSpPr>
        <p:spPr>
          <a:xfrm>
            <a:off x="15235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75" name=""/>
          <p:cNvCxnSpPr>
            <a:stCxn id="2971" idx="6"/>
            <a:endCxn id="2964" idx="2"/>
          </p:cNvCxnSpPr>
          <p:nvPr/>
        </p:nvCxnSpPr>
        <p:spPr>
          <a:xfrm>
            <a:off x="2133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76" name=""/>
          <p:cNvCxnSpPr>
            <a:stCxn id="2964" idx="6"/>
            <a:endCxn id="2965" idx="2"/>
          </p:cNvCxnSpPr>
          <p:nvPr/>
        </p:nvCxnSpPr>
        <p:spPr>
          <a:xfrm>
            <a:off x="27428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77" name=""/>
          <p:cNvCxnSpPr>
            <a:stCxn id="2965" idx="6"/>
            <a:endCxn id="2966" idx="2"/>
          </p:cNvCxnSpPr>
          <p:nvPr/>
        </p:nvCxnSpPr>
        <p:spPr>
          <a:xfrm>
            <a:off x="3276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78" name=""/>
          <p:cNvCxnSpPr>
            <a:stCxn id="2966" idx="6"/>
            <a:endCxn id="2967" idx="2"/>
          </p:cNvCxnSpPr>
          <p:nvPr/>
        </p:nvCxnSpPr>
        <p:spPr>
          <a:xfrm>
            <a:off x="3885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79" name=""/>
          <p:cNvCxnSpPr>
            <a:stCxn id="2967" idx="6"/>
            <a:endCxn id="2960" idx="2"/>
          </p:cNvCxnSpPr>
          <p:nvPr/>
        </p:nvCxnSpPr>
        <p:spPr>
          <a:xfrm>
            <a:off x="44956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80" name=""/>
          <p:cNvCxnSpPr>
            <a:stCxn id="2960" idx="6"/>
            <a:endCxn id="2961" idx="2"/>
          </p:cNvCxnSpPr>
          <p:nvPr/>
        </p:nvCxnSpPr>
        <p:spPr>
          <a:xfrm>
            <a:off x="5028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81" name=""/>
          <p:cNvCxnSpPr>
            <a:stCxn id="2961" idx="6"/>
            <a:endCxn id="2962" idx="2"/>
          </p:cNvCxnSpPr>
          <p:nvPr/>
        </p:nvCxnSpPr>
        <p:spPr>
          <a:xfrm>
            <a:off x="56383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82" name=""/>
          <p:cNvCxnSpPr>
            <a:stCxn id="2962" idx="6"/>
            <a:endCxn id="2963" idx="2"/>
          </p:cNvCxnSpPr>
          <p:nvPr/>
        </p:nvCxnSpPr>
        <p:spPr>
          <a:xfrm>
            <a:off x="6248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83" name=""/>
          <p:cNvCxnSpPr>
            <a:stCxn id="2963" idx="6"/>
            <a:endCxn id="2956" idx="2"/>
          </p:cNvCxnSpPr>
          <p:nvPr/>
        </p:nvCxnSpPr>
        <p:spPr>
          <a:xfrm>
            <a:off x="68576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84" name=""/>
          <p:cNvCxnSpPr>
            <a:stCxn id="2956" idx="6"/>
            <a:endCxn id="2957" idx="2"/>
          </p:cNvCxnSpPr>
          <p:nvPr/>
        </p:nvCxnSpPr>
        <p:spPr>
          <a:xfrm>
            <a:off x="7391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85" name=""/>
          <p:cNvCxnSpPr>
            <a:stCxn id="2957" idx="6"/>
            <a:endCxn id="2958" idx="2"/>
          </p:cNvCxnSpPr>
          <p:nvPr/>
        </p:nvCxnSpPr>
        <p:spPr>
          <a:xfrm>
            <a:off x="80006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2986" name=""/>
          <p:cNvCxnSpPr>
            <a:stCxn id="2958" idx="6"/>
            <a:endCxn id="2959" idx="2"/>
          </p:cNvCxnSpPr>
          <p:nvPr/>
        </p:nvCxnSpPr>
        <p:spPr>
          <a:xfrm>
            <a:off x="86104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2987" name=""/>
          <p:cNvSpPr/>
          <p:nvPr/>
        </p:nvSpPr>
        <p:spPr>
          <a:xfrm>
            <a:off x="10713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4615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680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290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823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3433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40431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576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799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51897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6409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6942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8161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7552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8674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7620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82296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8763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648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257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867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477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362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895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3505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4114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1752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8" name=""/>
          <p:cNvCxnSpPr>
            <a:stCxn id="3014" idx="6"/>
            <a:endCxn id="3015" idx="2"/>
          </p:cNvCxnSpPr>
          <p:nvPr/>
        </p:nvCxnSpPr>
        <p:spPr>
          <a:xfrm>
            <a:off x="3808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19" name=""/>
          <p:cNvCxnSpPr>
            <a:stCxn id="3015" idx="6"/>
            <a:endCxn id="3016" idx="2"/>
          </p:cNvCxnSpPr>
          <p:nvPr/>
        </p:nvCxnSpPr>
        <p:spPr>
          <a:xfrm>
            <a:off x="9140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0" name=""/>
          <p:cNvCxnSpPr>
            <a:stCxn id="3016" idx="6"/>
            <a:endCxn id="3017" idx="2"/>
          </p:cNvCxnSpPr>
          <p:nvPr/>
        </p:nvCxnSpPr>
        <p:spPr>
          <a:xfrm>
            <a:off x="15235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1" name=""/>
          <p:cNvCxnSpPr>
            <a:stCxn id="3017" idx="6"/>
            <a:endCxn id="3010" idx="2"/>
          </p:cNvCxnSpPr>
          <p:nvPr/>
        </p:nvCxnSpPr>
        <p:spPr>
          <a:xfrm>
            <a:off x="2133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2" name=""/>
          <p:cNvCxnSpPr>
            <a:stCxn id="3010" idx="6"/>
            <a:endCxn id="3011" idx="2"/>
          </p:cNvCxnSpPr>
          <p:nvPr/>
        </p:nvCxnSpPr>
        <p:spPr>
          <a:xfrm>
            <a:off x="27428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3" name=""/>
          <p:cNvCxnSpPr>
            <a:stCxn id="3011" idx="6"/>
            <a:endCxn id="3012" idx="2"/>
          </p:cNvCxnSpPr>
          <p:nvPr/>
        </p:nvCxnSpPr>
        <p:spPr>
          <a:xfrm>
            <a:off x="3276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4" name=""/>
          <p:cNvCxnSpPr>
            <a:stCxn id="3012" idx="6"/>
            <a:endCxn id="3013" idx="2"/>
          </p:cNvCxnSpPr>
          <p:nvPr/>
        </p:nvCxnSpPr>
        <p:spPr>
          <a:xfrm>
            <a:off x="3885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5" name=""/>
          <p:cNvCxnSpPr>
            <a:stCxn id="3013" idx="6"/>
            <a:endCxn id="3006" idx="2"/>
          </p:cNvCxnSpPr>
          <p:nvPr/>
        </p:nvCxnSpPr>
        <p:spPr>
          <a:xfrm>
            <a:off x="44956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6" name=""/>
          <p:cNvCxnSpPr>
            <a:stCxn id="3006" idx="6"/>
            <a:endCxn id="3007" idx="2"/>
          </p:cNvCxnSpPr>
          <p:nvPr/>
        </p:nvCxnSpPr>
        <p:spPr>
          <a:xfrm>
            <a:off x="5028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7" name=""/>
          <p:cNvCxnSpPr>
            <a:stCxn id="3007" idx="6"/>
            <a:endCxn id="3008" idx="2"/>
          </p:cNvCxnSpPr>
          <p:nvPr/>
        </p:nvCxnSpPr>
        <p:spPr>
          <a:xfrm>
            <a:off x="56383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8" name=""/>
          <p:cNvCxnSpPr>
            <a:stCxn id="3008" idx="6"/>
            <a:endCxn id="3009" idx="2"/>
          </p:cNvCxnSpPr>
          <p:nvPr/>
        </p:nvCxnSpPr>
        <p:spPr>
          <a:xfrm>
            <a:off x="6248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29" name=""/>
          <p:cNvCxnSpPr>
            <a:stCxn id="3009" idx="6"/>
            <a:endCxn id="3002" idx="2"/>
          </p:cNvCxnSpPr>
          <p:nvPr/>
        </p:nvCxnSpPr>
        <p:spPr>
          <a:xfrm>
            <a:off x="68576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30" name=""/>
          <p:cNvCxnSpPr>
            <a:stCxn id="3002" idx="6"/>
            <a:endCxn id="3003" idx="2"/>
          </p:cNvCxnSpPr>
          <p:nvPr/>
        </p:nvCxnSpPr>
        <p:spPr>
          <a:xfrm>
            <a:off x="7391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31" name=""/>
          <p:cNvCxnSpPr>
            <a:stCxn id="3003" idx="6"/>
            <a:endCxn id="3004" idx="2"/>
          </p:cNvCxnSpPr>
          <p:nvPr/>
        </p:nvCxnSpPr>
        <p:spPr>
          <a:xfrm>
            <a:off x="80006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032" name=""/>
          <p:cNvCxnSpPr>
            <a:stCxn id="3004" idx="6"/>
            <a:endCxn id="3005" idx="2"/>
          </p:cNvCxnSpPr>
          <p:nvPr/>
        </p:nvCxnSpPr>
        <p:spPr>
          <a:xfrm>
            <a:off x="86104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3033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9" name=""/>
          <p:cNvCxnSpPr>
            <a:stCxn id="3045" idx="6"/>
            <a:endCxn id="3046" idx="2"/>
          </p:cNvCxnSpPr>
          <p:nvPr/>
        </p:nvCxnSpPr>
        <p:spPr>
          <a:xfrm>
            <a:off x="3808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0" name=""/>
          <p:cNvCxnSpPr>
            <a:stCxn id="3046" idx="6"/>
            <a:endCxn id="3047" idx="2"/>
          </p:cNvCxnSpPr>
          <p:nvPr/>
        </p:nvCxnSpPr>
        <p:spPr>
          <a:xfrm>
            <a:off x="9140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1" name=""/>
          <p:cNvCxnSpPr>
            <a:stCxn id="3047" idx="6"/>
            <a:endCxn id="3048" idx="2"/>
          </p:cNvCxnSpPr>
          <p:nvPr/>
        </p:nvCxnSpPr>
        <p:spPr>
          <a:xfrm>
            <a:off x="15235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2" name=""/>
          <p:cNvCxnSpPr>
            <a:stCxn id="3048" idx="6"/>
            <a:endCxn id="3041" idx="2"/>
          </p:cNvCxnSpPr>
          <p:nvPr/>
        </p:nvCxnSpPr>
        <p:spPr>
          <a:xfrm>
            <a:off x="2133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3" name=""/>
          <p:cNvCxnSpPr>
            <a:stCxn id="3041" idx="6"/>
            <a:endCxn id="3042" idx="2"/>
          </p:cNvCxnSpPr>
          <p:nvPr/>
        </p:nvCxnSpPr>
        <p:spPr>
          <a:xfrm>
            <a:off x="27428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4" name=""/>
          <p:cNvCxnSpPr>
            <a:stCxn id="3042" idx="6"/>
            <a:endCxn id="3043" idx="2"/>
          </p:cNvCxnSpPr>
          <p:nvPr/>
        </p:nvCxnSpPr>
        <p:spPr>
          <a:xfrm>
            <a:off x="3276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5" name=""/>
          <p:cNvCxnSpPr>
            <a:stCxn id="3043" idx="6"/>
            <a:endCxn id="3044" idx="2"/>
          </p:cNvCxnSpPr>
          <p:nvPr/>
        </p:nvCxnSpPr>
        <p:spPr>
          <a:xfrm>
            <a:off x="3885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6" name=""/>
          <p:cNvCxnSpPr>
            <a:stCxn id="3044" idx="6"/>
            <a:endCxn id="3037" idx="2"/>
          </p:cNvCxnSpPr>
          <p:nvPr/>
        </p:nvCxnSpPr>
        <p:spPr>
          <a:xfrm>
            <a:off x="44956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7" name=""/>
          <p:cNvCxnSpPr>
            <a:stCxn id="3037" idx="6"/>
            <a:endCxn id="3038" idx="2"/>
          </p:cNvCxnSpPr>
          <p:nvPr/>
        </p:nvCxnSpPr>
        <p:spPr>
          <a:xfrm>
            <a:off x="5028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8" name=""/>
          <p:cNvCxnSpPr>
            <a:stCxn id="3038" idx="6"/>
            <a:endCxn id="3039" idx="2"/>
          </p:cNvCxnSpPr>
          <p:nvPr/>
        </p:nvCxnSpPr>
        <p:spPr>
          <a:xfrm>
            <a:off x="56383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59" name=""/>
          <p:cNvCxnSpPr>
            <a:stCxn id="3039" idx="6"/>
            <a:endCxn id="3040" idx="2"/>
          </p:cNvCxnSpPr>
          <p:nvPr/>
        </p:nvCxnSpPr>
        <p:spPr>
          <a:xfrm>
            <a:off x="6248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60" name=""/>
          <p:cNvCxnSpPr>
            <a:stCxn id="3040" idx="6"/>
            <a:endCxn id="3033" idx="2"/>
          </p:cNvCxnSpPr>
          <p:nvPr/>
        </p:nvCxnSpPr>
        <p:spPr>
          <a:xfrm>
            <a:off x="68576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61" name=""/>
          <p:cNvCxnSpPr>
            <a:stCxn id="3033" idx="6"/>
            <a:endCxn id="3034" idx="2"/>
          </p:cNvCxnSpPr>
          <p:nvPr/>
        </p:nvCxnSpPr>
        <p:spPr>
          <a:xfrm>
            <a:off x="7391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62" name=""/>
          <p:cNvCxnSpPr>
            <a:stCxn id="3034" idx="6"/>
            <a:endCxn id="3035" idx="2"/>
          </p:cNvCxnSpPr>
          <p:nvPr/>
        </p:nvCxnSpPr>
        <p:spPr>
          <a:xfrm>
            <a:off x="80006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063" name=""/>
          <p:cNvCxnSpPr>
            <a:stCxn id="3035" idx="6"/>
            <a:endCxn id="3036" idx="2"/>
          </p:cNvCxnSpPr>
          <p:nvPr/>
        </p:nvCxnSpPr>
        <p:spPr>
          <a:xfrm>
            <a:off x="86104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3064" name=""/>
          <p:cNvSpPr/>
          <p:nvPr/>
        </p:nvSpPr>
        <p:spPr>
          <a:xfrm>
            <a:off x="10713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4615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1680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2290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2823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3433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40431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4576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5799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51897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409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6942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81615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7552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8695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3276720" y="45720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5410080" y="457200"/>
            <a:ext cx="38124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5335200" y="457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3201480" y="457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3200400" y="23623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5562720" y="2362320"/>
            <a:ext cx="380880" cy="3808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548748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3125520" y="2362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3733920" y="39625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4878000" y="3962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3658680" y="3962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3" name=""/>
          <p:cNvCxnSpPr>
            <a:stCxn id="2922" idx="4"/>
          </p:cNvCxnSpPr>
          <p:nvPr/>
        </p:nvCxnSpPr>
        <p:spPr>
          <a:xfrm>
            <a:off x="190440" y="213336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094" name=""/>
          <p:cNvCxnSpPr>
            <a:stCxn id="2942" idx="2"/>
            <a:endCxn id="3046" idx="0"/>
          </p:cNvCxnSpPr>
          <p:nvPr/>
        </p:nvCxnSpPr>
        <p:spPr>
          <a:xfrm>
            <a:off x="6966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095" name=""/>
          <p:cNvCxnSpPr>
            <a:stCxn id="2924" idx="4"/>
            <a:endCxn id="3047" idx="0"/>
          </p:cNvCxnSpPr>
          <p:nvPr/>
        </p:nvCxnSpPr>
        <p:spPr>
          <a:xfrm>
            <a:off x="133308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096" name=""/>
          <p:cNvCxnSpPr>
            <a:stCxn id="2943" idx="2"/>
            <a:endCxn id="3048" idx="0"/>
          </p:cNvCxnSpPr>
          <p:nvPr/>
        </p:nvCxnSpPr>
        <p:spPr>
          <a:xfrm>
            <a:off x="1915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097" name=""/>
          <p:cNvCxnSpPr>
            <a:stCxn id="2944" idx="2"/>
            <a:endCxn id="3041" idx="0"/>
          </p:cNvCxnSpPr>
          <p:nvPr/>
        </p:nvCxnSpPr>
        <p:spPr>
          <a:xfrm>
            <a:off x="2525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098" name=""/>
          <p:cNvCxnSpPr>
            <a:stCxn id="2945" idx="2"/>
            <a:endCxn id="3042" idx="0"/>
          </p:cNvCxnSpPr>
          <p:nvPr/>
        </p:nvCxnSpPr>
        <p:spPr>
          <a:xfrm>
            <a:off x="3058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099" name=""/>
          <p:cNvCxnSpPr>
            <a:stCxn id="2946" idx="2"/>
            <a:endCxn id="3043" idx="0"/>
          </p:cNvCxnSpPr>
          <p:nvPr/>
        </p:nvCxnSpPr>
        <p:spPr>
          <a:xfrm>
            <a:off x="3668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0" name=""/>
          <p:cNvCxnSpPr>
            <a:stCxn id="2947" idx="2"/>
            <a:endCxn id="3044" idx="0"/>
          </p:cNvCxnSpPr>
          <p:nvPr/>
        </p:nvCxnSpPr>
        <p:spPr>
          <a:xfrm>
            <a:off x="427788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1" name=""/>
          <p:cNvCxnSpPr>
            <a:stCxn id="2948" idx="2"/>
            <a:endCxn id="3037" idx="0"/>
          </p:cNvCxnSpPr>
          <p:nvPr/>
        </p:nvCxnSpPr>
        <p:spPr>
          <a:xfrm>
            <a:off x="4811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2" name=""/>
          <p:cNvCxnSpPr>
            <a:stCxn id="2950" idx="2"/>
            <a:endCxn id="3038" idx="0"/>
          </p:cNvCxnSpPr>
          <p:nvPr/>
        </p:nvCxnSpPr>
        <p:spPr>
          <a:xfrm flipH="1">
            <a:off x="54478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3" name=""/>
          <p:cNvCxnSpPr>
            <a:stCxn id="2916" idx="4"/>
            <a:endCxn id="3039" idx="0"/>
          </p:cNvCxnSpPr>
          <p:nvPr/>
        </p:nvCxnSpPr>
        <p:spPr>
          <a:xfrm>
            <a:off x="605772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4" name=""/>
          <p:cNvCxnSpPr>
            <a:stCxn id="2951" idx="2"/>
            <a:endCxn id="3040" idx="0"/>
          </p:cNvCxnSpPr>
          <p:nvPr/>
        </p:nvCxnSpPr>
        <p:spPr>
          <a:xfrm flipH="1">
            <a:off x="6667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5" name=""/>
          <p:cNvCxnSpPr>
            <a:stCxn id="2952" idx="2"/>
            <a:endCxn id="3033" idx="0"/>
          </p:cNvCxnSpPr>
          <p:nvPr/>
        </p:nvCxnSpPr>
        <p:spPr>
          <a:xfrm flipH="1">
            <a:off x="7200360" y="214920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6" name=""/>
          <p:cNvCxnSpPr>
            <a:stCxn id="2954" idx="2"/>
            <a:endCxn id="3034" idx="0"/>
          </p:cNvCxnSpPr>
          <p:nvPr/>
        </p:nvCxnSpPr>
        <p:spPr>
          <a:xfrm flipH="1">
            <a:off x="7810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7" name=""/>
          <p:cNvCxnSpPr>
            <a:stCxn id="2953" idx="2"/>
            <a:endCxn id="3035" idx="0"/>
          </p:cNvCxnSpPr>
          <p:nvPr/>
        </p:nvCxnSpPr>
        <p:spPr>
          <a:xfrm flipH="1">
            <a:off x="84196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8" name=""/>
          <p:cNvCxnSpPr>
            <a:stCxn id="2955" idx="2"/>
            <a:endCxn id="3036" idx="0"/>
          </p:cNvCxnSpPr>
          <p:nvPr/>
        </p:nvCxnSpPr>
        <p:spPr>
          <a:xfrm>
            <a:off x="8947080" y="214920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109" name=""/>
          <p:cNvCxnSpPr>
            <a:stCxn id="2968" idx="4"/>
            <a:endCxn id="3045" idx="1"/>
          </p:cNvCxnSpPr>
          <p:nvPr/>
        </p:nvCxnSpPr>
        <p:spPr>
          <a:xfrm flipH="1">
            <a:off x="547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0" name=""/>
          <p:cNvCxnSpPr>
            <a:stCxn id="2988" idx="2"/>
          </p:cNvCxnSpPr>
          <p:nvPr/>
        </p:nvCxnSpPr>
        <p:spPr>
          <a:xfrm flipH="1">
            <a:off x="610920" y="3825720"/>
            <a:ext cx="86400" cy="268704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1" name=""/>
          <p:cNvCxnSpPr>
            <a:stCxn id="2987" idx="2"/>
            <a:endCxn id="3047" idx="1"/>
          </p:cNvCxnSpPr>
          <p:nvPr/>
        </p:nvCxnSpPr>
        <p:spPr>
          <a:xfrm flipH="1">
            <a:off x="119808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2" name=""/>
          <p:cNvCxnSpPr>
            <a:stCxn id="2989" idx="2"/>
            <a:endCxn id="3048" idx="1"/>
          </p:cNvCxnSpPr>
          <p:nvPr/>
        </p:nvCxnSpPr>
        <p:spPr>
          <a:xfrm flipH="1">
            <a:off x="1807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3" name=""/>
          <p:cNvCxnSpPr>
            <a:stCxn id="2990" idx="2"/>
            <a:endCxn id="3041" idx="1"/>
          </p:cNvCxnSpPr>
          <p:nvPr/>
        </p:nvCxnSpPr>
        <p:spPr>
          <a:xfrm flipH="1">
            <a:off x="2417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4" name=""/>
          <p:cNvCxnSpPr>
            <a:stCxn id="2991" idx="2"/>
            <a:endCxn id="3042" idx="1"/>
          </p:cNvCxnSpPr>
          <p:nvPr/>
        </p:nvCxnSpPr>
        <p:spPr>
          <a:xfrm flipH="1">
            <a:off x="2950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5" name=""/>
          <p:cNvCxnSpPr>
            <a:stCxn id="2992" idx="2"/>
            <a:endCxn id="3043" idx="1"/>
          </p:cNvCxnSpPr>
          <p:nvPr/>
        </p:nvCxnSpPr>
        <p:spPr>
          <a:xfrm flipH="1">
            <a:off x="3560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6" name=""/>
          <p:cNvCxnSpPr>
            <a:stCxn id="2967" idx="4"/>
            <a:endCxn id="3044" idx="1"/>
          </p:cNvCxnSpPr>
          <p:nvPr/>
        </p:nvCxnSpPr>
        <p:spPr>
          <a:xfrm flipH="1">
            <a:off x="41695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7" name=""/>
          <p:cNvCxnSpPr>
            <a:stCxn id="2994" idx="2"/>
            <a:endCxn id="3037" idx="1"/>
          </p:cNvCxnSpPr>
          <p:nvPr/>
        </p:nvCxnSpPr>
        <p:spPr>
          <a:xfrm flipH="1">
            <a:off x="4703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8" name=""/>
          <p:cNvCxnSpPr>
            <a:stCxn id="2996" idx="2"/>
            <a:endCxn id="3038" idx="1"/>
          </p:cNvCxnSpPr>
          <p:nvPr/>
        </p:nvCxnSpPr>
        <p:spPr>
          <a:xfrm flipH="1">
            <a:off x="53125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19" name=""/>
          <p:cNvCxnSpPr>
            <a:stCxn id="2995" idx="2"/>
            <a:endCxn id="3039" idx="1"/>
          </p:cNvCxnSpPr>
          <p:nvPr/>
        </p:nvCxnSpPr>
        <p:spPr>
          <a:xfrm flipH="1">
            <a:off x="5922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20" name=""/>
          <p:cNvCxnSpPr>
            <a:stCxn id="2997" idx="2"/>
            <a:endCxn id="3040" idx="1"/>
          </p:cNvCxnSpPr>
          <p:nvPr/>
        </p:nvCxnSpPr>
        <p:spPr>
          <a:xfrm flipH="1">
            <a:off x="653184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21" name=""/>
          <p:cNvCxnSpPr>
            <a:stCxn id="2998" idx="2"/>
            <a:endCxn id="3033" idx="1"/>
          </p:cNvCxnSpPr>
          <p:nvPr/>
        </p:nvCxnSpPr>
        <p:spPr>
          <a:xfrm flipH="1">
            <a:off x="7065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22" name=""/>
          <p:cNvCxnSpPr>
            <a:stCxn id="2957" idx="4"/>
            <a:endCxn id="3034" idx="1"/>
          </p:cNvCxnSpPr>
          <p:nvPr/>
        </p:nvCxnSpPr>
        <p:spPr>
          <a:xfrm flipH="1">
            <a:off x="767484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23" name=""/>
          <p:cNvCxnSpPr>
            <a:stCxn id="2999" idx="2"/>
            <a:endCxn id="3035" idx="1"/>
          </p:cNvCxnSpPr>
          <p:nvPr/>
        </p:nvCxnSpPr>
        <p:spPr>
          <a:xfrm flipH="1">
            <a:off x="82843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24" name=""/>
          <p:cNvCxnSpPr>
            <a:stCxn id="3001" idx="2"/>
            <a:endCxn id="3036" idx="1"/>
          </p:cNvCxnSpPr>
          <p:nvPr/>
        </p:nvCxnSpPr>
        <p:spPr>
          <a:xfrm flipH="1">
            <a:off x="8817840" y="382536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125" name=""/>
          <p:cNvCxnSpPr>
            <a:stCxn id="3014" idx="4"/>
            <a:endCxn id="3045" idx="7"/>
          </p:cNvCxnSpPr>
          <p:nvPr/>
        </p:nvCxnSpPr>
        <p:spPr>
          <a:xfrm>
            <a:off x="1900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26" name=""/>
          <p:cNvCxnSpPr>
            <a:stCxn id="3015" idx="4"/>
            <a:endCxn id="3046" idx="7"/>
          </p:cNvCxnSpPr>
          <p:nvPr/>
        </p:nvCxnSpPr>
        <p:spPr>
          <a:xfrm>
            <a:off x="7236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27" name=""/>
          <p:cNvCxnSpPr>
            <a:stCxn id="3064" idx="2"/>
            <a:endCxn id="3047" idx="7"/>
          </p:cNvCxnSpPr>
          <p:nvPr/>
        </p:nvCxnSpPr>
        <p:spPr>
          <a:xfrm>
            <a:off x="130644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28" name=""/>
          <p:cNvCxnSpPr>
            <a:stCxn id="3066" idx="2"/>
            <a:endCxn id="3048" idx="7"/>
          </p:cNvCxnSpPr>
          <p:nvPr/>
        </p:nvCxnSpPr>
        <p:spPr>
          <a:xfrm>
            <a:off x="1915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29" name=""/>
          <p:cNvCxnSpPr>
            <a:stCxn id="3067" idx="2"/>
            <a:endCxn id="3041" idx="7"/>
          </p:cNvCxnSpPr>
          <p:nvPr/>
        </p:nvCxnSpPr>
        <p:spPr>
          <a:xfrm>
            <a:off x="2525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0" name=""/>
          <p:cNvCxnSpPr>
            <a:stCxn id="3068" idx="2"/>
            <a:endCxn id="3042" idx="7"/>
          </p:cNvCxnSpPr>
          <p:nvPr/>
        </p:nvCxnSpPr>
        <p:spPr>
          <a:xfrm>
            <a:off x="3058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1" name=""/>
          <p:cNvCxnSpPr>
            <a:stCxn id="3069" idx="2"/>
            <a:endCxn id="3043" idx="7"/>
          </p:cNvCxnSpPr>
          <p:nvPr/>
        </p:nvCxnSpPr>
        <p:spPr>
          <a:xfrm>
            <a:off x="3668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2" name=""/>
          <p:cNvCxnSpPr>
            <a:stCxn id="3013" idx="4"/>
            <a:endCxn id="3044" idx="7"/>
          </p:cNvCxnSpPr>
          <p:nvPr/>
        </p:nvCxnSpPr>
        <p:spPr>
          <a:xfrm>
            <a:off x="4304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3" name=""/>
          <p:cNvCxnSpPr>
            <a:stCxn id="3006" idx="4"/>
            <a:endCxn id="3037" idx="7"/>
          </p:cNvCxnSpPr>
          <p:nvPr/>
        </p:nvCxnSpPr>
        <p:spPr>
          <a:xfrm>
            <a:off x="48384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4" name=""/>
          <p:cNvCxnSpPr>
            <a:stCxn id="3007" idx="4"/>
            <a:endCxn id="3038" idx="7"/>
          </p:cNvCxnSpPr>
          <p:nvPr/>
        </p:nvCxnSpPr>
        <p:spPr>
          <a:xfrm>
            <a:off x="5447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5" name=""/>
          <p:cNvCxnSpPr>
            <a:stCxn id="3072" idx="2"/>
            <a:endCxn id="3039" idx="7"/>
          </p:cNvCxnSpPr>
          <p:nvPr/>
        </p:nvCxnSpPr>
        <p:spPr>
          <a:xfrm>
            <a:off x="6071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6" name=""/>
          <p:cNvCxnSpPr>
            <a:stCxn id="3074" idx="2"/>
            <a:endCxn id="3040" idx="7"/>
          </p:cNvCxnSpPr>
          <p:nvPr/>
        </p:nvCxnSpPr>
        <p:spPr>
          <a:xfrm>
            <a:off x="6681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7" name=""/>
          <p:cNvCxnSpPr>
            <a:stCxn id="3075" idx="2"/>
            <a:endCxn id="3033" idx="7"/>
          </p:cNvCxnSpPr>
          <p:nvPr/>
        </p:nvCxnSpPr>
        <p:spPr>
          <a:xfrm>
            <a:off x="7214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8" name=""/>
          <p:cNvCxnSpPr>
            <a:stCxn id="3077" idx="2"/>
            <a:endCxn id="3034" idx="7"/>
          </p:cNvCxnSpPr>
          <p:nvPr/>
        </p:nvCxnSpPr>
        <p:spPr>
          <a:xfrm>
            <a:off x="7824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39" name=""/>
          <p:cNvCxnSpPr>
            <a:stCxn id="3076" idx="2"/>
            <a:endCxn id="3035" idx="7"/>
          </p:cNvCxnSpPr>
          <p:nvPr/>
        </p:nvCxnSpPr>
        <p:spPr>
          <a:xfrm>
            <a:off x="843408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40" name=""/>
          <p:cNvCxnSpPr>
            <a:stCxn id="3078" idx="2"/>
            <a:endCxn id="3036" idx="7"/>
          </p:cNvCxnSpPr>
          <p:nvPr/>
        </p:nvCxnSpPr>
        <p:spPr>
          <a:xfrm>
            <a:off x="8967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3141" name=""/>
          <p:cNvCxnSpPr>
            <a:stCxn id="3083" idx="2"/>
            <a:endCxn id="2922" idx="0"/>
          </p:cNvCxnSpPr>
          <p:nvPr/>
        </p:nvCxnSpPr>
        <p:spPr>
          <a:xfrm flipH="1">
            <a:off x="190080" y="853920"/>
            <a:ext cx="5392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42" name=""/>
          <p:cNvCxnSpPr>
            <a:stCxn id="3083" idx="2"/>
            <a:endCxn id="2942" idx="0"/>
          </p:cNvCxnSpPr>
          <p:nvPr/>
        </p:nvCxnSpPr>
        <p:spPr>
          <a:xfrm flipH="1">
            <a:off x="696240" y="853920"/>
            <a:ext cx="48855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43" name=""/>
          <p:cNvCxnSpPr>
            <a:stCxn id="3083" idx="2"/>
            <a:endCxn id="2941" idx="0"/>
          </p:cNvCxnSpPr>
          <p:nvPr/>
        </p:nvCxnSpPr>
        <p:spPr>
          <a:xfrm flipH="1">
            <a:off x="1306080" y="853920"/>
            <a:ext cx="4276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44" name=""/>
          <p:cNvCxnSpPr>
            <a:stCxn id="3083" idx="2"/>
            <a:endCxn id="2943" idx="0"/>
          </p:cNvCxnSpPr>
          <p:nvPr/>
        </p:nvCxnSpPr>
        <p:spPr>
          <a:xfrm flipH="1">
            <a:off x="1915920" y="853920"/>
            <a:ext cx="3666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45" name=""/>
          <p:cNvCxnSpPr>
            <a:stCxn id="3083" idx="2"/>
            <a:endCxn id="2944" idx="0"/>
          </p:cNvCxnSpPr>
          <p:nvPr/>
        </p:nvCxnSpPr>
        <p:spPr>
          <a:xfrm flipH="1">
            <a:off x="2525040" y="853920"/>
            <a:ext cx="305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46" name=""/>
          <p:cNvCxnSpPr>
            <a:stCxn id="3083" idx="2"/>
            <a:endCxn id="2945" idx="0"/>
          </p:cNvCxnSpPr>
          <p:nvPr/>
        </p:nvCxnSpPr>
        <p:spPr>
          <a:xfrm flipH="1">
            <a:off x="3058560" y="853920"/>
            <a:ext cx="2523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47" name=""/>
          <p:cNvCxnSpPr>
            <a:stCxn id="3083" idx="2"/>
            <a:endCxn id="2920" idx="0"/>
          </p:cNvCxnSpPr>
          <p:nvPr/>
        </p:nvCxnSpPr>
        <p:spPr>
          <a:xfrm flipH="1">
            <a:off x="3695040" y="853920"/>
            <a:ext cx="188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48" name=""/>
          <p:cNvCxnSpPr>
            <a:stCxn id="3083" idx="2"/>
            <a:endCxn id="2921" idx="0"/>
          </p:cNvCxnSpPr>
          <p:nvPr/>
        </p:nvCxnSpPr>
        <p:spPr>
          <a:xfrm flipH="1">
            <a:off x="4305240" y="853920"/>
            <a:ext cx="127692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49" name=""/>
          <p:cNvCxnSpPr>
            <a:stCxn id="3083" idx="2"/>
            <a:endCxn id="2914" idx="0"/>
          </p:cNvCxnSpPr>
          <p:nvPr/>
        </p:nvCxnSpPr>
        <p:spPr>
          <a:xfrm flipH="1">
            <a:off x="4838400" y="853920"/>
            <a:ext cx="743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50" name=""/>
          <p:cNvCxnSpPr>
            <a:stCxn id="3083" idx="2"/>
            <a:endCxn id="2915" idx="0"/>
          </p:cNvCxnSpPr>
          <p:nvPr/>
        </p:nvCxnSpPr>
        <p:spPr>
          <a:xfrm flipH="1">
            <a:off x="5447520" y="853920"/>
            <a:ext cx="1342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51" name=""/>
          <p:cNvCxnSpPr>
            <a:stCxn id="3083" idx="2"/>
            <a:endCxn id="2916" idx="0"/>
          </p:cNvCxnSpPr>
          <p:nvPr/>
        </p:nvCxnSpPr>
        <p:spPr>
          <a:xfrm>
            <a:off x="5581440" y="853920"/>
            <a:ext cx="477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52" name=""/>
          <p:cNvCxnSpPr>
            <a:stCxn id="3083" idx="2"/>
            <a:endCxn id="2917" idx="0"/>
          </p:cNvCxnSpPr>
          <p:nvPr/>
        </p:nvCxnSpPr>
        <p:spPr>
          <a:xfrm>
            <a:off x="5581800" y="853920"/>
            <a:ext cx="10864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53" name=""/>
          <p:cNvCxnSpPr>
            <a:stCxn id="3083" idx="2"/>
            <a:endCxn id="2910" idx="0"/>
          </p:cNvCxnSpPr>
          <p:nvPr/>
        </p:nvCxnSpPr>
        <p:spPr>
          <a:xfrm>
            <a:off x="5581800" y="853920"/>
            <a:ext cx="1620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54" name=""/>
          <p:cNvCxnSpPr>
            <a:stCxn id="3083" idx="2"/>
            <a:endCxn id="2954" idx="0"/>
          </p:cNvCxnSpPr>
          <p:nvPr/>
        </p:nvCxnSpPr>
        <p:spPr>
          <a:xfrm>
            <a:off x="5581440" y="853920"/>
            <a:ext cx="22438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55" name=""/>
          <p:cNvCxnSpPr>
            <a:stCxn id="3083" idx="2"/>
            <a:endCxn id="2953" idx="0"/>
          </p:cNvCxnSpPr>
          <p:nvPr/>
        </p:nvCxnSpPr>
        <p:spPr>
          <a:xfrm>
            <a:off x="5581800" y="853920"/>
            <a:ext cx="28533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56" name=""/>
          <p:cNvCxnSpPr>
            <a:stCxn id="3083" idx="2"/>
            <a:endCxn id="2955" idx="0"/>
          </p:cNvCxnSpPr>
          <p:nvPr/>
        </p:nvCxnSpPr>
        <p:spPr>
          <a:xfrm>
            <a:off x="5581800" y="853920"/>
            <a:ext cx="3366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57" name=""/>
          <p:cNvCxnSpPr>
            <a:stCxn id="3087" idx="2"/>
            <a:endCxn id="2968" idx="0"/>
          </p:cNvCxnSpPr>
          <p:nvPr/>
        </p:nvCxnSpPr>
        <p:spPr>
          <a:xfrm flipH="1">
            <a:off x="190080" y="2758680"/>
            <a:ext cx="55440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58" name=""/>
          <p:cNvCxnSpPr>
            <a:stCxn id="3087" idx="2"/>
            <a:endCxn id="2988" idx="0"/>
          </p:cNvCxnSpPr>
          <p:nvPr/>
        </p:nvCxnSpPr>
        <p:spPr>
          <a:xfrm flipH="1">
            <a:off x="696600" y="2758680"/>
            <a:ext cx="50378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59" name=""/>
          <p:cNvCxnSpPr>
            <a:stCxn id="3087" idx="2"/>
            <a:endCxn id="2987" idx="0"/>
          </p:cNvCxnSpPr>
          <p:nvPr/>
        </p:nvCxnSpPr>
        <p:spPr>
          <a:xfrm flipH="1">
            <a:off x="1305720" y="2758680"/>
            <a:ext cx="44283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0" name=""/>
          <p:cNvCxnSpPr>
            <a:stCxn id="3087" idx="2"/>
            <a:endCxn id="2989" idx="0"/>
          </p:cNvCxnSpPr>
          <p:nvPr/>
        </p:nvCxnSpPr>
        <p:spPr>
          <a:xfrm flipH="1">
            <a:off x="1915560" y="2758680"/>
            <a:ext cx="38185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1" name=""/>
          <p:cNvCxnSpPr>
            <a:stCxn id="3087" idx="2"/>
            <a:endCxn id="2990" idx="0"/>
          </p:cNvCxnSpPr>
          <p:nvPr/>
        </p:nvCxnSpPr>
        <p:spPr>
          <a:xfrm flipH="1">
            <a:off x="2525400" y="2758680"/>
            <a:ext cx="3209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2" name=""/>
          <p:cNvCxnSpPr>
            <a:stCxn id="3087" idx="2"/>
            <a:endCxn id="2991" idx="0"/>
          </p:cNvCxnSpPr>
          <p:nvPr/>
        </p:nvCxnSpPr>
        <p:spPr>
          <a:xfrm flipH="1">
            <a:off x="3058920" y="2758680"/>
            <a:ext cx="26755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3" name=""/>
          <p:cNvCxnSpPr>
            <a:stCxn id="3087" idx="2"/>
            <a:endCxn id="2992" idx="0"/>
          </p:cNvCxnSpPr>
          <p:nvPr/>
        </p:nvCxnSpPr>
        <p:spPr>
          <a:xfrm flipH="1">
            <a:off x="3668040" y="2758680"/>
            <a:ext cx="2066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4" name=""/>
          <p:cNvCxnSpPr>
            <a:stCxn id="3087" idx="2"/>
            <a:endCxn id="2993" idx="0"/>
          </p:cNvCxnSpPr>
          <p:nvPr/>
        </p:nvCxnSpPr>
        <p:spPr>
          <a:xfrm flipH="1">
            <a:off x="4277880" y="2758680"/>
            <a:ext cx="14565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5" name=""/>
          <p:cNvCxnSpPr>
            <a:stCxn id="3087" idx="2"/>
            <a:endCxn id="2994" idx="0"/>
          </p:cNvCxnSpPr>
          <p:nvPr/>
        </p:nvCxnSpPr>
        <p:spPr>
          <a:xfrm flipH="1">
            <a:off x="4811400" y="2758680"/>
            <a:ext cx="923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6" name=""/>
          <p:cNvCxnSpPr>
            <a:stCxn id="3087" idx="2"/>
            <a:endCxn id="2996" idx="0"/>
          </p:cNvCxnSpPr>
          <p:nvPr/>
        </p:nvCxnSpPr>
        <p:spPr>
          <a:xfrm flipH="1">
            <a:off x="5462280" y="2758680"/>
            <a:ext cx="2721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7" name=""/>
          <p:cNvCxnSpPr>
            <a:stCxn id="3087" idx="2"/>
            <a:endCxn id="2995" idx="0"/>
          </p:cNvCxnSpPr>
          <p:nvPr/>
        </p:nvCxnSpPr>
        <p:spPr>
          <a:xfrm>
            <a:off x="5733720" y="2758680"/>
            <a:ext cx="3387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8" name=""/>
          <p:cNvCxnSpPr>
            <a:stCxn id="3087" idx="2"/>
            <a:endCxn id="2963" idx="0"/>
          </p:cNvCxnSpPr>
          <p:nvPr/>
        </p:nvCxnSpPr>
        <p:spPr>
          <a:xfrm>
            <a:off x="5733720" y="2758680"/>
            <a:ext cx="9342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69" name=""/>
          <p:cNvCxnSpPr>
            <a:stCxn id="3087" idx="2"/>
            <a:endCxn id="2998" idx="0"/>
          </p:cNvCxnSpPr>
          <p:nvPr/>
        </p:nvCxnSpPr>
        <p:spPr>
          <a:xfrm>
            <a:off x="5734080" y="2758680"/>
            <a:ext cx="14817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70" name=""/>
          <p:cNvCxnSpPr>
            <a:stCxn id="3087" idx="2"/>
            <a:endCxn id="3000" idx="0"/>
          </p:cNvCxnSpPr>
          <p:nvPr/>
        </p:nvCxnSpPr>
        <p:spPr>
          <a:xfrm>
            <a:off x="5734080" y="2758680"/>
            <a:ext cx="20916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71" name=""/>
          <p:cNvCxnSpPr>
            <a:stCxn id="3087" idx="2"/>
            <a:endCxn id="2999" idx="0"/>
          </p:cNvCxnSpPr>
          <p:nvPr/>
        </p:nvCxnSpPr>
        <p:spPr>
          <a:xfrm>
            <a:off x="5733720" y="2758680"/>
            <a:ext cx="270108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72" name=""/>
          <p:cNvCxnSpPr>
            <a:stCxn id="3087" idx="2"/>
            <a:endCxn id="3001" idx="0"/>
          </p:cNvCxnSpPr>
          <p:nvPr/>
        </p:nvCxnSpPr>
        <p:spPr>
          <a:xfrm>
            <a:off x="5733720" y="2758680"/>
            <a:ext cx="32137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173" name=""/>
          <p:cNvCxnSpPr>
            <a:stCxn id="3091" idx="2"/>
            <a:endCxn id="3014" idx="0"/>
          </p:cNvCxnSpPr>
          <p:nvPr/>
        </p:nvCxnSpPr>
        <p:spPr>
          <a:xfrm flipH="1">
            <a:off x="190080" y="4358880"/>
            <a:ext cx="4934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74" name=""/>
          <p:cNvCxnSpPr>
            <a:stCxn id="3091" idx="2"/>
            <a:endCxn id="3065" idx="0"/>
          </p:cNvCxnSpPr>
          <p:nvPr/>
        </p:nvCxnSpPr>
        <p:spPr>
          <a:xfrm flipH="1">
            <a:off x="696240" y="4358880"/>
            <a:ext cx="44283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75" name=""/>
          <p:cNvCxnSpPr>
            <a:stCxn id="3091" idx="2"/>
            <a:endCxn id="3064" idx="0"/>
          </p:cNvCxnSpPr>
          <p:nvPr/>
        </p:nvCxnSpPr>
        <p:spPr>
          <a:xfrm flipH="1">
            <a:off x="1306080" y="4358880"/>
            <a:ext cx="3818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76" name=""/>
          <p:cNvCxnSpPr>
            <a:stCxn id="3091" idx="2"/>
            <a:endCxn id="3066" idx="0"/>
          </p:cNvCxnSpPr>
          <p:nvPr/>
        </p:nvCxnSpPr>
        <p:spPr>
          <a:xfrm flipH="1">
            <a:off x="1915920" y="4358880"/>
            <a:ext cx="3209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77" name=""/>
          <p:cNvCxnSpPr>
            <a:stCxn id="3091" idx="2"/>
            <a:endCxn id="3067" idx="0"/>
          </p:cNvCxnSpPr>
          <p:nvPr/>
        </p:nvCxnSpPr>
        <p:spPr>
          <a:xfrm flipH="1">
            <a:off x="2525040" y="4358880"/>
            <a:ext cx="2599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78" name=""/>
          <p:cNvCxnSpPr>
            <a:stCxn id="3091" idx="2"/>
            <a:endCxn id="3068" idx="0"/>
          </p:cNvCxnSpPr>
          <p:nvPr/>
        </p:nvCxnSpPr>
        <p:spPr>
          <a:xfrm flipH="1">
            <a:off x="3058560" y="4358880"/>
            <a:ext cx="2066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79" name=""/>
          <p:cNvCxnSpPr>
            <a:stCxn id="3091" idx="2"/>
            <a:endCxn id="3012" idx="0"/>
          </p:cNvCxnSpPr>
          <p:nvPr/>
        </p:nvCxnSpPr>
        <p:spPr>
          <a:xfrm flipH="1">
            <a:off x="3695040" y="4358880"/>
            <a:ext cx="1429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80" name=""/>
          <p:cNvCxnSpPr>
            <a:stCxn id="3091" idx="2"/>
            <a:endCxn id="3070" idx="0"/>
          </p:cNvCxnSpPr>
          <p:nvPr/>
        </p:nvCxnSpPr>
        <p:spPr>
          <a:xfrm flipH="1">
            <a:off x="4277520" y="4358880"/>
            <a:ext cx="847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81" name=""/>
          <p:cNvCxnSpPr>
            <a:stCxn id="3091" idx="2"/>
            <a:endCxn id="3006" idx="0"/>
          </p:cNvCxnSpPr>
          <p:nvPr/>
        </p:nvCxnSpPr>
        <p:spPr>
          <a:xfrm flipH="1">
            <a:off x="4838400" y="4358880"/>
            <a:ext cx="286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82" name=""/>
          <p:cNvCxnSpPr>
            <a:stCxn id="3091" idx="2"/>
            <a:endCxn id="3073" idx="0"/>
          </p:cNvCxnSpPr>
          <p:nvPr/>
        </p:nvCxnSpPr>
        <p:spPr>
          <a:xfrm>
            <a:off x="5124240" y="4358880"/>
            <a:ext cx="3387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83" name=""/>
          <p:cNvCxnSpPr>
            <a:stCxn id="3091" idx="2"/>
            <a:endCxn id="3072" idx="0"/>
          </p:cNvCxnSpPr>
          <p:nvPr/>
        </p:nvCxnSpPr>
        <p:spPr>
          <a:xfrm>
            <a:off x="5124600" y="4358880"/>
            <a:ext cx="948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84" name=""/>
          <p:cNvCxnSpPr>
            <a:stCxn id="3091" idx="2"/>
            <a:endCxn id="3074" idx="0"/>
          </p:cNvCxnSpPr>
          <p:nvPr/>
        </p:nvCxnSpPr>
        <p:spPr>
          <a:xfrm>
            <a:off x="5124600" y="4358880"/>
            <a:ext cx="1558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85" name=""/>
          <p:cNvCxnSpPr>
            <a:stCxn id="3091" idx="2"/>
            <a:endCxn id="3075" idx="0"/>
          </p:cNvCxnSpPr>
          <p:nvPr/>
        </p:nvCxnSpPr>
        <p:spPr>
          <a:xfrm>
            <a:off x="5124240" y="4358880"/>
            <a:ext cx="2091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86" name=""/>
          <p:cNvCxnSpPr>
            <a:stCxn id="3091" idx="2"/>
            <a:endCxn id="3077" idx="0"/>
          </p:cNvCxnSpPr>
          <p:nvPr/>
        </p:nvCxnSpPr>
        <p:spPr>
          <a:xfrm>
            <a:off x="5124240" y="4358880"/>
            <a:ext cx="2701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87" name=""/>
          <p:cNvCxnSpPr>
            <a:stCxn id="3091" idx="2"/>
            <a:endCxn id="3076" idx="0"/>
          </p:cNvCxnSpPr>
          <p:nvPr/>
        </p:nvCxnSpPr>
        <p:spPr>
          <a:xfrm>
            <a:off x="5124600" y="4358880"/>
            <a:ext cx="3310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188" name=""/>
          <p:cNvCxnSpPr>
            <a:stCxn id="3091" idx="2"/>
            <a:endCxn id="3078" idx="0"/>
          </p:cNvCxnSpPr>
          <p:nvPr/>
        </p:nvCxnSpPr>
        <p:spPr>
          <a:xfrm>
            <a:off x="5124600" y="4358880"/>
            <a:ext cx="3844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sp>
        <p:nvSpPr>
          <p:cNvPr id="3189" name=""/>
          <p:cNvSpPr/>
          <p:nvPr/>
        </p:nvSpPr>
        <p:spPr>
          <a:xfrm>
            <a:off x="10724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4626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1681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2291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2824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3434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40442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4577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5744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51354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6354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6887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81072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497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861984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44792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152280"/>
            <a:ext cx="60984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4360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2" idx="6"/>
            <a:endCxn id="323" idx="2"/>
          </p:cNvCxnSpPr>
          <p:nvPr/>
        </p:nvCxnSpPr>
        <p:spPr>
          <a:xfrm>
            <a:off x="2066760" y="456840"/>
            <a:ext cx="1734480" cy="108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3" idx="6"/>
            <a:endCxn id="324" idx="2"/>
          </p:cNvCxnSpPr>
          <p:nvPr/>
        </p:nvCxnSpPr>
        <p:spPr>
          <a:xfrm>
            <a:off x="4428720" y="456840"/>
            <a:ext cx="1505880" cy="108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4" idx="6"/>
          </p:cNvCxnSpPr>
          <p:nvPr/>
        </p:nvCxnSpPr>
        <p:spPr>
          <a:xfrm>
            <a:off x="6562800" y="456840"/>
            <a:ext cx="591120" cy="108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1447920" y="99072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990720"/>
            <a:ext cx="60984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43600" y="99072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6"/>
            <a:endCxn id="329" idx="2"/>
          </p:cNvCxnSpPr>
          <p:nvPr/>
        </p:nvCxnSpPr>
        <p:spPr>
          <a:xfrm>
            <a:off x="2066760" y="1294920"/>
            <a:ext cx="1734480" cy="10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29" idx="6"/>
            <a:endCxn id="330" idx="2"/>
          </p:cNvCxnSpPr>
          <p:nvPr/>
        </p:nvCxnSpPr>
        <p:spPr>
          <a:xfrm>
            <a:off x="4428720" y="1294920"/>
            <a:ext cx="1505880" cy="10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6"/>
          </p:cNvCxnSpPr>
          <p:nvPr/>
        </p:nvCxnSpPr>
        <p:spPr>
          <a:xfrm>
            <a:off x="6562800" y="1294920"/>
            <a:ext cx="591120" cy="10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1828800"/>
            <a:ext cx="60984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8288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34" idx="6"/>
            <a:endCxn id="335" idx="2"/>
          </p:cNvCxnSpPr>
          <p:nvPr/>
        </p:nvCxnSpPr>
        <p:spPr>
          <a:xfrm>
            <a:off x="2066760" y="2133360"/>
            <a:ext cx="1734480" cy="10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5" idx="6"/>
            <a:endCxn id="336" idx="2"/>
          </p:cNvCxnSpPr>
          <p:nvPr/>
        </p:nvCxnSpPr>
        <p:spPr>
          <a:xfrm>
            <a:off x="4428720" y="2133360"/>
            <a:ext cx="1505880" cy="10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6" idx="6"/>
          </p:cNvCxnSpPr>
          <p:nvPr/>
        </p:nvCxnSpPr>
        <p:spPr>
          <a:xfrm>
            <a:off x="6562800" y="2133360"/>
            <a:ext cx="591120" cy="10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144792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2666880"/>
            <a:ext cx="60984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360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0" idx="6"/>
            <a:endCxn id="341" idx="2"/>
          </p:cNvCxnSpPr>
          <p:nvPr/>
        </p:nvCxnSpPr>
        <p:spPr>
          <a:xfrm>
            <a:off x="2066760" y="2971440"/>
            <a:ext cx="17344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41" idx="6"/>
            <a:endCxn id="342" idx="2"/>
          </p:cNvCxnSpPr>
          <p:nvPr/>
        </p:nvCxnSpPr>
        <p:spPr>
          <a:xfrm>
            <a:off x="4428720" y="2971440"/>
            <a:ext cx="15058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2" idx="6"/>
          </p:cNvCxnSpPr>
          <p:nvPr/>
        </p:nvCxnSpPr>
        <p:spPr>
          <a:xfrm>
            <a:off x="6562800" y="2971440"/>
            <a:ext cx="5911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1447920" y="3505320"/>
            <a:ext cx="60948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505320"/>
            <a:ext cx="60984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43600" y="3505320"/>
            <a:ext cx="609480" cy="60948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6" idx="6"/>
            <a:endCxn id="347" idx="2"/>
          </p:cNvCxnSpPr>
          <p:nvPr/>
        </p:nvCxnSpPr>
        <p:spPr>
          <a:xfrm>
            <a:off x="2066760" y="3809520"/>
            <a:ext cx="1734480" cy="108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7" idx="6"/>
            <a:endCxn id="348" idx="2"/>
          </p:cNvCxnSpPr>
          <p:nvPr/>
        </p:nvCxnSpPr>
        <p:spPr>
          <a:xfrm>
            <a:off x="4428720" y="3809520"/>
            <a:ext cx="1505880" cy="108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8" idx="6"/>
          </p:cNvCxnSpPr>
          <p:nvPr/>
        </p:nvCxnSpPr>
        <p:spPr>
          <a:xfrm>
            <a:off x="6562800" y="3809520"/>
            <a:ext cx="591120" cy="1080"/>
          </a:xfrm>
          <a:prstGeom prst="straightConnector1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1447920" y="4343400"/>
            <a:ext cx="60948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4343400"/>
            <a:ext cx="60984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343400"/>
            <a:ext cx="609480" cy="6094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2" idx="6"/>
            <a:endCxn id="353" idx="2"/>
          </p:cNvCxnSpPr>
          <p:nvPr/>
        </p:nvCxnSpPr>
        <p:spPr>
          <a:xfrm>
            <a:off x="2066760" y="4647960"/>
            <a:ext cx="1734480" cy="108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53" idx="6"/>
            <a:endCxn id="354" idx="2"/>
          </p:cNvCxnSpPr>
          <p:nvPr/>
        </p:nvCxnSpPr>
        <p:spPr>
          <a:xfrm>
            <a:off x="4428720" y="4647960"/>
            <a:ext cx="1505880" cy="108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54" idx="6"/>
          </p:cNvCxnSpPr>
          <p:nvPr/>
        </p:nvCxnSpPr>
        <p:spPr>
          <a:xfrm>
            <a:off x="6562800" y="4647960"/>
            <a:ext cx="591120" cy="108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144792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5181480"/>
            <a:ext cx="60984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4360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58" idx="6"/>
            <a:endCxn id="359" idx="2"/>
          </p:cNvCxnSpPr>
          <p:nvPr/>
        </p:nvCxnSpPr>
        <p:spPr>
          <a:xfrm>
            <a:off x="2066760" y="5486040"/>
            <a:ext cx="1734480" cy="108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59" idx="6"/>
            <a:endCxn id="360" idx="2"/>
          </p:cNvCxnSpPr>
          <p:nvPr/>
        </p:nvCxnSpPr>
        <p:spPr>
          <a:xfrm>
            <a:off x="4428720" y="5486040"/>
            <a:ext cx="1505880" cy="108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60" idx="6"/>
          </p:cNvCxnSpPr>
          <p:nvPr/>
        </p:nvCxnSpPr>
        <p:spPr>
          <a:xfrm>
            <a:off x="6562800" y="5486040"/>
            <a:ext cx="591120" cy="108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1447920" y="6019920"/>
            <a:ext cx="60948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6019920"/>
            <a:ext cx="60984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43600" y="6019920"/>
            <a:ext cx="609480" cy="60948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28560" y="228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1852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5620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52240" y="1066680"/>
            <a:ext cx="6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744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5116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55480" y="1905120"/>
            <a:ext cx="65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181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321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2784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58" idx="4"/>
            <a:endCxn id="364" idx="0"/>
          </p:cNvCxnSpPr>
          <p:nvPr/>
        </p:nvCxnSpPr>
        <p:spPr>
          <a:xfrm>
            <a:off x="1752120" y="5800680"/>
            <a:ext cx="1080" cy="21024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59" idx="4"/>
            <a:endCxn id="365" idx="0"/>
          </p:cNvCxnSpPr>
          <p:nvPr/>
        </p:nvCxnSpPr>
        <p:spPr>
          <a:xfrm>
            <a:off x="4114440" y="5800680"/>
            <a:ext cx="1080" cy="21024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0" idx="4"/>
            <a:endCxn id="366" idx="0"/>
          </p:cNvCxnSpPr>
          <p:nvPr/>
        </p:nvCxnSpPr>
        <p:spPr>
          <a:xfrm>
            <a:off x="6248160" y="5800680"/>
            <a:ext cx="1080" cy="21024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52" idx="3"/>
            <a:endCxn id="364" idx="1"/>
          </p:cNvCxnSpPr>
          <p:nvPr/>
        </p:nvCxnSpPr>
        <p:spPr>
          <a:xfrm flipV="1" rot="10800000">
            <a:off x="1536120" y="4873320"/>
            <a:ext cx="1080" cy="12261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53" idx="3"/>
            <a:endCxn id="365" idx="1"/>
          </p:cNvCxnSpPr>
          <p:nvPr/>
        </p:nvCxnSpPr>
        <p:spPr>
          <a:xfrm flipV="1" rot="10800000">
            <a:off x="3898080" y="4873320"/>
            <a:ext cx="1080" cy="12261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54" idx="3"/>
            <a:endCxn id="366" idx="1"/>
          </p:cNvCxnSpPr>
          <p:nvPr/>
        </p:nvCxnSpPr>
        <p:spPr>
          <a:xfrm flipV="1" rot="10800000">
            <a:off x="6031800" y="4873320"/>
            <a:ext cx="1080" cy="12261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52" idx="4"/>
            <a:endCxn id="358" idx="0"/>
          </p:cNvCxnSpPr>
          <p:nvPr/>
        </p:nvCxnSpPr>
        <p:spPr>
          <a:xfrm>
            <a:off x="1752120" y="4962600"/>
            <a:ext cx="1080" cy="21024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53" idx="4"/>
            <a:endCxn id="359" idx="0"/>
          </p:cNvCxnSpPr>
          <p:nvPr/>
        </p:nvCxnSpPr>
        <p:spPr>
          <a:xfrm>
            <a:off x="4114440" y="4962600"/>
            <a:ext cx="1080" cy="21024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54" idx="4"/>
            <a:endCxn id="360" idx="0"/>
          </p:cNvCxnSpPr>
          <p:nvPr/>
        </p:nvCxnSpPr>
        <p:spPr>
          <a:xfrm>
            <a:off x="6248160" y="4962600"/>
            <a:ext cx="1080" cy="21024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46" idx="4"/>
            <a:endCxn id="358" idx="7"/>
          </p:cNvCxnSpPr>
          <p:nvPr/>
        </p:nvCxnSpPr>
        <p:spPr>
          <a:xfrm flipH="1" rot="16200000">
            <a:off x="1292040" y="4584240"/>
            <a:ext cx="1137600" cy="216720"/>
          </a:xfrm>
          <a:prstGeom prst="curvedConnector5">
            <a:avLst>
              <a:gd name="adj1" fmla="val 71636"/>
              <a:gd name="adj2" fmla="val 49916"/>
              <a:gd name="adj3" fmla="val 716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46" idx="5"/>
            <a:endCxn id="359" idx="1"/>
          </p:cNvCxnSpPr>
          <p:nvPr/>
        </p:nvCxnSpPr>
        <p:spPr>
          <a:xfrm flipH="1" rot="16200000">
            <a:off x="2320920" y="3682800"/>
            <a:ext cx="1226160" cy="1931040"/>
          </a:xfrm>
          <a:prstGeom prst="curvedConnector5">
            <a:avLst>
              <a:gd name="adj1" fmla="val 49985"/>
              <a:gd name="adj2" fmla="val 49990"/>
              <a:gd name="adj3" fmla="val 49985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46" idx="6"/>
            <a:endCxn id="360" idx="2"/>
          </p:cNvCxnSpPr>
          <p:nvPr/>
        </p:nvCxnSpPr>
        <p:spPr>
          <a:xfrm>
            <a:off x="2066400" y="3809520"/>
            <a:ext cx="3868200" cy="16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47" idx="4"/>
            <a:endCxn id="359" idx="7"/>
          </p:cNvCxnSpPr>
          <p:nvPr/>
        </p:nvCxnSpPr>
        <p:spPr>
          <a:xfrm flipH="1" rot="16200000">
            <a:off x="3654360" y="4584240"/>
            <a:ext cx="1137600" cy="216720"/>
          </a:xfrm>
          <a:prstGeom prst="curvedConnector5">
            <a:avLst>
              <a:gd name="adj1" fmla="val 28616"/>
              <a:gd name="adj2" fmla="val 49916"/>
              <a:gd name="adj3" fmla="val 2861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47" idx="5"/>
            <a:endCxn id="360" idx="1"/>
          </p:cNvCxnSpPr>
          <p:nvPr/>
        </p:nvCxnSpPr>
        <p:spPr>
          <a:xfrm flipH="1" rot="16200000">
            <a:off x="4568040" y="3797280"/>
            <a:ext cx="1226160" cy="17024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47" idx="6"/>
          </p:cNvCxnSpPr>
          <p:nvPr/>
        </p:nvCxnSpPr>
        <p:spPr>
          <a:xfrm>
            <a:off x="4428720" y="3809520"/>
            <a:ext cx="1810440" cy="1677240"/>
          </a:xfrm>
          <a:prstGeom prst="curvedConnector5">
            <a:avLst>
              <a:gd name="adj1" fmla="val 28758"/>
              <a:gd name="adj2" fmla="val 50000"/>
              <a:gd name="adj3" fmla="val 28758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92" name=""/>
          <p:cNvCxnSpPr>
            <a:stCxn id="348" idx="4"/>
            <a:endCxn id="360" idx="7"/>
          </p:cNvCxnSpPr>
          <p:nvPr/>
        </p:nvCxnSpPr>
        <p:spPr>
          <a:xfrm flipH="1" rot="16200000">
            <a:off x="5787000" y="4584600"/>
            <a:ext cx="1137600" cy="216360"/>
          </a:xfrm>
          <a:prstGeom prst="curvedConnector5">
            <a:avLst>
              <a:gd name="adj1" fmla="val 38113"/>
              <a:gd name="adj2" fmla="val 50000"/>
              <a:gd name="adj3" fmla="val 38113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48" idx="5"/>
          </p:cNvCxnSpPr>
          <p:nvPr/>
        </p:nvCxnSpPr>
        <p:spPr>
          <a:xfrm flipH="1" rot="16200000">
            <a:off x="6245280" y="4254120"/>
            <a:ext cx="1226160" cy="788400"/>
          </a:xfrm>
          <a:prstGeom prst="curvedConnector5">
            <a:avLst>
              <a:gd name="adj1" fmla="val 64229"/>
              <a:gd name="adj2" fmla="val 49977"/>
              <a:gd name="adj3" fmla="val 64229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48" idx="6"/>
          </p:cNvCxnSpPr>
          <p:nvPr/>
        </p:nvCxnSpPr>
        <p:spPr>
          <a:xfrm>
            <a:off x="6562440" y="3809520"/>
            <a:ext cx="1734120" cy="1677240"/>
          </a:xfrm>
          <a:prstGeom prst="curvedConnector5">
            <a:avLst>
              <a:gd name="adj1" fmla="val 30128"/>
              <a:gd name="adj2" fmla="val 50000"/>
              <a:gd name="adj3" fmla="val 30128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40" idx="5"/>
            <a:endCxn id="364" idx="7"/>
          </p:cNvCxnSpPr>
          <p:nvPr/>
        </p:nvCxnSpPr>
        <p:spPr>
          <a:xfrm flipV="1" rot="10800000">
            <a:off x="1967760" y="3196800"/>
            <a:ext cx="1080" cy="290268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41" idx="5"/>
            <a:endCxn id="365" idx="7"/>
          </p:cNvCxnSpPr>
          <p:nvPr/>
        </p:nvCxnSpPr>
        <p:spPr>
          <a:xfrm>
            <a:off x="4330440" y="3196800"/>
            <a:ext cx="1080" cy="29026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42" idx="5"/>
            <a:endCxn id="366" idx="7"/>
          </p:cNvCxnSpPr>
          <p:nvPr/>
        </p:nvCxnSpPr>
        <p:spPr>
          <a:xfrm>
            <a:off x="6463800" y="3196800"/>
            <a:ext cx="1080" cy="29026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34" idx="4"/>
            <a:endCxn id="340" idx="0"/>
          </p:cNvCxnSpPr>
          <p:nvPr/>
        </p:nvCxnSpPr>
        <p:spPr>
          <a:xfrm>
            <a:off x="1752120" y="2448000"/>
            <a:ext cx="1080" cy="21024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35" idx="4"/>
            <a:endCxn id="341" idx="0"/>
          </p:cNvCxnSpPr>
          <p:nvPr/>
        </p:nvCxnSpPr>
        <p:spPr>
          <a:xfrm>
            <a:off x="4114440" y="2448000"/>
            <a:ext cx="1080" cy="21024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36" idx="4"/>
            <a:endCxn id="342" idx="0"/>
          </p:cNvCxnSpPr>
          <p:nvPr/>
        </p:nvCxnSpPr>
        <p:spPr>
          <a:xfrm>
            <a:off x="6248160" y="2448000"/>
            <a:ext cx="1080" cy="21024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34" idx="3"/>
            <a:endCxn id="364" idx="2"/>
          </p:cNvCxnSpPr>
          <p:nvPr/>
        </p:nvCxnSpPr>
        <p:spPr>
          <a:xfrm rot="5400000">
            <a:off x="-495720" y="4292280"/>
            <a:ext cx="3966120" cy="99360"/>
          </a:xfrm>
          <a:prstGeom prst="curvedConnector5">
            <a:avLst>
              <a:gd name="adj1" fmla="val 47149"/>
              <a:gd name="adj2" fmla="val 95636"/>
              <a:gd name="adj3" fmla="val 47149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35" idx="3"/>
            <a:endCxn id="365" idx="2"/>
          </p:cNvCxnSpPr>
          <p:nvPr/>
        </p:nvCxnSpPr>
        <p:spPr>
          <a:xfrm rot="5400000">
            <a:off x="1866240" y="4292280"/>
            <a:ext cx="3966120" cy="99000"/>
          </a:xfrm>
          <a:prstGeom prst="curvedConnector5">
            <a:avLst>
              <a:gd name="adj1" fmla="val 29493"/>
              <a:gd name="adj2" fmla="val 160948"/>
              <a:gd name="adj3" fmla="val 29493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36" idx="3"/>
            <a:endCxn id="366" idx="2"/>
          </p:cNvCxnSpPr>
          <p:nvPr/>
        </p:nvCxnSpPr>
        <p:spPr>
          <a:xfrm rot="5400000">
            <a:off x="3999960" y="4292280"/>
            <a:ext cx="3966120" cy="99000"/>
          </a:xfrm>
          <a:prstGeom prst="curvedConnector5">
            <a:avLst>
              <a:gd name="adj1" fmla="val 29021"/>
              <a:gd name="adj2" fmla="val 160948"/>
              <a:gd name="adj3" fmla="val 29021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28" idx="4"/>
            <a:endCxn id="340" idx="7"/>
          </p:cNvCxnSpPr>
          <p:nvPr/>
        </p:nvCxnSpPr>
        <p:spPr>
          <a:xfrm flipH="1" rot="16200000">
            <a:off x="1292040" y="2069640"/>
            <a:ext cx="1137600" cy="216720"/>
          </a:xfrm>
          <a:prstGeom prst="curvedConnector5">
            <a:avLst>
              <a:gd name="adj1" fmla="val 35454"/>
              <a:gd name="adj2" fmla="val 49916"/>
              <a:gd name="adj3" fmla="val 3545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29" idx="4"/>
            <a:endCxn id="341" idx="7"/>
          </p:cNvCxnSpPr>
          <p:nvPr/>
        </p:nvCxnSpPr>
        <p:spPr>
          <a:xfrm flipH="1" rot="16200000">
            <a:off x="3654360" y="2069640"/>
            <a:ext cx="1137600" cy="216720"/>
          </a:xfrm>
          <a:prstGeom prst="curvedConnector5">
            <a:avLst>
              <a:gd name="adj1" fmla="val 28616"/>
              <a:gd name="adj2" fmla="val 49916"/>
              <a:gd name="adj3" fmla="val 2861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28" idx="5"/>
            <a:endCxn id="341" idx="1"/>
          </p:cNvCxnSpPr>
          <p:nvPr/>
        </p:nvCxnSpPr>
        <p:spPr>
          <a:xfrm flipH="1" rot="16200000">
            <a:off x="2320920" y="1168200"/>
            <a:ext cx="1226160" cy="1931040"/>
          </a:xfrm>
          <a:prstGeom prst="curvedConnector5">
            <a:avLst>
              <a:gd name="adj1" fmla="val 49985"/>
              <a:gd name="adj2" fmla="val 49990"/>
              <a:gd name="adj3" fmla="val 49985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69" idx="3"/>
            <a:endCxn id="342" idx="2"/>
          </p:cNvCxnSpPr>
          <p:nvPr/>
        </p:nvCxnSpPr>
        <p:spPr>
          <a:xfrm>
            <a:off x="2088720" y="1294920"/>
            <a:ext cx="3845880" cy="1677240"/>
          </a:xfrm>
          <a:prstGeom prst="curvedConnector5">
            <a:avLst>
              <a:gd name="adj1" fmla="val 50121"/>
              <a:gd name="adj2" fmla="val 50000"/>
              <a:gd name="adj3" fmla="val 50121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29" idx="5"/>
            <a:endCxn id="342" idx="1"/>
          </p:cNvCxnSpPr>
          <p:nvPr/>
        </p:nvCxnSpPr>
        <p:spPr>
          <a:xfrm flipH="1" rot="16200000">
            <a:off x="4568040" y="1282680"/>
            <a:ext cx="1226160" cy="17024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68" idx="3"/>
          </p:cNvCxnSpPr>
          <p:nvPr/>
        </p:nvCxnSpPr>
        <p:spPr>
          <a:xfrm>
            <a:off x="4451040" y="1294920"/>
            <a:ext cx="1788120" cy="1677240"/>
          </a:xfrm>
          <a:prstGeom prst="curvedConnector5">
            <a:avLst>
              <a:gd name="adj1" fmla="val 28856"/>
              <a:gd name="adj2" fmla="val 50000"/>
              <a:gd name="adj3" fmla="val 288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330" idx="4"/>
            <a:endCxn id="342" idx="7"/>
          </p:cNvCxnSpPr>
          <p:nvPr/>
        </p:nvCxnSpPr>
        <p:spPr>
          <a:xfrm flipH="1" rot="16200000">
            <a:off x="5787000" y="2070000"/>
            <a:ext cx="1137600" cy="216360"/>
          </a:xfrm>
          <a:prstGeom prst="curvedConnector5">
            <a:avLst>
              <a:gd name="adj1" fmla="val 17442"/>
              <a:gd name="adj2" fmla="val 50000"/>
              <a:gd name="adj3" fmla="val 17442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330" idx="5"/>
          </p:cNvCxnSpPr>
          <p:nvPr/>
        </p:nvCxnSpPr>
        <p:spPr>
          <a:xfrm flipH="1" rot="16200000">
            <a:off x="6245280" y="1739520"/>
            <a:ext cx="1226160" cy="788400"/>
          </a:xfrm>
          <a:prstGeom prst="curvedConnector5">
            <a:avLst>
              <a:gd name="adj1" fmla="val 63582"/>
              <a:gd name="adj2" fmla="val 49977"/>
              <a:gd name="adj3" fmla="val 63582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70" idx="3"/>
          </p:cNvCxnSpPr>
          <p:nvPr/>
        </p:nvCxnSpPr>
        <p:spPr>
          <a:xfrm>
            <a:off x="6584760" y="1294920"/>
            <a:ext cx="1711800" cy="1677240"/>
          </a:xfrm>
          <a:prstGeom prst="curvedConnector5">
            <a:avLst>
              <a:gd name="adj1" fmla="val 31342"/>
              <a:gd name="adj2" fmla="val 50000"/>
              <a:gd name="adj3" fmla="val 31342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22" idx="4"/>
            <a:endCxn id="328" idx="0"/>
          </p:cNvCxnSpPr>
          <p:nvPr/>
        </p:nvCxnSpPr>
        <p:spPr>
          <a:xfrm flipV="1" rot="10800000">
            <a:off x="1751760" y="771120"/>
            <a:ext cx="1080" cy="210240"/>
          </a:xfrm>
          <a:prstGeom prst="curvedConnector2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23" idx="4"/>
            <a:endCxn id="329" idx="0"/>
          </p:cNvCxnSpPr>
          <p:nvPr/>
        </p:nvCxnSpPr>
        <p:spPr>
          <a:xfrm>
            <a:off x="4114440" y="771480"/>
            <a:ext cx="1080" cy="21024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24" idx="4"/>
            <a:endCxn id="330" idx="0"/>
          </p:cNvCxnSpPr>
          <p:nvPr/>
        </p:nvCxnSpPr>
        <p:spPr>
          <a:xfrm>
            <a:off x="6248160" y="771480"/>
            <a:ext cx="1080" cy="21024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22" idx="5"/>
            <a:endCxn id="334" idx="7"/>
          </p:cNvCxnSpPr>
          <p:nvPr/>
        </p:nvCxnSpPr>
        <p:spPr>
          <a:xfrm flipV="1" rot="10800000">
            <a:off x="1967760" y="682200"/>
            <a:ext cx="1080" cy="1226160"/>
          </a:xfrm>
          <a:prstGeom prst="curvedConnector2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23" idx="5"/>
            <a:endCxn id="335" idx="7"/>
          </p:cNvCxnSpPr>
          <p:nvPr/>
        </p:nvCxnSpPr>
        <p:spPr>
          <a:xfrm>
            <a:off x="4330440" y="682560"/>
            <a:ext cx="1080" cy="12261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324" idx="5"/>
            <a:endCxn id="336" idx="7"/>
          </p:cNvCxnSpPr>
          <p:nvPr/>
        </p:nvCxnSpPr>
        <p:spPr>
          <a:xfrm>
            <a:off x="6463800" y="682560"/>
            <a:ext cx="1080" cy="122616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322" idx="6"/>
            <a:endCxn id="340" idx="7"/>
          </p:cNvCxnSpPr>
          <p:nvPr/>
        </p:nvCxnSpPr>
        <p:spPr>
          <a:xfrm flipH="1">
            <a:off x="1967760" y="456840"/>
            <a:ext cx="99000" cy="2289960"/>
          </a:xfrm>
          <a:prstGeom prst="curvedConnector5">
            <a:avLst>
              <a:gd name="adj1" fmla="val -222262"/>
              <a:gd name="adj2" fmla="val 43333"/>
              <a:gd name="adj3" fmla="val -22226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323" idx="6"/>
            <a:endCxn id="341" idx="7"/>
          </p:cNvCxnSpPr>
          <p:nvPr/>
        </p:nvCxnSpPr>
        <p:spPr>
          <a:xfrm flipH="1">
            <a:off x="4330080" y="456840"/>
            <a:ext cx="99000" cy="2289960"/>
          </a:xfrm>
          <a:prstGeom prst="curvedConnector5">
            <a:avLst>
              <a:gd name="adj1" fmla="val -222262"/>
              <a:gd name="adj2" fmla="val 43993"/>
              <a:gd name="adj3" fmla="val -22226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324" idx="6"/>
            <a:endCxn id="342" idx="7"/>
          </p:cNvCxnSpPr>
          <p:nvPr/>
        </p:nvCxnSpPr>
        <p:spPr>
          <a:xfrm flipH="1">
            <a:off x="6463800" y="456840"/>
            <a:ext cx="99360" cy="2289960"/>
          </a:xfrm>
          <a:prstGeom prst="curvedConnector5">
            <a:avLst>
              <a:gd name="adj1" fmla="val -222545"/>
              <a:gd name="adj2" fmla="val 43537"/>
              <a:gd name="adj3" fmla="val -222545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322" idx="3"/>
            <a:endCxn id="346" idx="0"/>
          </p:cNvCxnSpPr>
          <p:nvPr/>
        </p:nvCxnSpPr>
        <p:spPr>
          <a:xfrm flipH="1" rot="16200000">
            <a:off x="237240" y="1981080"/>
            <a:ext cx="2813760" cy="216360"/>
          </a:xfrm>
          <a:prstGeom prst="curvedConnector5">
            <a:avLst>
              <a:gd name="adj1" fmla="val 68675"/>
              <a:gd name="adj2" fmla="val 50000"/>
              <a:gd name="adj3" fmla="val 68675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323" idx="3"/>
            <a:endCxn id="347" idx="0"/>
          </p:cNvCxnSpPr>
          <p:nvPr/>
        </p:nvCxnSpPr>
        <p:spPr>
          <a:xfrm flipH="1" rot="16200000">
            <a:off x="2600280" y="1980720"/>
            <a:ext cx="2813760" cy="216720"/>
          </a:xfrm>
          <a:prstGeom prst="curvedConnector5">
            <a:avLst>
              <a:gd name="adj1" fmla="val 74254"/>
              <a:gd name="adj2" fmla="val 49916"/>
              <a:gd name="adj3" fmla="val 7425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324" idx="3"/>
            <a:endCxn id="348" idx="0"/>
          </p:cNvCxnSpPr>
          <p:nvPr/>
        </p:nvCxnSpPr>
        <p:spPr>
          <a:xfrm flipH="1" rot="16200000">
            <a:off x="4734000" y="1980720"/>
            <a:ext cx="2813760" cy="216720"/>
          </a:xfrm>
          <a:prstGeom prst="curvedConnector5">
            <a:avLst>
              <a:gd name="adj1" fmla="val 68278"/>
              <a:gd name="adj2" fmla="val 49916"/>
              <a:gd name="adj3" fmla="val 68278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322" idx="2"/>
            <a:endCxn id="352" idx="0"/>
          </p:cNvCxnSpPr>
          <p:nvPr/>
        </p:nvCxnSpPr>
        <p:spPr>
          <a:xfrm flipH="1" flipV="1" rot="10800000">
            <a:off x="1437120" y="456120"/>
            <a:ext cx="315000" cy="3877560"/>
          </a:xfrm>
          <a:prstGeom prst="curvedConnector5">
            <a:avLst>
              <a:gd name="adj1" fmla="val -17162"/>
              <a:gd name="adj2" fmla="val 49582"/>
              <a:gd name="adj3" fmla="val -17162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323" idx="2"/>
            <a:endCxn id="353" idx="0"/>
          </p:cNvCxnSpPr>
          <p:nvPr/>
        </p:nvCxnSpPr>
        <p:spPr>
          <a:xfrm flipH="1" flipV="1" rot="10800000">
            <a:off x="3799440" y="456120"/>
            <a:ext cx="315000" cy="3877560"/>
          </a:xfrm>
          <a:prstGeom prst="curvedConnector5">
            <a:avLst>
              <a:gd name="adj1" fmla="val -69679"/>
              <a:gd name="adj2" fmla="val 49071"/>
              <a:gd name="adj3" fmla="val -69679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324" idx="2"/>
            <a:endCxn id="354" idx="0"/>
          </p:cNvCxnSpPr>
          <p:nvPr/>
        </p:nvCxnSpPr>
        <p:spPr>
          <a:xfrm flipH="1" flipV="1" rot="10800000">
            <a:off x="5933160" y="456120"/>
            <a:ext cx="315000" cy="3877560"/>
          </a:xfrm>
          <a:prstGeom prst="curvedConnector5">
            <a:avLst>
              <a:gd name="adj1" fmla="val -69679"/>
              <a:gd name="adj2" fmla="val 48700"/>
              <a:gd name="adj3" fmla="val -69679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322" idx="2"/>
            <a:endCxn id="358" idx="2"/>
          </p:cNvCxnSpPr>
          <p:nvPr/>
        </p:nvCxnSpPr>
        <p:spPr>
          <a:xfrm flipH="1" flipV="1" rot="10800000">
            <a:off x="1437120" y="456840"/>
            <a:ext cx="2520" cy="5029920"/>
          </a:xfrm>
          <a:prstGeom prst="curvedConnector5">
            <a:avLst>
              <a:gd name="adj1" fmla="val -7000000"/>
              <a:gd name="adj2" fmla="val 49996"/>
              <a:gd name="adj3" fmla="val -70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323" idx="2"/>
            <a:endCxn id="359" idx="2"/>
          </p:cNvCxnSpPr>
          <p:nvPr/>
        </p:nvCxnSpPr>
        <p:spPr>
          <a:xfrm flipH="1" flipV="1" rot="10800000">
            <a:off x="3800160" y="456840"/>
            <a:ext cx="2160" cy="5029920"/>
          </a:xfrm>
          <a:prstGeom prst="curvedConnector5">
            <a:avLst>
              <a:gd name="adj1" fmla="val -17500000"/>
              <a:gd name="adj2" fmla="val 49996"/>
              <a:gd name="adj3" fmla="val -175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324" idx="2"/>
            <a:endCxn id="360" idx="2"/>
          </p:cNvCxnSpPr>
          <p:nvPr/>
        </p:nvCxnSpPr>
        <p:spPr>
          <a:xfrm flipH="1" flipV="1" rot="10800000">
            <a:off x="5933880" y="456840"/>
            <a:ext cx="2160" cy="5029920"/>
          </a:xfrm>
          <a:prstGeom prst="curvedConnector5">
            <a:avLst>
              <a:gd name="adj1" fmla="val -21200000"/>
              <a:gd name="adj2" fmla="val 49996"/>
              <a:gd name="adj3" fmla="val -21200000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91440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1440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1" idx="6"/>
            <a:endCxn id="432" idx="2"/>
          </p:cNvCxnSpPr>
          <p:nvPr/>
        </p:nvCxnSpPr>
        <p:spPr>
          <a:xfrm flipH="1">
            <a:off x="904680" y="456840"/>
            <a:ext cx="629280" cy="108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6"/>
            <a:endCxn id="433" idx="2"/>
          </p:cNvCxnSpPr>
          <p:nvPr/>
        </p:nvCxnSpPr>
        <p:spPr>
          <a:xfrm flipH="1">
            <a:off x="904680" y="456840"/>
            <a:ext cx="629280" cy="108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1447920" y="114300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114300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14300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6" idx="6"/>
            <a:endCxn id="437" idx="2"/>
          </p:cNvCxnSpPr>
          <p:nvPr/>
        </p:nvCxnSpPr>
        <p:spPr>
          <a:xfrm flipH="1">
            <a:off x="1437840" y="1447560"/>
            <a:ext cx="629280" cy="10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7" idx="6"/>
            <a:endCxn id="438" idx="2"/>
          </p:cNvCxnSpPr>
          <p:nvPr/>
        </p:nvCxnSpPr>
        <p:spPr>
          <a:xfrm flipH="1">
            <a:off x="1437840" y="1447560"/>
            <a:ext cx="629280" cy="10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3200400" y="11430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11430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00400" y="11430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6"/>
            <a:endCxn id="442" idx="2"/>
          </p:cNvCxnSpPr>
          <p:nvPr/>
        </p:nvCxnSpPr>
        <p:spPr>
          <a:xfrm flipH="1">
            <a:off x="3190680" y="1447560"/>
            <a:ext cx="629280" cy="10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42" idx="6"/>
            <a:endCxn id="443" idx="2"/>
          </p:cNvCxnSpPr>
          <p:nvPr/>
        </p:nvCxnSpPr>
        <p:spPr>
          <a:xfrm flipH="1">
            <a:off x="3190680" y="1447560"/>
            <a:ext cx="629280" cy="10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95680" y="2666880"/>
            <a:ext cx="60984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2940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6" idx="6"/>
            <a:endCxn id="447" idx="2"/>
          </p:cNvCxnSpPr>
          <p:nvPr/>
        </p:nvCxnSpPr>
        <p:spPr>
          <a:xfrm>
            <a:off x="2752560" y="2971440"/>
            <a:ext cx="17344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7" idx="6"/>
            <a:endCxn id="448" idx="2"/>
          </p:cNvCxnSpPr>
          <p:nvPr/>
        </p:nvCxnSpPr>
        <p:spPr>
          <a:xfrm>
            <a:off x="5114520" y="2971440"/>
            <a:ext cx="15058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8" idx="6"/>
          </p:cNvCxnSpPr>
          <p:nvPr/>
        </p:nvCxnSpPr>
        <p:spPr>
          <a:xfrm>
            <a:off x="7248600" y="2971440"/>
            <a:ext cx="5911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1447920" y="3809880"/>
            <a:ext cx="609480" cy="60984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809880"/>
            <a:ext cx="609480" cy="60984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3809880"/>
            <a:ext cx="609480" cy="60984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3809880"/>
            <a:ext cx="609480" cy="60984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3809880"/>
            <a:ext cx="609480" cy="60984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3809880"/>
            <a:ext cx="609480" cy="60984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5740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53080" y="5181480"/>
            <a:ext cx="60984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58" idx="6"/>
            <a:endCxn id="459" idx="2"/>
          </p:cNvCxnSpPr>
          <p:nvPr/>
        </p:nvCxnSpPr>
        <p:spPr>
          <a:xfrm>
            <a:off x="2676240" y="5486040"/>
            <a:ext cx="1734120" cy="108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9" idx="6"/>
            <a:endCxn id="460" idx="2"/>
          </p:cNvCxnSpPr>
          <p:nvPr/>
        </p:nvCxnSpPr>
        <p:spPr>
          <a:xfrm>
            <a:off x="5038200" y="5486040"/>
            <a:ext cx="1505880" cy="108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60" idx="6"/>
          </p:cNvCxnSpPr>
          <p:nvPr/>
        </p:nvCxnSpPr>
        <p:spPr>
          <a:xfrm>
            <a:off x="7171920" y="5486040"/>
            <a:ext cx="591120" cy="108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2057400" y="6095880"/>
            <a:ext cx="609480" cy="6098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6095880"/>
            <a:ext cx="609480" cy="6098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53080" y="6095880"/>
            <a:ext cx="609840" cy="6098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92880" y="22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49720" y="1219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49720" y="1219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49720" y="1219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01480" y="1219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1480" y="1219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1480" y="1219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039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179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1364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58" idx="4"/>
            <a:endCxn id="464" idx="0"/>
          </p:cNvCxnSpPr>
          <p:nvPr/>
        </p:nvCxnSpPr>
        <p:spPr>
          <a:xfrm>
            <a:off x="2361960" y="5800680"/>
            <a:ext cx="1080" cy="2865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59" idx="4"/>
            <a:endCxn id="465" idx="0"/>
          </p:cNvCxnSpPr>
          <p:nvPr/>
        </p:nvCxnSpPr>
        <p:spPr>
          <a:xfrm>
            <a:off x="4723920" y="5800680"/>
            <a:ext cx="1080" cy="2865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60" idx="4"/>
            <a:endCxn id="466" idx="0"/>
          </p:cNvCxnSpPr>
          <p:nvPr/>
        </p:nvCxnSpPr>
        <p:spPr>
          <a:xfrm>
            <a:off x="6857640" y="5800680"/>
            <a:ext cx="1080" cy="2865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55" idx="3"/>
            <a:endCxn id="464" idx="6"/>
          </p:cNvCxnSpPr>
          <p:nvPr/>
        </p:nvCxnSpPr>
        <p:spPr>
          <a:xfrm rot="5400000">
            <a:off x="1990080" y="5025960"/>
            <a:ext cx="2061360" cy="6897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56" idx="3"/>
            <a:endCxn id="465" idx="2"/>
          </p:cNvCxnSpPr>
          <p:nvPr/>
        </p:nvCxnSpPr>
        <p:spPr>
          <a:xfrm flipH="1" rot="16200000">
            <a:off x="2856600" y="4848120"/>
            <a:ext cx="2061360" cy="104508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57" idx="3"/>
            <a:endCxn id="466" idx="2"/>
          </p:cNvCxnSpPr>
          <p:nvPr/>
        </p:nvCxnSpPr>
        <p:spPr>
          <a:xfrm flipH="1" rot="16200000">
            <a:off x="3924360" y="3781080"/>
            <a:ext cx="2061360" cy="317880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55" idx="4"/>
            <a:endCxn id="458" idx="0"/>
          </p:cNvCxnSpPr>
          <p:nvPr/>
        </p:nvCxnSpPr>
        <p:spPr>
          <a:xfrm flipH="1">
            <a:off x="2361960" y="4429080"/>
            <a:ext cx="1219680" cy="7437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56" idx="4"/>
            <a:endCxn id="459" idx="0"/>
          </p:cNvCxnSpPr>
          <p:nvPr/>
        </p:nvCxnSpPr>
        <p:spPr>
          <a:xfrm>
            <a:off x="3580920" y="4429080"/>
            <a:ext cx="1143720" cy="7437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485" name=""/>
          <p:cNvCxnSpPr>
            <a:stCxn id="457" idx="4"/>
            <a:endCxn id="460" idx="0"/>
          </p:cNvCxnSpPr>
          <p:nvPr/>
        </p:nvCxnSpPr>
        <p:spPr>
          <a:xfrm>
            <a:off x="3581280" y="4429080"/>
            <a:ext cx="3277440" cy="7437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52" idx="4"/>
            <a:endCxn id="458" idx="7"/>
          </p:cNvCxnSpPr>
          <p:nvPr/>
        </p:nvCxnSpPr>
        <p:spPr>
          <a:xfrm flipH="1" rot="16200000">
            <a:off x="1748160" y="4431960"/>
            <a:ext cx="832680" cy="826200"/>
          </a:xfrm>
          <a:prstGeom prst="curvedConnector5">
            <a:avLst>
              <a:gd name="adj1" fmla="val 44636"/>
              <a:gd name="adj2" fmla="val 50000"/>
              <a:gd name="adj3" fmla="val 446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53" idx="4"/>
            <a:endCxn id="459" idx="7"/>
          </p:cNvCxnSpPr>
          <p:nvPr/>
        </p:nvCxnSpPr>
        <p:spPr>
          <a:xfrm flipH="1" rot="16200000">
            <a:off x="2929320" y="3250800"/>
            <a:ext cx="832680" cy="3188520"/>
          </a:xfrm>
          <a:prstGeom prst="curvedConnector5">
            <a:avLst>
              <a:gd name="adj1" fmla="val 44636"/>
              <a:gd name="adj2" fmla="val 50000"/>
              <a:gd name="adj3" fmla="val 446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54" idx="4"/>
            <a:endCxn id="460" idx="7"/>
          </p:cNvCxnSpPr>
          <p:nvPr/>
        </p:nvCxnSpPr>
        <p:spPr>
          <a:xfrm flipH="1" rot="16200000">
            <a:off x="3997080" y="2183760"/>
            <a:ext cx="832680" cy="5322240"/>
          </a:xfrm>
          <a:prstGeom prst="curvedConnector5">
            <a:avLst>
              <a:gd name="adj1" fmla="val 44636"/>
              <a:gd name="adj2" fmla="val 49996"/>
              <a:gd name="adj3" fmla="val 446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46" idx="5"/>
            <a:endCxn id="464" idx="7"/>
          </p:cNvCxnSpPr>
          <p:nvPr/>
        </p:nvCxnSpPr>
        <p:spPr>
          <a:xfrm rot="5400000">
            <a:off x="1126800" y="4647960"/>
            <a:ext cx="2979000" cy="7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47" idx="5"/>
            <a:endCxn id="465" idx="7"/>
          </p:cNvCxnSpPr>
          <p:nvPr/>
        </p:nvCxnSpPr>
        <p:spPr>
          <a:xfrm flipH="1">
            <a:off x="4940280" y="3196800"/>
            <a:ext cx="76680" cy="29790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48" idx="5"/>
            <a:endCxn id="466" idx="7"/>
          </p:cNvCxnSpPr>
          <p:nvPr/>
        </p:nvCxnSpPr>
        <p:spPr>
          <a:xfrm flipH="1">
            <a:off x="7073280" y="3196800"/>
            <a:ext cx="76680" cy="29790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41" idx="4"/>
            <a:endCxn id="446" idx="0"/>
          </p:cNvCxnSpPr>
          <p:nvPr/>
        </p:nvCxnSpPr>
        <p:spPr>
          <a:xfrm flipH="1">
            <a:off x="2437920" y="1761840"/>
            <a:ext cx="1067760" cy="89604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42" idx="4"/>
            <a:endCxn id="447" idx="0"/>
          </p:cNvCxnSpPr>
          <p:nvPr/>
        </p:nvCxnSpPr>
        <p:spPr>
          <a:xfrm>
            <a:off x="3505320" y="1761840"/>
            <a:ext cx="1296000" cy="89604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43" idx="4"/>
            <a:endCxn id="448" idx="0"/>
          </p:cNvCxnSpPr>
          <p:nvPr/>
        </p:nvCxnSpPr>
        <p:spPr>
          <a:xfrm>
            <a:off x="3504960" y="1761840"/>
            <a:ext cx="3429720" cy="89604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41" idx="3"/>
            <a:endCxn id="464" idx="6"/>
          </p:cNvCxnSpPr>
          <p:nvPr/>
        </p:nvCxnSpPr>
        <p:spPr>
          <a:xfrm rot="5400000">
            <a:off x="618480" y="3730680"/>
            <a:ext cx="4728240" cy="613440"/>
          </a:xfrm>
          <a:prstGeom prst="curvedConnector2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42" idx="3"/>
            <a:endCxn id="465" idx="2"/>
          </p:cNvCxnSpPr>
          <p:nvPr/>
        </p:nvCxnSpPr>
        <p:spPr>
          <a:xfrm flipH="1" rot="16200000">
            <a:off x="1485000" y="3476520"/>
            <a:ext cx="4728240" cy="1121400"/>
          </a:xfrm>
          <a:prstGeom prst="curvedConnector2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97" name=""/>
          <p:cNvCxnSpPr>
            <a:stCxn id="443" idx="3"/>
            <a:endCxn id="466" idx="2"/>
          </p:cNvCxnSpPr>
          <p:nvPr/>
        </p:nvCxnSpPr>
        <p:spPr>
          <a:xfrm flipH="1" rot="16200000">
            <a:off x="2552760" y="2409480"/>
            <a:ext cx="4728240" cy="3255120"/>
          </a:xfrm>
          <a:prstGeom prst="curvedConnector2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98" name=""/>
          <p:cNvCxnSpPr>
            <a:stCxn id="436" idx="4"/>
            <a:endCxn id="446" idx="1"/>
          </p:cNvCxnSpPr>
          <p:nvPr/>
        </p:nvCxnSpPr>
        <p:spPr>
          <a:xfrm flipH="1" rot="16200000">
            <a:off x="1495440" y="2018880"/>
            <a:ext cx="984960" cy="470880"/>
          </a:xfrm>
          <a:prstGeom prst="curvedConnector5">
            <a:avLst>
              <a:gd name="adj1" fmla="val 45484"/>
              <a:gd name="adj2" fmla="val 49961"/>
              <a:gd name="adj3" fmla="val 4548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99" name=""/>
          <p:cNvCxnSpPr>
            <a:stCxn id="438" idx="4"/>
            <a:endCxn id="447" idx="1"/>
          </p:cNvCxnSpPr>
          <p:nvPr/>
        </p:nvCxnSpPr>
        <p:spPr>
          <a:xfrm flipH="1" rot="16200000">
            <a:off x="2675520" y="838080"/>
            <a:ext cx="984960" cy="2832840"/>
          </a:xfrm>
          <a:prstGeom prst="curvedConnector5">
            <a:avLst>
              <a:gd name="adj1" fmla="val 76416"/>
              <a:gd name="adj2" fmla="val 50000"/>
              <a:gd name="adj3" fmla="val 7641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437" idx="5"/>
            <a:endCxn id="448" idx="1"/>
          </p:cNvCxnSpPr>
          <p:nvPr/>
        </p:nvCxnSpPr>
        <p:spPr>
          <a:xfrm flipH="1" rot="16200000">
            <a:off x="3807000" y="-165960"/>
            <a:ext cx="1073520" cy="4750560"/>
          </a:xfrm>
          <a:prstGeom prst="curvedConnector5">
            <a:avLst>
              <a:gd name="adj1" fmla="val 73834"/>
              <a:gd name="adj2" fmla="val 49996"/>
              <a:gd name="adj3" fmla="val 7383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01" name=""/>
          <p:cNvCxnSpPr>
            <a:stCxn id="432" idx="4"/>
            <a:endCxn id="437" idx="0"/>
          </p:cNvCxnSpPr>
          <p:nvPr/>
        </p:nvCxnSpPr>
        <p:spPr>
          <a:xfrm>
            <a:off x="1218960" y="771480"/>
            <a:ext cx="533880" cy="36252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33" idx="4"/>
            <a:endCxn id="438" idx="0"/>
          </p:cNvCxnSpPr>
          <p:nvPr/>
        </p:nvCxnSpPr>
        <p:spPr>
          <a:xfrm>
            <a:off x="1218960" y="771480"/>
            <a:ext cx="533880" cy="36252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03" name=""/>
          <p:cNvCxnSpPr>
            <a:stCxn id="433" idx="5"/>
            <a:endCxn id="473" idx="1"/>
          </p:cNvCxnSpPr>
          <p:nvPr/>
        </p:nvCxnSpPr>
        <p:spPr>
          <a:xfrm>
            <a:off x="1434960" y="682560"/>
            <a:ext cx="1766160" cy="76608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431" idx="6"/>
            <a:endCxn id="446" idx="7"/>
          </p:cNvCxnSpPr>
          <p:nvPr/>
        </p:nvCxnSpPr>
        <p:spPr>
          <a:xfrm>
            <a:off x="1533240" y="456840"/>
            <a:ext cx="1121400" cy="2289960"/>
          </a:xfrm>
          <a:prstGeom prst="curvedConnector2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32" idx="6"/>
            <a:endCxn id="447" idx="7"/>
          </p:cNvCxnSpPr>
          <p:nvPr/>
        </p:nvCxnSpPr>
        <p:spPr>
          <a:xfrm>
            <a:off x="1533240" y="456840"/>
            <a:ext cx="3483720" cy="2289960"/>
          </a:xfrm>
          <a:prstGeom prst="curvedConnector2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33" idx="6"/>
            <a:endCxn id="448" idx="7"/>
          </p:cNvCxnSpPr>
          <p:nvPr/>
        </p:nvCxnSpPr>
        <p:spPr>
          <a:xfrm>
            <a:off x="1533240" y="456840"/>
            <a:ext cx="5617080" cy="2289960"/>
          </a:xfrm>
          <a:prstGeom prst="curvedConnector2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31" idx="3"/>
            <a:endCxn id="452" idx="0"/>
          </p:cNvCxnSpPr>
          <p:nvPr/>
        </p:nvCxnSpPr>
        <p:spPr>
          <a:xfrm flipH="1" rot="16200000">
            <a:off x="-182160" y="1866600"/>
            <a:ext cx="3118680" cy="749880"/>
          </a:xfrm>
          <a:prstGeom prst="curvedConnector5">
            <a:avLst>
              <a:gd name="adj1" fmla="val 51419"/>
              <a:gd name="adj2" fmla="val 50000"/>
              <a:gd name="adj3" fmla="val 51419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32" idx="3"/>
            <a:endCxn id="453" idx="0"/>
          </p:cNvCxnSpPr>
          <p:nvPr/>
        </p:nvCxnSpPr>
        <p:spPr>
          <a:xfrm flipH="1" rot="16200000">
            <a:off x="-182160" y="1866600"/>
            <a:ext cx="3118680" cy="749880"/>
          </a:xfrm>
          <a:prstGeom prst="curvedConnector5">
            <a:avLst>
              <a:gd name="adj1" fmla="val 51419"/>
              <a:gd name="adj2" fmla="val 50000"/>
              <a:gd name="adj3" fmla="val 51419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33" idx="3"/>
            <a:endCxn id="454" idx="0"/>
          </p:cNvCxnSpPr>
          <p:nvPr/>
        </p:nvCxnSpPr>
        <p:spPr>
          <a:xfrm flipH="1" rot="16200000">
            <a:off x="-182160" y="1866600"/>
            <a:ext cx="3118680" cy="749880"/>
          </a:xfrm>
          <a:prstGeom prst="curvedConnector5">
            <a:avLst>
              <a:gd name="adj1" fmla="val 51419"/>
              <a:gd name="adj2" fmla="val 50000"/>
              <a:gd name="adj3" fmla="val 51419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31" idx="2"/>
            <a:endCxn id="455" idx="0"/>
          </p:cNvCxnSpPr>
          <p:nvPr/>
        </p:nvCxnSpPr>
        <p:spPr>
          <a:xfrm flipH="1" flipV="1" rot="10800000">
            <a:off x="904680" y="456120"/>
            <a:ext cx="2676960" cy="3344040"/>
          </a:xfrm>
          <a:prstGeom prst="curvedConnector5">
            <a:avLst>
              <a:gd name="adj1" fmla="val -8177"/>
              <a:gd name="adj2" fmla="val 27347"/>
              <a:gd name="adj3" fmla="val -8177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32" idx="2"/>
            <a:endCxn id="456" idx="0"/>
          </p:cNvCxnSpPr>
          <p:nvPr/>
        </p:nvCxnSpPr>
        <p:spPr>
          <a:xfrm flipH="1" flipV="1" rot="10800000">
            <a:off x="904680" y="456120"/>
            <a:ext cx="2676960" cy="3344040"/>
          </a:xfrm>
          <a:prstGeom prst="curvedConnector5">
            <a:avLst>
              <a:gd name="adj1" fmla="val -8177"/>
              <a:gd name="adj2" fmla="val 27347"/>
              <a:gd name="adj3" fmla="val -8177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33" idx="2"/>
            <a:endCxn id="457" idx="0"/>
          </p:cNvCxnSpPr>
          <p:nvPr/>
        </p:nvCxnSpPr>
        <p:spPr>
          <a:xfrm flipH="1" flipV="1" rot="10800000">
            <a:off x="904680" y="456120"/>
            <a:ext cx="2676960" cy="3344040"/>
          </a:xfrm>
          <a:prstGeom prst="curvedConnector5">
            <a:avLst>
              <a:gd name="adj1" fmla="val -8177"/>
              <a:gd name="adj2" fmla="val 27347"/>
              <a:gd name="adj3" fmla="val -8177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431" idx="2"/>
            <a:endCxn id="458" idx="2"/>
          </p:cNvCxnSpPr>
          <p:nvPr/>
        </p:nvCxnSpPr>
        <p:spPr>
          <a:xfrm flipH="1" flipV="1" rot="10800000">
            <a:off x="903960" y="456840"/>
            <a:ext cx="1143720" cy="5029920"/>
          </a:xfrm>
          <a:prstGeom prst="curvedConnector5">
            <a:avLst>
              <a:gd name="adj1" fmla="val -19143"/>
              <a:gd name="adj2" fmla="val 49996"/>
              <a:gd name="adj3" fmla="val -19143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432" idx="2"/>
            <a:endCxn id="459" idx="2"/>
          </p:cNvCxnSpPr>
          <p:nvPr/>
        </p:nvCxnSpPr>
        <p:spPr>
          <a:xfrm flipH="1" flipV="1" rot="10800000">
            <a:off x="904680" y="456840"/>
            <a:ext cx="3505680" cy="5029920"/>
          </a:xfrm>
          <a:prstGeom prst="curvedConnector5">
            <a:avLst>
              <a:gd name="adj1" fmla="val -6244"/>
              <a:gd name="adj2" fmla="val 49996"/>
              <a:gd name="adj3" fmla="val -6244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433" idx="2"/>
            <a:endCxn id="460" idx="2"/>
          </p:cNvCxnSpPr>
          <p:nvPr/>
        </p:nvCxnSpPr>
        <p:spPr>
          <a:xfrm flipH="1" flipV="1" rot="10800000">
            <a:off x="903960" y="456840"/>
            <a:ext cx="5639400" cy="5029920"/>
          </a:xfrm>
          <a:prstGeom prst="curvedConnector5">
            <a:avLst>
              <a:gd name="adj1" fmla="val -3881"/>
              <a:gd name="adj2" fmla="val 49996"/>
              <a:gd name="adj3" fmla="val -3881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91440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152280"/>
            <a:ext cx="609480" cy="609840"/>
          </a:xfrm>
          <a:prstGeom prst="ellipse">
            <a:avLst/>
          </a:prstGeom>
          <a:solidFill>
            <a:srgbClr val="c18345"/>
          </a:solidFill>
          <a:ln w="19080">
            <a:solidFill>
              <a:srgbClr val="c18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6"/>
            <a:endCxn id="517" idx="2"/>
          </p:cNvCxnSpPr>
          <p:nvPr/>
        </p:nvCxnSpPr>
        <p:spPr>
          <a:xfrm flipH="1">
            <a:off x="904680" y="456840"/>
            <a:ext cx="629280" cy="108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517" idx="6"/>
            <a:endCxn id="518" idx="2"/>
          </p:cNvCxnSpPr>
          <p:nvPr/>
        </p:nvCxnSpPr>
        <p:spPr>
          <a:xfrm flipH="1">
            <a:off x="904680" y="456840"/>
            <a:ext cx="629280" cy="108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1447920" y="114300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47920" y="114300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47920" y="1143000"/>
            <a:ext cx="609480" cy="6094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1" idx="6"/>
            <a:endCxn id="522" idx="2"/>
          </p:cNvCxnSpPr>
          <p:nvPr/>
        </p:nvCxnSpPr>
        <p:spPr>
          <a:xfrm flipH="1">
            <a:off x="1437840" y="1447560"/>
            <a:ext cx="629280" cy="10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22" idx="6"/>
            <a:endCxn id="523" idx="2"/>
          </p:cNvCxnSpPr>
          <p:nvPr/>
        </p:nvCxnSpPr>
        <p:spPr>
          <a:xfrm flipH="1">
            <a:off x="1437840" y="1447560"/>
            <a:ext cx="629280" cy="10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3200400" y="11430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00400" y="11430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1143000"/>
            <a:ext cx="609480" cy="6094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6" idx="6"/>
            <a:endCxn id="527" idx="2"/>
          </p:cNvCxnSpPr>
          <p:nvPr/>
        </p:nvCxnSpPr>
        <p:spPr>
          <a:xfrm flipH="1">
            <a:off x="3190680" y="1447560"/>
            <a:ext cx="629280" cy="10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7" idx="6"/>
            <a:endCxn id="528" idx="2"/>
          </p:cNvCxnSpPr>
          <p:nvPr/>
        </p:nvCxnSpPr>
        <p:spPr>
          <a:xfrm flipH="1">
            <a:off x="3190680" y="1447560"/>
            <a:ext cx="629280" cy="10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2666880"/>
            <a:ext cx="60984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2666880"/>
            <a:ext cx="609480" cy="60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1" idx="6"/>
            <a:endCxn id="532" idx="2"/>
          </p:cNvCxnSpPr>
          <p:nvPr/>
        </p:nvCxnSpPr>
        <p:spPr>
          <a:xfrm>
            <a:off x="2752560" y="2971440"/>
            <a:ext cx="17344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6"/>
            <a:endCxn id="533" idx="2"/>
          </p:cNvCxnSpPr>
          <p:nvPr/>
        </p:nvCxnSpPr>
        <p:spPr>
          <a:xfrm>
            <a:off x="5114520" y="2971440"/>
            <a:ext cx="15058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3" idx="6"/>
          </p:cNvCxnSpPr>
          <p:nvPr/>
        </p:nvCxnSpPr>
        <p:spPr>
          <a:xfrm>
            <a:off x="7248600" y="2971440"/>
            <a:ext cx="5911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1447920" y="3809880"/>
            <a:ext cx="609480" cy="60984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47920" y="3809880"/>
            <a:ext cx="609480" cy="60984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3809880"/>
            <a:ext cx="609480" cy="60984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76720" y="3809880"/>
            <a:ext cx="609480" cy="60984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3809880"/>
            <a:ext cx="609480" cy="60984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76720" y="3809880"/>
            <a:ext cx="609480" cy="60984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5740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19720" y="5181480"/>
            <a:ext cx="60948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3080" y="5181480"/>
            <a:ext cx="609840" cy="609840"/>
          </a:xfrm>
          <a:prstGeom prst="ellipse">
            <a:avLst/>
          </a:prstGeom>
          <a:solidFill>
            <a:srgbClr val="cc00ff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3" idx="6"/>
            <a:endCxn id="544" idx="2"/>
          </p:cNvCxnSpPr>
          <p:nvPr/>
        </p:nvCxnSpPr>
        <p:spPr>
          <a:xfrm>
            <a:off x="2676240" y="5486040"/>
            <a:ext cx="1734120" cy="108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4" idx="6"/>
            <a:endCxn id="545" idx="2"/>
          </p:cNvCxnSpPr>
          <p:nvPr/>
        </p:nvCxnSpPr>
        <p:spPr>
          <a:xfrm>
            <a:off x="5038200" y="5486040"/>
            <a:ext cx="1505880" cy="108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45" idx="6"/>
          </p:cNvCxnSpPr>
          <p:nvPr/>
        </p:nvCxnSpPr>
        <p:spPr>
          <a:xfrm>
            <a:off x="7171920" y="5486040"/>
            <a:ext cx="591120" cy="108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2057400" y="6095880"/>
            <a:ext cx="609480" cy="6098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19720" y="6095880"/>
            <a:ext cx="609480" cy="6098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6095880"/>
            <a:ext cx="609840" cy="609840"/>
          </a:xfrm>
          <a:prstGeom prst="ellipse">
            <a:avLst/>
          </a:prstGeom>
          <a:solidFill>
            <a:srgbClr val="96969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92880" y="22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49720" y="1219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49720" y="1219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9720" y="1219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1480" y="1219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1480" y="1219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1480" y="1219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039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1796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13640" y="2743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43" idx="4"/>
            <a:endCxn id="549" idx="0"/>
          </p:cNvCxnSpPr>
          <p:nvPr/>
        </p:nvCxnSpPr>
        <p:spPr>
          <a:xfrm>
            <a:off x="2361960" y="5800680"/>
            <a:ext cx="1080" cy="2865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44" idx="4"/>
            <a:endCxn id="550" idx="0"/>
          </p:cNvCxnSpPr>
          <p:nvPr/>
        </p:nvCxnSpPr>
        <p:spPr>
          <a:xfrm>
            <a:off x="4723920" y="5800680"/>
            <a:ext cx="1080" cy="2865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45" idx="4"/>
            <a:endCxn id="551" idx="0"/>
          </p:cNvCxnSpPr>
          <p:nvPr/>
        </p:nvCxnSpPr>
        <p:spPr>
          <a:xfrm>
            <a:off x="6857640" y="5800680"/>
            <a:ext cx="1080" cy="286560"/>
          </a:xfrm>
          <a:prstGeom prst="straightConnector1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40" idx="3"/>
            <a:endCxn id="549" idx="6"/>
          </p:cNvCxnSpPr>
          <p:nvPr/>
        </p:nvCxnSpPr>
        <p:spPr>
          <a:xfrm rot="5400000">
            <a:off x="1990080" y="5025960"/>
            <a:ext cx="2061360" cy="68976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41" idx="3"/>
            <a:endCxn id="550" idx="2"/>
          </p:cNvCxnSpPr>
          <p:nvPr/>
        </p:nvCxnSpPr>
        <p:spPr>
          <a:xfrm flipH="1" rot="16200000">
            <a:off x="2856600" y="4848120"/>
            <a:ext cx="2061360" cy="104508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42" idx="3"/>
            <a:endCxn id="551" idx="2"/>
          </p:cNvCxnSpPr>
          <p:nvPr/>
        </p:nvCxnSpPr>
        <p:spPr>
          <a:xfrm flipH="1" rot="16200000">
            <a:off x="3924360" y="3781080"/>
            <a:ext cx="2061360" cy="3178800"/>
          </a:xfrm>
          <a:prstGeom prst="curvedConnector2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40" idx="4"/>
            <a:endCxn id="543" idx="0"/>
          </p:cNvCxnSpPr>
          <p:nvPr/>
        </p:nvCxnSpPr>
        <p:spPr>
          <a:xfrm flipH="1">
            <a:off x="2361960" y="4429080"/>
            <a:ext cx="1219680" cy="7437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41" idx="4"/>
            <a:endCxn id="544" idx="0"/>
          </p:cNvCxnSpPr>
          <p:nvPr/>
        </p:nvCxnSpPr>
        <p:spPr>
          <a:xfrm>
            <a:off x="3580920" y="4429080"/>
            <a:ext cx="1143720" cy="7437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42" idx="4"/>
            <a:endCxn id="545" idx="0"/>
          </p:cNvCxnSpPr>
          <p:nvPr/>
        </p:nvCxnSpPr>
        <p:spPr>
          <a:xfrm>
            <a:off x="3581280" y="4429080"/>
            <a:ext cx="3277440" cy="7437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37" idx="4"/>
            <a:endCxn id="543" idx="7"/>
          </p:cNvCxnSpPr>
          <p:nvPr/>
        </p:nvCxnSpPr>
        <p:spPr>
          <a:xfrm flipH="1" rot="16200000">
            <a:off x="1748160" y="4431960"/>
            <a:ext cx="832680" cy="826200"/>
          </a:xfrm>
          <a:prstGeom prst="curvedConnector5">
            <a:avLst>
              <a:gd name="adj1" fmla="val 44636"/>
              <a:gd name="adj2" fmla="val 50000"/>
              <a:gd name="adj3" fmla="val 446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38" idx="4"/>
            <a:endCxn id="544" idx="7"/>
          </p:cNvCxnSpPr>
          <p:nvPr/>
        </p:nvCxnSpPr>
        <p:spPr>
          <a:xfrm flipH="1" rot="16200000">
            <a:off x="2929320" y="3250800"/>
            <a:ext cx="832680" cy="3188520"/>
          </a:xfrm>
          <a:prstGeom prst="curvedConnector5">
            <a:avLst>
              <a:gd name="adj1" fmla="val 44636"/>
              <a:gd name="adj2" fmla="val 50000"/>
              <a:gd name="adj3" fmla="val 446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39" idx="4"/>
            <a:endCxn id="545" idx="7"/>
          </p:cNvCxnSpPr>
          <p:nvPr/>
        </p:nvCxnSpPr>
        <p:spPr>
          <a:xfrm flipH="1" rot="16200000">
            <a:off x="3997080" y="2183760"/>
            <a:ext cx="832680" cy="5322240"/>
          </a:xfrm>
          <a:prstGeom prst="curvedConnector5">
            <a:avLst>
              <a:gd name="adj1" fmla="val 44636"/>
              <a:gd name="adj2" fmla="val 49996"/>
              <a:gd name="adj3" fmla="val 44636"/>
            </a:avLst>
          </a:prstGeom>
          <a:ln w="1908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31" idx="5"/>
            <a:endCxn id="549" idx="7"/>
          </p:cNvCxnSpPr>
          <p:nvPr/>
        </p:nvCxnSpPr>
        <p:spPr>
          <a:xfrm rot="5400000">
            <a:off x="1126800" y="4647960"/>
            <a:ext cx="2979000" cy="7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32" idx="5"/>
            <a:endCxn id="550" idx="7"/>
          </p:cNvCxnSpPr>
          <p:nvPr/>
        </p:nvCxnSpPr>
        <p:spPr>
          <a:xfrm flipH="1">
            <a:off x="4940280" y="3196800"/>
            <a:ext cx="76680" cy="29790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33" idx="5"/>
            <a:endCxn id="551" idx="7"/>
          </p:cNvCxnSpPr>
          <p:nvPr/>
        </p:nvCxnSpPr>
        <p:spPr>
          <a:xfrm flipH="1">
            <a:off x="7073280" y="3196800"/>
            <a:ext cx="76680" cy="29790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26" idx="4"/>
            <a:endCxn id="531" idx="0"/>
          </p:cNvCxnSpPr>
          <p:nvPr/>
        </p:nvCxnSpPr>
        <p:spPr>
          <a:xfrm flipH="1">
            <a:off x="2437920" y="1761840"/>
            <a:ext cx="1067760" cy="89604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27" idx="4"/>
            <a:endCxn id="532" idx="0"/>
          </p:cNvCxnSpPr>
          <p:nvPr/>
        </p:nvCxnSpPr>
        <p:spPr>
          <a:xfrm>
            <a:off x="3505320" y="1761840"/>
            <a:ext cx="1296000" cy="89604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28" idx="4"/>
            <a:endCxn id="533" idx="0"/>
          </p:cNvCxnSpPr>
          <p:nvPr/>
        </p:nvCxnSpPr>
        <p:spPr>
          <a:xfrm>
            <a:off x="3504960" y="1761840"/>
            <a:ext cx="3429720" cy="89604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26" idx="3"/>
            <a:endCxn id="549" idx="6"/>
          </p:cNvCxnSpPr>
          <p:nvPr/>
        </p:nvCxnSpPr>
        <p:spPr>
          <a:xfrm rot="5400000">
            <a:off x="618480" y="3730680"/>
            <a:ext cx="4728240" cy="613440"/>
          </a:xfrm>
          <a:prstGeom prst="curvedConnector2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581" name=""/>
          <p:cNvCxnSpPr>
            <a:stCxn id="527" idx="3"/>
            <a:endCxn id="550" idx="2"/>
          </p:cNvCxnSpPr>
          <p:nvPr/>
        </p:nvCxnSpPr>
        <p:spPr>
          <a:xfrm flipH="1" rot="16200000">
            <a:off x="1485000" y="3476520"/>
            <a:ext cx="4728240" cy="1121400"/>
          </a:xfrm>
          <a:prstGeom prst="curvedConnector2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stCxn id="528" idx="3"/>
            <a:endCxn id="551" idx="2"/>
          </p:cNvCxnSpPr>
          <p:nvPr/>
        </p:nvCxnSpPr>
        <p:spPr>
          <a:xfrm flipH="1" rot="16200000">
            <a:off x="2552760" y="2409480"/>
            <a:ext cx="4728240" cy="3255120"/>
          </a:xfrm>
          <a:prstGeom prst="curvedConnector2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21" idx="4"/>
            <a:endCxn id="531" idx="1"/>
          </p:cNvCxnSpPr>
          <p:nvPr/>
        </p:nvCxnSpPr>
        <p:spPr>
          <a:xfrm flipH="1" rot="16200000">
            <a:off x="1495440" y="2018880"/>
            <a:ext cx="984960" cy="470880"/>
          </a:xfrm>
          <a:prstGeom prst="curvedConnector5">
            <a:avLst>
              <a:gd name="adj1" fmla="val 45484"/>
              <a:gd name="adj2" fmla="val 49961"/>
              <a:gd name="adj3" fmla="val 4548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23" idx="4"/>
            <a:endCxn id="532" idx="1"/>
          </p:cNvCxnSpPr>
          <p:nvPr/>
        </p:nvCxnSpPr>
        <p:spPr>
          <a:xfrm flipH="1" rot="16200000">
            <a:off x="2675520" y="838080"/>
            <a:ext cx="984960" cy="2832840"/>
          </a:xfrm>
          <a:prstGeom prst="curvedConnector5">
            <a:avLst>
              <a:gd name="adj1" fmla="val 76416"/>
              <a:gd name="adj2" fmla="val 50000"/>
              <a:gd name="adj3" fmla="val 7641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22" idx="5"/>
            <a:endCxn id="533" idx="1"/>
          </p:cNvCxnSpPr>
          <p:nvPr/>
        </p:nvCxnSpPr>
        <p:spPr>
          <a:xfrm flipH="1" rot="16200000">
            <a:off x="3807000" y="-165960"/>
            <a:ext cx="1073520" cy="4750560"/>
          </a:xfrm>
          <a:prstGeom prst="curvedConnector5">
            <a:avLst>
              <a:gd name="adj1" fmla="val 73834"/>
              <a:gd name="adj2" fmla="val 49996"/>
              <a:gd name="adj3" fmla="val 7383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17" idx="4"/>
            <a:endCxn id="522" idx="0"/>
          </p:cNvCxnSpPr>
          <p:nvPr/>
        </p:nvCxnSpPr>
        <p:spPr>
          <a:xfrm>
            <a:off x="1218960" y="771480"/>
            <a:ext cx="533880" cy="36252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18" idx="4"/>
            <a:endCxn id="523" idx="0"/>
          </p:cNvCxnSpPr>
          <p:nvPr/>
        </p:nvCxnSpPr>
        <p:spPr>
          <a:xfrm>
            <a:off x="1218960" y="771480"/>
            <a:ext cx="533880" cy="36252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18" idx="5"/>
            <a:endCxn id="558" idx="1"/>
          </p:cNvCxnSpPr>
          <p:nvPr/>
        </p:nvCxnSpPr>
        <p:spPr>
          <a:xfrm>
            <a:off x="1434960" y="682560"/>
            <a:ext cx="1766160" cy="766080"/>
          </a:xfrm>
          <a:prstGeom prst="straightConnector1">
            <a:avLst/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16" idx="3"/>
            <a:endCxn id="537" idx="0"/>
          </p:cNvCxnSpPr>
          <p:nvPr/>
        </p:nvCxnSpPr>
        <p:spPr>
          <a:xfrm flipH="1" rot="16200000">
            <a:off x="-182160" y="1866600"/>
            <a:ext cx="3118680" cy="749880"/>
          </a:xfrm>
          <a:prstGeom prst="curvedConnector5">
            <a:avLst>
              <a:gd name="adj1" fmla="val 51419"/>
              <a:gd name="adj2" fmla="val 50000"/>
              <a:gd name="adj3" fmla="val 51419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17" idx="3"/>
            <a:endCxn id="538" idx="0"/>
          </p:cNvCxnSpPr>
          <p:nvPr/>
        </p:nvCxnSpPr>
        <p:spPr>
          <a:xfrm flipH="1" rot="16200000">
            <a:off x="-182160" y="1866600"/>
            <a:ext cx="3118680" cy="749880"/>
          </a:xfrm>
          <a:prstGeom prst="curvedConnector5">
            <a:avLst>
              <a:gd name="adj1" fmla="val 51419"/>
              <a:gd name="adj2" fmla="val 50000"/>
              <a:gd name="adj3" fmla="val 51419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18" idx="3"/>
            <a:endCxn id="539" idx="0"/>
          </p:cNvCxnSpPr>
          <p:nvPr/>
        </p:nvCxnSpPr>
        <p:spPr>
          <a:xfrm flipH="1" rot="16200000">
            <a:off x="-182160" y="1866600"/>
            <a:ext cx="3118680" cy="749880"/>
          </a:xfrm>
          <a:prstGeom prst="curvedConnector5">
            <a:avLst>
              <a:gd name="adj1" fmla="val 51419"/>
              <a:gd name="adj2" fmla="val 50000"/>
              <a:gd name="adj3" fmla="val 51419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16" idx="2"/>
            <a:endCxn id="540" idx="0"/>
          </p:cNvCxnSpPr>
          <p:nvPr/>
        </p:nvCxnSpPr>
        <p:spPr>
          <a:xfrm flipH="1" flipV="1" rot="10800000">
            <a:off x="904680" y="456120"/>
            <a:ext cx="2676960" cy="3344040"/>
          </a:xfrm>
          <a:prstGeom prst="curvedConnector5">
            <a:avLst>
              <a:gd name="adj1" fmla="val -8177"/>
              <a:gd name="adj2" fmla="val 27347"/>
              <a:gd name="adj3" fmla="val -8177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93" name=""/>
          <p:cNvCxnSpPr>
            <a:stCxn id="517" idx="2"/>
            <a:endCxn id="541" idx="0"/>
          </p:cNvCxnSpPr>
          <p:nvPr/>
        </p:nvCxnSpPr>
        <p:spPr>
          <a:xfrm flipH="1" flipV="1" rot="10800000">
            <a:off x="904680" y="456120"/>
            <a:ext cx="2676960" cy="3344040"/>
          </a:xfrm>
          <a:prstGeom prst="curvedConnector5">
            <a:avLst>
              <a:gd name="adj1" fmla="val -8177"/>
              <a:gd name="adj2" fmla="val 27347"/>
              <a:gd name="adj3" fmla="val -8177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  <p:cxnSp>
        <p:nvCxnSpPr>
          <p:cNvPr id="594" name=""/>
          <p:cNvCxnSpPr>
            <a:stCxn id="518" idx="2"/>
            <a:endCxn id="542" idx="0"/>
          </p:cNvCxnSpPr>
          <p:nvPr/>
        </p:nvCxnSpPr>
        <p:spPr>
          <a:xfrm flipH="1" flipV="1" rot="10800000">
            <a:off x="904680" y="456120"/>
            <a:ext cx="2676960" cy="3344040"/>
          </a:xfrm>
          <a:prstGeom prst="curvedConnector5">
            <a:avLst>
              <a:gd name="adj1" fmla="val -8177"/>
              <a:gd name="adj2" fmla="val 27347"/>
              <a:gd name="adj3" fmla="val -8177"/>
            </a:avLst>
          </a:prstGeom>
          <a:ln w="19080">
            <a:solidFill>
              <a:srgbClr val="c1834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04920" y="3124080"/>
            <a:ext cx="838188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4200" y="308916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2     3     4     5     6     7     8     9    10   11   12   13   14   15 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4920" y="19051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18400" y="4986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 = {1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9000" y="5181480"/>
            <a:ext cx="39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_p = {0,1}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_p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_s = {0,1}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_s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_d = {1,2,3}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_d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4920" y="3733920"/>
            <a:ext cx="304560" cy="76176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3733920"/>
            <a:ext cx="304920" cy="761760"/>
          </a:xfrm>
          <a:prstGeom prst="upArrow">
            <a:avLst>
              <a:gd name="adj1" fmla="val 50000"/>
              <a:gd name="adj2" fmla="val 6245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3733920"/>
            <a:ext cx="304920" cy="761760"/>
          </a:xfrm>
          <a:prstGeom prst="upArrow">
            <a:avLst>
              <a:gd name="adj1" fmla="val 50000"/>
              <a:gd name="adj2" fmla="val 6245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05520" y="3733920"/>
            <a:ext cx="304560" cy="76176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638680" y="3733920"/>
            <a:ext cx="304920" cy="761760"/>
          </a:xfrm>
          <a:prstGeom prst="upArrow">
            <a:avLst>
              <a:gd name="adj1" fmla="val 50000"/>
              <a:gd name="adj2" fmla="val 6245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72200" y="3733920"/>
            <a:ext cx="304920" cy="761760"/>
          </a:xfrm>
          <a:prstGeom prst="upArrow">
            <a:avLst>
              <a:gd name="adj1" fmla="val 50000"/>
              <a:gd name="adj2" fmla="val 6245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90000" y="0"/>
            <a:ext cx="545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8345"/>
                </a:solidFill>
                <a:latin typeface="Times New Roman"/>
              </a:rPr>
              <a:t>p:&lt;L,H,O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8345"/>
                </a:solidFill>
                <a:latin typeface="Times New Roman"/>
              </a:rPr>
              <a:t>C = {C_1, C_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8345"/>
                </a:solidFill>
                <a:latin typeface="Times New Roman"/>
              </a:rPr>
              <a:t>C_1 = {p1:&lt;1,p,0&gt;,p2:&lt;9,s,0&gt;,p3:&lt;9,d,2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8345"/>
                </a:solidFill>
                <a:latin typeface="Times New Roman"/>
              </a:rPr>
              <a:t>C_2 = {p1:&lt;1,s,0&gt;,p2:&lt;9,p,0&gt;,p3:&lt;9,d,2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3733920"/>
            <a:ext cx="304920" cy="761760"/>
          </a:xfrm>
          <a:prstGeom prst="upArrow">
            <a:avLst>
              <a:gd name="adj1" fmla="val 50000"/>
              <a:gd name="adj2" fmla="val 6245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05120" y="3733920"/>
            <a:ext cx="304560" cy="76176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010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20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2296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763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8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62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95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053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43000" y="1752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752480" y="17524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6" name=""/>
          <p:cNvCxnSpPr>
            <a:stCxn id="622" idx="6"/>
            <a:endCxn id="623" idx="2"/>
          </p:cNvCxnSpPr>
          <p:nvPr/>
        </p:nvCxnSpPr>
        <p:spPr>
          <a:xfrm>
            <a:off x="3808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23" idx="6"/>
            <a:endCxn id="624" idx="2"/>
          </p:cNvCxnSpPr>
          <p:nvPr/>
        </p:nvCxnSpPr>
        <p:spPr>
          <a:xfrm>
            <a:off x="9140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24" idx="6"/>
            <a:endCxn id="625" idx="2"/>
          </p:cNvCxnSpPr>
          <p:nvPr/>
        </p:nvCxnSpPr>
        <p:spPr>
          <a:xfrm>
            <a:off x="15235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25" idx="6"/>
            <a:endCxn id="618" idx="2"/>
          </p:cNvCxnSpPr>
          <p:nvPr/>
        </p:nvCxnSpPr>
        <p:spPr>
          <a:xfrm>
            <a:off x="2133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18" idx="6"/>
            <a:endCxn id="619" idx="2"/>
          </p:cNvCxnSpPr>
          <p:nvPr/>
        </p:nvCxnSpPr>
        <p:spPr>
          <a:xfrm>
            <a:off x="27428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19" idx="6"/>
            <a:endCxn id="620" idx="2"/>
          </p:cNvCxnSpPr>
          <p:nvPr/>
        </p:nvCxnSpPr>
        <p:spPr>
          <a:xfrm>
            <a:off x="32763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20" idx="6"/>
            <a:endCxn id="621" idx="2"/>
          </p:cNvCxnSpPr>
          <p:nvPr/>
        </p:nvCxnSpPr>
        <p:spPr>
          <a:xfrm>
            <a:off x="3885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1" idx="6"/>
            <a:endCxn id="614" idx="2"/>
          </p:cNvCxnSpPr>
          <p:nvPr/>
        </p:nvCxnSpPr>
        <p:spPr>
          <a:xfrm>
            <a:off x="44956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14" idx="6"/>
            <a:endCxn id="615" idx="2"/>
          </p:cNvCxnSpPr>
          <p:nvPr/>
        </p:nvCxnSpPr>
        <p:spPr>
          <a:xfrm>
            <a:off x="50288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15" idx="6"/>
            <a:endCxn id="616" idx="2"/>
          </p:cNvCxnSpPr>
          <p:nvPr/>
        </p:nvCxnSpPr>
        <p:spPr>
          <a:xfrm>
            <a:off x="563832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16" idx="6"/>
            <a:endCxn id="617" idx="2"/>
          </p:cNvCxnSpPr>
          <p:nvPr/>
        </p:nvCxnSpPr>
        <p:spPr>
          <a:xfrm>
            <a:off x="6248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17" idx="6"/>
            <a:endCxn id="610" idx="2"/>
          </p:cNvCxnSpPr>
          <p:nvPr/>
        </p:nvCxnSpPr>
        <p:spPr>
          <a:xfrm>
            <a:off x="6857640" y="19429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10" idx="6"/>
            <a:endCxn id="611" idx="2"/>
          </p:cNvCxnSpPr>
          <p:nvPr/>
        </p:nvCxnSpPr>
        <p:spPr>
          <a:xfrm>
            <a:off x="739116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11" idx="6"/>
            <a:endCxn id="612" idx="2"/>
          </p:cNvCxnSpPr>
          <p:nvPr/>
        </p:nvCxnSpPr>
        <p:spPr>
          <a:xfrm>
            <a:off x="8000640" y="19429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12" idx="6"/>
            <a:endCxn id="613" idx="2"/>
          </p:cNvCxnSpPr>
          <p:nvPr/>
        </p:nvCxnSpPr>
        <p:spPr>
          <a:xfrm>
            <a:off x="8610480" y="19429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10713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15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80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90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2384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33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316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6320" y="1752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9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897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09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4260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161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5208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674560" y="1752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010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20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296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763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57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771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62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43000" y="3429000"/>
            <a:ext cx="38088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3429000"/>
            <a:ext cx="381240" cy="3808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stCxn id="668" idx="6"/>
            <a:endCxn id="669" idx="2"/>
          </p:cNvCxnSpPr>
          <p:nvPr/>
        </p:nvCxnSpPr>
        <p:spPr>
          <a:xfrm>
            <a:off x="3808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73" name=""/>
          <p:cNvCxnSpPr>
            <a:stCxn id="669" idx="6"/>
            <a:endCxn id="670" idx="2"/>
          </p:cNvCxnSpPr>
          <p:nvPr/>
        </p:nvCxnSpPr>
        <p:spPr>
          <a:xfrm>
            <a:off x="9140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70" idx="6"/>
            <a:endCxn id="671" idx="2"/>
          </p:cNvCxnSpPr>
          <p:nvPr/>
        </p:nvCxnSpPr>
        <p:spPr>
          <a:xfrm>
            <a:off x="15235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71" idx="6"/>
            <a:endCxn id="664" idx="2"/>
          </p:cNvCxnSpPr>
          <p:nvPr/>
        </p:nvCxnSpPr>
        <p:spPr>
          <a:xfrm>
            <a:off x="2133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64" idx="6"/>
            <a:endCxn id="665" idx="2"/>
          </p:cNvCxnSpPr>
          <p:nvPr/>
        </p:nvCxnSpPr>
        <p:spPr>
          <a:xfrm>
            <a:off x="27428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77" name=""/>
          <p:cNvCxnSpPr>
            <a:stCxn id="665" idx="6"/>
            <a:endCxn id="666" idx="2"/>
          </p:cNvCxnSpPr>
          <p:nvPr/>
        </p:nvCxnSpPr>
        <p:spPr>
          <a:xfrm>
            <a:off x="32763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78" name=""/>
          <p:cNvCxnSpPr>
            <a:stCxn id="666" idx="6"/>
            <a:endCxn id="667" idx="2"/>
          </p:cNvCxnSpPr>
          <p:nvPr/>
        </p:nvCxnSpPr>
        <p:spPr>
          <a:xfrm>
            <a:off x="3885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67" idx="6"/>
            <a:endCxn id="660" idx="2"/>
          </p:cNvCxnSpPr>
          <p:nvPr/>
        </p:nvCxnSpPr>
        <p:spPr>
          <a:xfrm>
            <a:off x="44956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60" idx="6"/>
            <a:endCxn id="661" idx="2"/>
          </p:cNvCxnSpPr>
          <p:nvPr/>
        </p:nvCxnSpPr>
        <p:spPr>
          <a:xfrm>
            <a:off x="50288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61" idx="6"/>
            <a:endCxn id="662" idx="2"/>
          </p:cNvCxnSpPr>
          <p:nvPr/>
        </p:nvCxnSpPr>
        <p:spPr>
          <a:xfrm>
            <a:off x="563832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62" idx="6"/>
            <a:endCxn id="663" idx="2"/>
          </p:cNvCxnSpPr>
          <p:nvPr/>
        </p:nvCxnSpPr>
        <p:spPr>
          <a:xfrm>
            <a:off x="6248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63" idx="6"/>
            <a:endCxn id="656" idx="2"/>
          </p:cNvCxnSpPr>
          <p:nvPr/>
        </p:nvCxnSpPr>
        <p:spPr>
          <a:xfrm>
            <a:off x="6857640" y="3619080"/>
            <a:ext cx="15300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56" idx="6"/>
            <a:endCxn id="657" idx="2"/>
          </p:cNvCxnSpPr>
          <p:nvPr/>
        </p:nvCxnSpPr>
        <p:spPr>
          <a:xfrm>
            <a:off x="739116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57" idx="6"/>
            <a:endCxn id="658" idx="2"/>
          </p:cNvCxnSpPr>
          <p:nvPr/>
        </p:nvCxnSpPr>
        <p:spPr>
          <a:xfrm>
            <a:off x="8000640" y="3619080"/>
            <a:ext cx="22932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58" idx="6"/>
            <a:endCxn id="659" idx="2"/>
          </p:cNvCxnSpPr>
          <p:nvPr/>
        </p:nvCxnSpPr>
        <p:spPr>
          <a:xfrm>
            <a:off x="8610480" y="3619080"/>
            <a:ext cx="153360" cy="108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sp>
        <p:nvSpPr>
          <p:cNvPr id="687" name=""/>
          <p:cNvSpPr/>
          <p:nvPr/>
        </p:nvSpPr>
        <p:spPr>
          <a:xfrm>
            <a:off x="10713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15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680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90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384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33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4316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6320" y="34290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99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97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09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94260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161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5208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674560" y="34290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0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2296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763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48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57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672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771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352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143000" y="50292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752480" y="50292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4" idx="6"/>
            <a:endCxn id="715" idx="2"/>
          </p:cNvCxnSpPr>
          <p:nvPr/>
        </p:nvCxnSpPr>
        <p:spPr>
          <a:xfrm>
            <a:off x="3808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715" idx="6"/>
            <a:endCxn id="716" idx="2"/>
          </p:cNvCxnSpPr>
          <p:nvPr/>
        </p:nvCxnSpPr>
        <p:spPr>
          <a:xfrm>
            <a:off x="9140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16" idx="6"/>
            <a:endCxn id="717" idx="2"/>
          </p:cNvCxnSpPr>
          <p:nvPr/>
        </p:nvCxnSpPr>
        <p:spPr>
          <a:xfrm>
            <a:off x="15235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717" idx="6"/>
            <a:endCxn id="710" idx="2"/>
          </p:cNvCxnSpPr>
          <p:nvPr/>
        </p:nvCxnSpPr>
        <p:spPr>
          <a:xfrm>
            <a:off x="2133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0" idx="6"/>
            <a:endCxn id="711" idx="2"/>
          </p:cNvCxnSpPr>
          <p:nvPr/>
        </p:nvCxnSpPr>
        <p:spPr>
          <a:xfrm>
            <a:off x="27428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11" idx="6"/>
            <a:endCxn id="712" idx="2"/>
          </p:cNvCxnSpPr>
          <p:nvPr/>
        </p:nvCxnSpPr>
        <p:spPr>
          <a:xfrm>
            <a:off x="32763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12" idx="6"/>
            <a:endCxn id="713" idx="2"/>
          </p:cNvCxnSpPr>
          <p:nvPr/>
        </p:nvCxnSpPr>
        <p:spPr>
          <a:xfrm>
            <a:off x="3885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713" idx="6"/>
            <a:endCxn id="706" idx="2"/>
          </p:cNvCxnSpPr>
          <p:nvPr/>
        </p:nvCxnSpPr>
        <p:spPr>
          <a:xfrm>
            <a:off x="44956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06" idx="6"/>
            <a:endCxn id="707" idx="2"/>
          </p:cNvCxnSpPr>
          <p:nvPr/>
        </p:nvCxnSpPr>
        <p:spPr>
          <a:xfrm>
            <a:off x="50288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707" idx="6"/>
            <a:endCxn id="708" idx="2"/>
          </p:cNvCxnSpPr>
          <p:nvPr/>
        </p:nvCxnSpPr>
        <p:spPr>
          <a:xfrm>
            <a:off x="563832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708" idx="6"/>
            <a:endCxn id="709" idx="2"/>
          </p:cNvCxnSpPr>
          <p:nvPr/>
        </p:nvCxnSpPr>
        <p:spPr>
          <a:xfrm>
            <a:off x="6248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09" idx="6"/>
            <a:endCxn id="702" idx="2"/>
          </p:cNvCxnSpPr>
          <p:nvPr/>
        </p:nvCxnSpPr>
        <p:spPr>
          <a:xfrm>
            <a:off x="6857640" y="52192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702" idx="6"/>
            <a:endCxn id="703" idx="2"/>
          </p:cNvCxnSpPr>
          <p:nvPr/>
        </p:nvCxnSpPr>
        <p:spPr>
          <a:xfrm>
            <a:off x="739116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703" idx="6"/>
            <a:endCxn id="704" idx="2"/>
          </p:cNvCxnSpPr>
          <p:nvPr/>
        </p:nvCxnSpPr>
        <p:spPr>
          <a:xfrm>
            <a:off x="8000640" y="52192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04" idx="6"/>
            <a:endCxn id="705" idx="2"/>
          </p:cNvCxnSpPr>
          <p:nvPr/>
        </p:nvCxnSpPr>
        <p:spPr>
          <a:xfrm>
            <a:off x="8610480" y="52192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733" name=""/>
          <p:cNvSpPr/>
          <p:nvPr/>
        </p:nvSpPr>
        <p:spPr>
          <a:xfrm>
            <a:off x="7010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20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2296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763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257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672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4771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62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95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053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352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6477120"/>
            <a:ext cx="38088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52480" y="6477120"/>
            <a:ext cx="381240" cy="3808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5" idx="6"/>
            <a:endCxn id="746" idx="2"/>
          </p:cNvCxnSpPr>
          <p:nvPr/>
        </p:nvCxnSpPr>
        <p:spPr>
          <a:xfrm>
            <a:off x="3808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0" name=""/>
          <p:cNvCxnSpPr>
            <a:stCxn id="746" idx="6"/>
            <a:endCxn id="747" idx="2"/>
          </p:cNvCxnSpPr>
          <p:nvPr/>
        </p:nvCxnSpPr>
        <p:spPr>
          <a:xfrm>
            <a:off x="9140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1" name=""/>
          <p:cNvCxnSpPr>
            <a:stCxn id="747" idx="6"/>
            <a:endCxn id="748" idx="2"/>
          </p:cNvCxnSpPr>
          <p:nvPr/>
        </p:nvCxnSpPr>
        <p:spPr>
          <a:xfrm>
            <a:off x="15235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2" name=""/>
          <p:cNvCxnSpPr>
            <a:stCxn id="748" idx="6"/>
            <a:endCxn id="741" idx="2"/>
          </p:cNvCxnSpPr>
          <p:nvPr/>
        </p:nvCxnSpPr>
        <p:spPr>
          <a:xfrm>
            <a:off x="2133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3" name=""/>
          <p:cNvCxnSpPr>
            <a:stCxn id="741" idx="6"/>
            <a:endCxn id="742" idx="2"/>
          </p:cNvCxnSpPr>
          <p:nvPr/>
        </p:nvCxnSpPr>
        <p:spPr>
          <a:xfrm>
            <a:off x="27428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4" name=""/>
          <p:cNvCxnSpPr>
            <a:stCxn id="742" idx="6"/>
            <a:endCxn id="743" idx="2"/>
          </p:cNvCxnSpPr>
          <p:nvPr/>
        </p:nvCxnSpPr>
        <p:spPr>
          <a:xfrm>
            <a:off x="32763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5" name=""/>
          <p:cNvCxnSpPr>
            <a:stCxn id="743" idx="6"/>
            <a:endCxn id="744" idx="2"/>
          </p:cNvCxnSpPr>
          <p:nvPr/>
        </p:nvCxnSpPr>
        <p:spPr>
          <a:xfrm>
            <a:off x="3885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6" name=""/>
          <p:cNvCxnSpPr>
            <a:stCxn id="744" idx="6"/>
            <a:endCxn id="737" idx="2"/>
          </p:cNvCxnSpPr>
          <p:nvPr/>
        </p:nvCxnSpPr>
        <p:spPr>
          <a:xfrm>
            <a:off x="44956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7" name=""/>
          <p:cNvCxnSpPr>
            <a:stCxn id="737" idx="6"/>
            <a:endCxn id="738" idx="2"/>
          </p:cNvCxnSpPr>
          <p:nvPr/>
        </p:nvCxnSpPr>
        <p:spPr>
          <a:xfrm>
            <a:off x="50288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8" name=""/>
          <p:cNvCxnSpPr>
            <a:stCxn id="738" idx="6"/>
            <a:endCxn id="739" idx="2"/>
          </p:cNvCxnSpPr>
          <p:nvPr/>
        </p:nvCxnSpPr>
        <p:spPr>
          <a:xfrm>
            <a:off x="563832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59" name=""/>
          <p:cNvCxnSpPr>
            <a:stCxn id="739" idx="6"/>
            <a:endCxn id="740" idx="2"/>
          </p:cNvCxnSpPr>
          <p:nvPr/>
        </p:nvCxnSpPr>
        <p:spPr>
          <a:xfrm>
            <a:off x="6248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60" name=""/>
          <p:cNvCxnSpPr>
            <a:stCxn id="740" idx="6"/>
            <a:endCxn id="733" idx="2"/>
          </p:cNvCxnSpPr>
          <p:nvPr/>
        </p:nvCxnSpPr>
        <p:spPr>
          <a:xfrm>
            <a:off x="6857640" y="666720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61" name=""/>
          <p:cNvCxnSpPr>
            <a:stCxn id="733" idx="6"/>
            <a:endCxn id="734" idx="2"/>
          </p:cNvCxnSpPr>
          <p:nvPr/>
        </p:nvCxnSpPr>
        <p:spPr>
          <a:xfrm>
            <a:off x="739116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62" name=""/>
          <p:cNvCxnSpPr>
            <a:stCxn id="734" idx="6"/>
            <a:endCxn id="735" idx="2"/>
          </p:cNvCxnSpPr>
          <p:nvPr/>
        </p:nvCxnSpPr>
        <p:spPr>
          <a:xfrm>
            <a:off x="8000640" y="666720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63" name=""/>
          <p:cNvCxnSpPr>
            <a:stCxn id="735" idx="6"/>
            <a:endCxn id="736" idx="2"/>
          </p:cNvCxnSpPr>
          <p:nvPr/>
        </p:nvCxnSpPr>
        <p:spPr>
          <a:xfrm>
            <a:off x="8610480" y="666720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764" name=""/>
          <p:cNvSpPr/>
          <p:nvPr/>
        </p:nvSpPr>
        <p:spPr>
          <a:xfrm>
            <a:off x="10713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15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80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90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2384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33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04316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6320" y="50292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99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897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09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94260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16156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52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695080" y="502920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191120" y="0"/>
            <a:ext cx="38088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192920" y="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45720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0080" y="457200"/>
            <a:ext cx="38124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35200" y="457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201480" y="457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00400" y="2362320"/>
            <a:ext cx="380880" cy="3808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62720" y="2362320"/>
            <a:ext cx="380880" cy="3808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48748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5520" y="2362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33920" y="3962520"/>
            <a:ext cx="380880" cy="3808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878000" y="3962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658680" y="3962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3" name=""/>
          <p:cNvCxnSpPr>
            <a:stCxn id="780" idx="1"/>
            <a:endCxn id="784" idx="0"/>
          </p:cNvCxnSpPr>
          <p:nvPr/>
        </p:nvCxnSpPr>
        <p:spPr>
          <a:xfrm flipH="1">
            <a:off x="3433320" y="198000"/>
            <a:ext cx="758160" cy="2595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80" idx="3"/>
            <a:endCxn id="783" idx="0"/>
          </p:cNvCxnSpPr>
          <p:nvPr/>
        </p:nvCxnSpPr>
        <p:spPr>
          <a:xfrm>
            <a:off x="4545000" y="198000"/>
            <a:ext cx="1037520" cy="2595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0" idx="2"/>
            <a:endCxn id="788" idx="0"/>
          </p:cNvCxnSpPr>
          <p:nvPr/>
        </p:nvCxnSpPr>
        <p:spPr>
          <a:xfrm flipH="1">
            <a:off x="3357000" y="396720"/>
            <a:ext cx="1011960" cy="19663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0" idx="2"/>
            <a:endCxn id="787" idx="0"/>
          </p:cNvCxnSpPr>
          <p:nvPr/>
        </p:nvCxnSpPr>
        <p:spPr>
          <a:xfrm>
            <a:off x="4368960" y="396720"/>
            <a:ext cx="1365840" cy="19663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0" idx="2"/>
            <a:endCxn id="792" idx="0"/>
          </p:cNvCxnSpPr>
          <p:nvPr/>
        </p:nvCxnSpPr>
        <p:spPr>
          <a:xfrm flipH="1">
            <a:off x="3890520" y="396360"/>
            <a:ext cx="478800" cy="35665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798" name=""/>
          <p:cNvCxnSpPr>
            <a:stCxn id="780" idx="2"/>
            <a:endCxn id="791" idx="0"/>
          </p:cNvCxnSpPr>
          <p:nvPr/>
        </p:nvCxnSpPr>
        <p:spPr>
          <a:xfrm>
            <a:off x="4368600" y="396360"/>
            <a:ext cx="756360" cy="356652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799" name=""/>
          <p:cNvCxnSpPr>
            <a:stCxn id="622" idx="4"/>
          </p:cNvCxnSpPr>
          <p:nvPr/>
        </p:nvCxnSpPr>
        <p:spPr>
          <a:xfrm>
            <a:off x="190440" y="2133360"/>
            <a:ext cx="388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0" name=""/>
          <p:cNvCxnSpPr>
            <a:stCxn id="642" idx="2"/>
            <a:endCxn id="746" idx="0"/>
          </p:cNvCxnSpPr>
          <p:nvPr/>
        </p:nvCxnSpPr>
        <p:spPr>
          <a:xfrm>
            <a:off x="6966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1" name=""/>
          <p:cNvCxnSpPr>
            <a:stCxn id="624" idx="4"/>
            <a:endCxn id="747" idx="0"/>
          </p:cNvCxnSpPr>
          <p:nvPr/>
        </p:nvCxnSpPr>
        <p:spPr>
          <a:xfrm>
            <a:off x="133308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2" name=""/>
          <p:cNvCxnSpPr>
            <a:stCxn id="643" idx="2"/>
            <a:endCxn id="748" idx="0"/>
          </p:cNvCxnSpPr>
          <p:nvPr/>
        </p:nvCxnSpPr>
        <p:spPr>
          <a:xfrm>
            <a:off x="1915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3" name=""/>
          <p:cNvCxnSpPr>
            <a:stCxn id="644" idx="2"/>
            <a:endCxn id="741" idx="0"/>
          </p:cNvCxnSpPr>
          <p:nvPr/>
        </p:nvCxnSpPr>
        <p:spPr>
          <a:xfrm>
            <a:off x="2525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4" name=""/>
          <p:cNvCxnSpPr>
            <a:stCxn id="645" idx="2"/>
            <a:endCxn id="742" idx="0"/>
          </p:cNvCxnSpPr>
          <p:nvPr/>
        </p:nvCxnSpPr>
        <p:spPr>
          <a:xfrm>
            <a:off x="305892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5" name=""/>
          <p:cNvCxnSpPr>
            <a:stCxn id="646" idx="2"/>
            <a:endCxn id="743" idx="0"/>
          </p:cNvCxnSpPr>
          <p:nvPr/>
        </p:nvCxnSpPr>
        <p:spPr>
          <a:xfrm>
            <a:off x="3668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647" idx="2"/>
            <a:endCxn id="744" idx="0"/>
          </p:cNvCxnSpPr>
          <p:nvPr/>
        </p:nvCxnSpPr>
        <p:spPr>
          <a:xfrm>
            <a:off x="427788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648" idx="2"/>
            <a:endCxn id="737" idx="0"/>
          </p:cNvCxnSpPr>
          <p:nvPr/>
        </p:nvCxnSpPr>
        <p:spPr>
          <a:xfrm>
            <a:off x="4811400" y="2149200"/>
            <a:ext cx="277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650" idx="2"/>
            <a:endCxn id="738" idx="0"/>
          </p:cNvCxnSpPr>
          <p:nvPr/>
        </p:nvCxnSpPr>
        <p:spPr>
          <a:xfrm flipH="1">
            <a:off x="54478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616" idx="4"/>
            <a:endCxn id="739" idx="0"/>
          </p:cNvCxnSpPr>
          <p:nvPr/>
        </p:nvCxnSpPr>
        <p:spPr>
          <a:xfrm>
            <a:off x="6057720" y="2133360"/>
            <a:ext cx="1080" cy="4343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0" name=""/>
          <p:cNvCxnSpPr>
            <a:stCxn id="651" idx="2"/>
            <a:endCxn id="740" idx="0"/>
          </p:cNvCxnSpPr>
          <p:nvPr/>
        </p:nvCxnSpPr>
        <p:spPr>
          <a:xfrm flipH="1">
            <a:off x="6667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1" name=""/>
          <p:cNvCxnSpPr>
            <a:stCxn id="652" idx="2"/>
            <a:endCxn id="733" idx="0"/>
          </p:cNvCxnSpPr>
          <p:nvPr/>
        </p:nvCxnSpPr>
        <p:spPr>
          <a:xfrm flipH="1">
            <a:off x="7200360" y="2149200"/>
            <a:ext cx="1476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2" name=""/>
          <p:cNvCxnSpPr>
            <a:stCxn id="654" idx="2"/>
            <a:endCxn id="734" idx="0"/>
          </p:cNvCxnSpPr>
          <p:nvPr/>
        </p:nvCxnSpPr>
        <p:spPr>
          <a:xfrm flipH="1">
            <a:off x="781020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653" idx="2"/>
            <a:endCxn id="735" idx="0"/>
          </p:cNvCxnSpPr>
          <p:nvPr/>
        </p:nvCxnSpPr>
        <p:spPr>
          <a:xfrm flipH="1">
            <a:off x="8419680" y="2149200"/>
            <a:ext cx="1512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stCxn id="655" idx="2"/>
            <a:endCxn id="736" idx="0"/>
          </p:cNvCxnSpPr>
          <p:nvPr/>
        </p:nvCxnSpPr>
        <p:spPr>
          <a:xfrm>
            <a:off x="8947080" y="2149200"/>
            <a:ext cx="7200" cy="43282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5" name=""/>
          <p:cNvCxnSpPr>
            <a:stCxn id="668" idx="4"/>
            <a:endCxn id="745" idx="1"/>
          </p:cNvCxnSpPr>
          <p:nvPr/>
        </p:nvCxnSpPr>
        <p:spPr>
          <a:xfrm flipH="1">
            <a:off x="547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16" name=""/>
          <p:cNvCxnSpPr>
            <a:stCxn id="688" idx="2"/>
          </p:cNvCxnSpPr>
          <p:nvPr/>
        </p:nvCxnSpPr>
        <p:spPr>
          <a:xfrm flipH="1">
            <a:off x="610920" y="3825720"/>
            <a:ext cx="86400" cy="268704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17" name=""/>
          <p:cNvCxnSpPr>
            <a:stCxn id="687" idx="2"/>
            <a:endCxn id="747" idx="1"/>
          </p:cNvCxnSpPr>
          <p:nvPr/>
        </p:nvCxnSpPr>
        <p:spPr>
          <a:xfrm flipH="1">
            <a:off x="119808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18" name=""/>
          <p:cNvCxnSpPr>
            <a:stCxn id="689" idx="2"/>
            <a:endCxn id="748" idx="1"/>
          </p:cNvCxnSpPr>
          <p:nvPr/>
        </p:nvCxnSpPr>
        <p:spPr>
          <a:xfrm flipH="1">
            <a:off x="1807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19" name=""/>
          <p:cNvCxnSpPr>
            <a:stCxn id="690" idx="2"/>
            <a:endCxn id="741" idx="1"/>
          </p:cNvCxnSpPr>
          <p:nvPr/>
        </p:nvCxnSpPr>
        <p:spPr>
          <a:xfrm flipH="1">
            <a:off x="2417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0" name=""/>
          <p:cNvCxnSpPr>
            <a:stCxn id="691" idx="2"/>
            <a:endCxn id="742" idx="1"/>
          </p:cNvCxnSpPr>
          <p:nvPr/>
        </p:nvCxnSpPr>
        <p:spPr>
          <a:xfrm flipH="1">
            <a:off x="295092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692" idx="2"/>
            <a:endCxn id="743" idx="1"/>
          </p:cNvCxnSpPr>
          <p:nvPr/>
        </p:nvCxnSpPr>
        <p:spPr>
          <a:xfrm flipH="1">
            <a:off x="3560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667" idx="4"/>
            <a:endCxn id="744" idx="1"/>
          </p:cNvCxnSpPr>
          <p:nvPr/>
        </p:nvCxnSpPr>
        <p:spPr>
          <a:xfrm flipH="1">
            <a:off x="416952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694" idx="2"/>
            <a:endCxn id="737" idx="1"/>
          </p:cNvCxnSpPr>
          <p:nvPr/>
        </p:nvCxnSpPr>
        <p:spPr>
          <a:xfrm flipH="1">
            <a:off x="4703400" y="3825360"/>
            <a:ext cx="1087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696" idx="2"/>
            <a:endCxn id="738" idx="1"/>
          </p:cNvCxnSpPr>
          <p:nvPr/>
        </p:nvCxnSpPr>
        <p:spPr>
          <a:xfrm flipH="1">
            <a:off x="53125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695" idx="2"/>
            <a:endCxn id="739" idx="1"/>
          </p:cNvCxnSpPr>
          <p:nvPr/>
        </p:nvCxnSpPr>
        <p:spPr>
          <a:xfrm flipH="1">
            <a:off x="5922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697" idx="2"/>
            <a:endCxn id="740" idx="1"/>
          </p:cNvCxnSpPr>
          <p:nvPr/>
        </p:nvCxnSpPr>
        <p:spPr>
          <a:xfrm flipH="1">
            <a:off x="653184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698" idx="2"/>
            <a:endCxn id="733" idx="1"/>
          </p:cNvCxnSpPr>
          <p:nvPr/>
        </p:nvCxnSpPr>
        <p:spPr>
          <a:xfrm flipH="1">
            <a:off x="7065720" y="3825360"/>
            <a:ext cx="14976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657" idx="4"/>
            <a:endCxn id="734" idx="1"/>
          </p:cNvCxnSpPr>
          <p:nvPr/>
        </p:nvCxnSpPr>
        <p:spPr>
          <a:xfrm flipH="1">
            <a:off x="7674840" y="3809520"/>
            <a:ext cx="135720" cy="272340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29" name=""/>
          <p:cNvCxnSpPr>
            <a:stCxn id="699" idx="2"/>
            <a:endCxn id="735" idx="1"/>
          </p:cNvCxnSpPr>
          <p:nvPr/>
        </p:nvCxnSpPr>
        <p:spPr>
          <a:xfrm flipH="1">
            <a:off x="8284320" y="3825360"/>
            <a:ext cx="15012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30" name=""/>
          <p:cNvCxnSpPr>
            <a:stCxn id="701" idx="2"/>
            <a:endCxn id="736" idx="1"/>
          </p:cNvCxnSpPr>
          <p:nvPr/>
        </p:nvCxnSpPr>
        <p:spPr>
          <a:xfrm flipH="1">
            <a:off x="8817840" y="3825360"/>
            <a:ext cx="129240" cy="2707560"/>
          </a:xfrm>
          <a:prstGeom prst="straightConnector1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831" name=""/>
          <p:cNvCxnSpPr>
            <a:stCxn id="714" idx="4"/>
            <a:endCxn id="745" idx="7"/>
          </p:cNvCxnSpPr>
          <p:nvPr/>
        </p:nvCxnSpPr>
        <p:spPr>
          <a:xfrm>
            <a:off x="1900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32" name=""/>
          <p:cNvCxnSpPr>
            <a:stCxn id="715" idx="4"/>
            <a:endCxn id="746" idx="7"/>
          </p:cNvCxnSpPr>
          <p:nvPr/>
        </p:nvCxnSpPr>
        <p:spPr>
          <a:xfrm>
            <a:off x="7236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33" name=""/>
          <p:cNvCxnSpPr>
            <a:stCxn id="764" idx="2"/>
            <a:endCxn id="747" idx="7"/>
          </p:cNvCxnSpPr>
          <p:nvPr/>
        </p:nvCxnSpPr>
        <p:spPr>
          <a:xfrm>
            <a:off x="130644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66" idx="2"/>
            <a:endCxn id="748" idx="7"/>
          </p:cNvCxnSpPr>
          <p:nvPr/>
        </p:nvCxnSpPr>
        <p:spPr>
          <a:xfrm>
            <a:off x="1915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67" idx="2"/>
            <a:endCxn id="741" idx="7"/>
          </p:cNvCxnSpPr>
          <p:nvPr/>
        </p:nvCxnSpPr>
        <p:spPr>
          <a:xfrm>
            <a:off x="2525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68" idx="2"/>
            <a:endCxn id="742" idx="7"/>
          </p:cNvCxnSpPr>
          <p:nvPr/>
        </p:nvCxnSpPr>
        <p:spPr>
          <a:xfrm>
            <a:off x="3058920" y="5425920"/>
            <a:ext cx="16236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69" idx="2"/>
            <a:endCxn id="743" idx="7"/>
          </p:cNvCxnSpPr>
          <p:nvPr/>
        </p:nvCxnSpPr>
        <p:spPr>
          <a:xfrm>
            <a:off x="3668760" y="5425920"/>
            <a:ext cx="1627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13" idx="4"/>
            <a:endCxn id="744" idx="7"/>
          </p:cNvCxnSpPr>
          <p:nvPr/>
        </p:nvCxnSpPr>
        <p:spPr>
          <a:xfrm>
            <a:off x="4304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06" idx="4"/>
            <a:endCxn id="737" idx="7"/>
          </p:cNvCxnSpPr>
          <p:nvPr/>
        </p:nvCxnSpPr>
        <p:spPr>
          <a:xfrm>
            <a:off x="483840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707" idx="4"/>
            <a:endCxn id="738" idx="7"/>
          </p:cNvCxnSpPr>
          <p:nvPr/>
        </p:nvCxnSpPr>
        <p:spPr>
          <a:xfrm>
            <a:off x="5447880" y="5410080"/>
            <a:ext cx="135720" cy="112284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772" idx="2"/>
            <a:endCxn id="739" idx="7"/>
          </p:cNvCxnSpPr>
          <p:nvPr/>
        </p:nvCxnSpPr>
        <p:spPr>
          <a:xfrm>
            <a:off x="6071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74" idx="2"/>
            <a:endCxn id="740" idx="7"/>
          </p:cNvCxnSpPr>
          <p:nvPr/>
        </p:nvCxnSpPr>
        <p:spPr>
          <a:xfrm>
            <a:off x="6681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75" idx="2"/>
            <a:endCxn id="733" idx="7"/>
          </p:cNvCxnSpPr>
          <p:nvPr/>
        </p:nvCxnSpPr>
        <p:spPr>
          <a:xfrm>
            <a:off x="721476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777" idx="2"/>
            <a:endCxn id="734" idx="7"/>
          </p:cNvCxnSpPr>
          <p:nvPr/>
        </p:nvCxnSpPr>
        <p:spPr>
          <a:xfrm>
            <a:off x="7824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776" idx="2"/>
            <a:endCxn id="735" idx="7"/>
          </p:cNvCxnSpPr>
          <p:nvPr/>
        </p:nvCxnSpPr>
        <p:spPr>
          <a:xfrm>
            <a:off x="843408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778" idx="2"/>
            <a:endCxn id="736" idx="7"/>
          </p:cNvCxnSpPr>
          <p:nvPr/>
        </p:nvCxnSpPr>
        <p:spPr>
          <a:xfrm>
            <a:off x="8967600" y="5425920"/>
            <a:ext cx="121320" cy="110736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783" idx="2"/>
            <a:endCxn id="622" idx="0"/>
          </p:cNvCxnSpPr>
          <p:nvPr/>
        </p:nvCxnSpPr>
        <p:spPr>
          <a:xfrm flipH="1">
            <a:off x="190080" y="853920"/>
            <a:ext cx="5392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783" idx="2"/>
            <a:endCxn id="642" idx="0"/>
          </p:cNvCxnSpPr>
          <p:nvPr/>
        </p:nvCxnSpPr>
        <p:spPr>
          <a:xfrm flipH="1">
            <a:off x="696240" y="853920"/>
            <a:ext cx="48855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783" idx="2"/>
            <a:endCxn id="641" idx="0"/>
          </p:cNvCxnSpPr>
          <p:nvPr/>
        </p:nvCxnSpPr>
        <p:spPr>
          <a:xfrm flipH="1">
            <a:off x="1306080" y="853920"/>
            <a:ext cx="4276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783" idx="2"/>
            <a:endCxn id="643" idx="0"/>
          </p:cNvCxnSpPr>
          <p:nvPr/>
        </p:nvCxnSpPr>
        <p:spPr>
          <a:xfrm flipH="1">
            <a:off x="1915920" y="853920"/>
            <a:ext cx="3666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783" idx="2"/>
            <a:endCxn id="644" idx="0"/>
          </p:cNvCxnSpPr>
          <p:nvPr/>
        </p:nvCxnSpPr>
        <p:spPr>
          <a:xfrm flipH="1">
            <a:off x="2525040" y="853920"/>
            <a:ext cx="305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783" idx="2"/>
            <a:endCxn id="645" idx="0"/>
          </p:cNvCxnSpPr>
          <p:nvPr/>
        </p:nvCxnSpPr>
        <p:spPr>
          <a:xfrm flipH="1">
            <a:off x="3058560" y="853920"/>
            <a:ext cx="2523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783" idx="2"/>
            <a:endCxn id="620" idx="0"/>
          </p:cNvCxnSpPr>
          <p:nvPr/>
        </p:nvCxnSpPr>
        <p:spPr>
          <a:xfrm flipH="1">
            <a:off x="3695040" y="853920"/>
            <a:ext cx="188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783" idx="2"/>
            <a:endCxn id="621" idx="0"/>
          </p:cNvCxnSpPr>
          <p:nvPr/>
        </p:nvCxnSpPr>
        <p:spPr>
          <a:xfrm flipH="1">
            <a:off x="4305240" y="853920"/>
            <a:ext cx="127692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783" idx="2"/>
            <a:endCxn id="614" idx="0"/>
          </p:cNvCxnSpPr>
          <p:nvPr/>
        </p:nvCxnSpPr>
        <p:spPr>
          <a:xfrm flipH="1">
            <a:off x="4838400" y="853920"/>
            <a:ext cx="743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783" idx="2"/>
            <a:endCxn id="615" idx="0"/>
          </p:cNvCxnSpPr>
          <p:nvPr/>
        </p:nvCxnSpPr>
        <p:spPr>
          <a:xfrm flipH="1">
            <a:off x="5447520" y="853920"/>
            <a:ext cx="1342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7" name=""/>
          <p:cNvCxnSpPr>
            <a:stCxn id="783" idx="2"/>
            <a:endCxn id="616" idx="0"/>
          </p:cNvCxnSpPr>
          <p:nvPr/>
        </p:nvCxnSpPr>
        <p:spPr>
          <a:xfrm>
            <a:off x="5581440" y="853920"/>
            <a:ext cx="477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8" name=""/>
          <p:cNvCxnSpPr>
            <a:stCxn id="783" idx="2"/>
            <a:endCxn id="617" idx="0"/>
          </p:cNvCxnSpPr>
          <p:nvPr/>
        </p:nvCxnSpPr>
        <p:spPr>
          <a:xfrm>
            <a:off x="5581800" y="853920"/>
            <a:ext cx="10864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9" name=""/>
          <p:cNvCxnSpPr>
            <a:stCxn id="783" idx="2"/>
            <a:endCxn id="610" idx="0"/>
          </p:cNvCxnSpPr>
          <p:nvPr/>
        </p:nvCxnSpPr>
        <p:spPr>
          <a:xfrm>
            <a:off x="5581800" y="853920"/>
            <a:ext cx="1620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60" name=""/>
          <p:cNvCxnSpPr>
            <a:stCxn id="783" idx="2"/>
            <a:endCxn id="654" idx="0"/>
          </p:cNvCxnSpPr>
          <p:nvPr/>
        </p:nvCxnSpPr>
        <p:spPr>
          <a:xfrm>
            <a:off x="5581440" y="853920"/>
            <a:ext cx="22438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61" name=""/>
          <p:cNvCxnSpPr>
            <a:stCxn id="783" idx="2"/>
            <a:endCxn id="653" idx="0"/>
          </p:cNvCxnSpPr>
          <p:nvPr/>
        </p:nvCxnSpPr>
        <p:spPr>
          <a:xfrm>
            <a:off x="5581800" y="853920"/>
            <a:ext cx="28533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62" name=""/>
          <p:cNvCxnSpPr>
            <a:stCxn id="783" idx="2"/>
            <a:endCxn id="655" idx="0"/>
          </p:cNvCxnSpPr>
          <p:nvPr/>
        </p:nvCxnSpPr>
        <p:spPr>
          <a:xfrm>
            <a:off x="5581800" y="853920"/>
            <a:ext cx="3366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63" name=""/>
          <p:cNvCxnSpPr>
            <a:stCxn id="787" idx="2"/>
            <a:endCxn id="668" idx="0"/>
          </p:cNvCxnSpPr>
          <p:nvPr/>
        </p:nvCxnSpPr>
        <p:spPr>
          <a:xfrm flipH="1">
            <a:off x="190080" y="2758680"/>
            <a:ext cx="55440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64" name=""/>
          <p:cNvCxnSpPr>
            <a:stCxn id="787" idx="2"/>
            <a:endCxn id="688" idx="0"/>
          </p:cNvCxnSpPr>
          <p:nvPr/>
        </p:nvCxnSpPr>
        <p:spPr>
          <a:xfrm flipH="1">
            <a:off x="696600" y="2758680"/>
            <a:ext cx="50378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87" idx="2"/>
            <a:endCxn id="687" idx="0"/>
          </p:cNvCxnSpPr>
          <p:nvPr/>
        </p:nvCxnSpPr>
        <p:spPr>
          <a:xfrm flipH="1">
            <a:off x="1305720" y="2758680"/>
            <a:ext cx="44283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787" idx="2"/>
            <a:endCxn id="689" idx="0"/>
          </p:cNvCxnSpPr>
          <p:nvPr/>
        </p:nvCxnSpPr>
        <p:spPr>
          <a:xfrm flipH="1">
            <a:off x="1915560" y="2758680"/>
            <a:ext cx="38185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787" idx="2"/>
            <a:endCxn id="690" idx="0"/>
          </p:cNvCxnSpPr>
          <p:nvPr/>
        </p:nvCxnSpPr>
        <p:spPr>
          <a:xfrm flipH="1">
            <a:off x="2525400" y="2758680"/>
            <a:ext cx="3209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787" idx="2"/>
            <a:endCxn id="691" idx="0"/>
          </p:cNvCxnSpPr>
          <p:nvPr/>
        </p:nvCxnSpPr>
        <p:spPr>
          <a:xfrm flipH="1">
            <a:off x="3058920" y="2758680"/>
            <a:ext cx="26755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787" idx="2"/>
            <a:endCxn id="692" idx="0"/>
          </p:cNvCxnSpPr>
          <p:nvPr/>
        </p:nvCxnSpPr>
        <p:spPr>
          <a:xfrm flipH="1">
            <a:off x="3668040" y="2758680"/>
            <a:ext cx="2066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787" idx="2"/>
            <a:endCxn id="693" idx="0"/>
          </p:cNvCxnSpPr>
          <p:nvPr/>
        </p:nvCxnSpPr>
        <p:spPr>
          <a:xfrm flipH="1">
            <a:off x="4277880" y="2758680"/>
            <a:ext cx="14565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1" name=""/>
          <p:cNvCxnSpPr>
            <a:stCxn id="787" idx="2"/>
            <a:endCxn id="694" idx="0"/>
          </p:cNvCxnSpPr>
          <p:nvPr/>
        </p:nvCxnSpPr>
        <p:spPr>
          <a:xfrm flipH="1">
            <a:off x="4811400" y="2758680"/>
            <a:ext cx="92304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2" name=""/>
          <p:cNvCxnSpPr>
            <a:stCxn id="787" idx="2"/>
            <a:endCxn id="696" idx="0"/>
          </p:cNvCxnSpPr>
          <p:nvPr/>
        </p:nvCxnSpPr>
        <p:spPr>
          <a:xfrm flipH="1">
            <a:off x="5462280" y="2758680"/>
            <a:ext cx="2721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3" name=""/>
          <p:cNvCxnSpPr>
            <a:stCxn id="787" idx="2"/>
            <a:endCxn id="695" idx="0"/>
          </p:cNvCxnSpPr>
          <p:nvPr/>
        </p:nvCxnSpPr>
        <p:spPr>
          <a:xfrm>
            <a:off x="5733720" y="2758680"/>
            <a:ext cx="3387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787" idx="2"/>
            <a:endCxn id="663" idx="0"/>
          </p:cNvCxnSpPr>
          <p:nvPr/>
        </p:nvCxnSpPr>
        <p:spPr>
          <a:xfrm>
            <a:off x="5733720" y="2758680"/>
            <a:ext cx="9342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787" idx="2"/>
            <a:endCxn id="698" idx="0"/>
          </p:cNvCxnSpPr>
          <p:nvPr/>
        </p:nvCxnSpPr>
        <p:spPr>
          <a:xfrm>
            <a:off x="5734080" y="2758680"/>
            <a:ext cx="148176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787" idx="2"/>
            <a:endCxn id="700" idx="0"/>
          </p:cNvCxnSpPr>
          <p:nvPr/>
        </p:nvCxnSpPr>
        <p:spPr>
          <a:xfrm>
            <a:off x="5734080" y="2758680"/>
            <a:ext cx="209160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787" idx="2"/>
            <a:endCxn id="699" idx="0"/>
          </p:cNvCxnSpPr>
          <p:nvPr/>
        </p:nvCxnSpPr>
        <p:spPr>
          <a:xfrm>
            <a:off x="5733720" y="2758680"/>
            <a:ext cx="270108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787" idx="2"/>
            <a:endCxn id="701" idx="0"/>
          </p:cNvCxnSpPr>
          <p:nvPr/>
        </p:nvCxnSpPr>
        <p:spPr>
          <a:xfrm>
            <a:off x="5733720" y="2758680"/>
            <a:ext cx="3213720" cy="670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79" name=""/>
          <p:cNvCxnSpPr>
            <a:stCxn id="791" idx="2"/>
            <a:endCxn id="714" idx="0"/>
          </p:cNvCxnSpPr>
          <p:nvPr/>
        </p:nvCxnSpPr>
        <p:spPr>
          <a:xfrm flipH="1">
            <a:off x="190080" y="4358880"/>
            <a:ext cx="4934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0" name=""/>
          <p:cNvCxnSpPr>
            <a:stCxn id="791" idx="2"/>
            <a:endCxn id="765" idx="0"/>
          </p:cNvCxnSpPr>
          <p:nvPr/>
        </p:nvCxnSpPr>
        <p:spPr>
          <a:xfrm flipH="1">
            <a:off x="696240" y="4358880"/>
            <a:ext cx="44283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1" name=""/>
          <p:cNvCxnSpPr>
            <a:stCxn id="791" idx="2"/>
            <a:endCxn id="764" idx="0"/>
          </p:cNvCxnSpPr>
          <p:nvPr/>
        </p:nvCxnSpPr>
        <p:spPr>
          <a:xfrm flipH="1">
            <a:off x="1306080" y="4358880"/>
            <a:ext cx="38188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2" name=""/>
          <p:cNvCxnSpPr>
            <a:stCxn id="791" idx="2"/>
            <a:endCxn id="766" idx="0"/>
          </p:cNvCxnSpPr>
          <p:nvPr/>
        </p:nvCxnSpPr>
        <p:spPr>
          <a:xfrm flipH="1">
            <a:off x="1915920" y="4358880"/>
            <a:ext cx="3209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3" name=""/>
          <p:cNvCxnSpPr>
            <a:stCxn id="791" idx="2"/>
            <a:endCxn id="767" idx="0"/>
          </p:cNvCxnSpPr>
          <p:nvPr/>
        </p:nvCxnSpPr>
        <p:spPr>
          <a:xfrm flipH="1">
            <a:off x="2525040" y="4358880"/>
            <a:ext cx="2599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4" name=""/>
          <p:cNvCxnSpPr>
            <a:stCxn id="791" idx="2"/>
            <a:endCxn id="768" idx="0"/>
          </p:cNvCxnSpPr>
          <p:nvPr/>
        </p:nvCxnSpPr>
        <p:spPr>
          <a:xfrm flipH="1">
            <a:off x="3058560" y="4358880"/>
            <a:ext cx="20660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5" name=""/>
          <p:cNvCxnSpPr>
            <a:stCxn id="791" idx="2"/>
            <a:endCxn id="712" idx="0"/>
          </p:cNvCxnSpPr>
          <p:nvPr/>
        </p:nvCxnSpPr>
        <p:spPr>
          <a:xfrm flipH="1">
            <a:off x="3695040" y="4358880"/>
            <a:ext cx="1429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6" name=""/>
          <p:cNvCxnSpPr>
            <a:stCxn id="791" idx="2"/>
            <a:endCxn id="770" idx="0"/>
          </p:cNvCxnSpPr>
          <p:nvPr/>
        </p:nvCxnSpPr>
        <p:spPr>
          <a:xfrm flipH="1">
            <a:off x="4277520" y="4358880"/>
            <a:ext cx="847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7" name=""/>
          <p:cNvCxnSpPr>
            <a:stCxn id="791" idx="2"/>
            <a:endCxn id="706" idx="0"/>
          </p:cNvCxnSpPr>
          <p:nvPr/>
        </p:nvCxnSpPr>
        <p:spPr>
          <a:xfrm flipH="1">
            <a:off x="4838400" y="4358880"/>
            <a:ext cx="286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8" name=""/>
          <p:cNvCxnSpPr>
            <a:stCxn id="791" idx="2"/>
            <a:endCxn id="773" idx="0"/>
          </p:cNvCxnSpPr>
          <p:nvPr/>
        </p:nvCxnSpPr>
        <p:spPr>
          <a:xfrm>
            <a:off x="5124240" y="4358880"/>
            <a:ext cx="3387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89" name=""/>
          <p:cNvCxnSpPr>
            <a:stCxn id="791" idx="2"/>
            <a:endCxn id="772" idx="0"/>
          </p:cNvCxnSpPr>
          <p:nvPr/>
        </p:nvCxnSpPr>
        <p:spPr>
          <a:xfrm>
            <a:off x="5124600" y="4358880"/>
            <a:ext cx="948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90" name=""/>
          <p:cNvCxnSpPr>
            <a:stCxn id="791" idx="2"/>
            <a:endCxn id="774" idx="0"/>
          </p:cNvCxnSpPr>
          <p:nvPr/>
        </p:nvCxnSpPr>
        <p:spPr>
          <a:xfrm>
            <a:off x="5124600" y="4358880"/>
            <a:ext cx="1558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91" name=""/>
          <p:cNvCxnSpPr>
            <a:stCxn id="791" idx="2"/>
            <a:endCxn id="775" idx="0"/>
          </p:cNvCxnSpPr>
          <p:nvPr/>
        </p:nvCxnSpPr>
        <p:spPr>
          <a:xfrm>
            <a:off x="5124240" y="4358880"/>
            <a:ext cx="209124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92" name=""/>
          <p:cNvCxnSpPr>
            <a:stCxn id="791" idx="2"/>
            <a:endCxn id="777" idx="0"/>
          </p:cNvCxnSpPr>
          <p:nvPr/>
        </p:nvCxnSpPr>
        <p:spPr>
          <a:xfrm>
            <a:off x="5124240" y="4358880"/>
            <a:ext cx="2701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93" name=""/>
          <p:cNvCxnSpPr>
            <a:stCxn id="791" idx="2"/>
            <a:endCxn id="776" idx="0"/>
          </p:cNvCxnSpPr>
          <p:nvPr/>
        </p:nvCxnSpPr>
        <p:spPr>
          <a:xfrm>
            <a:off x="5124600" y="4358880"/>
            <a:ext cx="331056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94" name=""/>
          <p:cNvCxnSpPr>
            <a:stCxn id="791" idx="2"/>
            <a:endCxn id="778" idx="0"/>
          </p:cNvCxnSpPr>
          <p:nvPr/>
        </p:nvCxnSpPr>
        <p:spPr>
          <a:xfrm>
            <a:off x="5124600" y="4358880"/>
            <a:ext cx="3844080" cy="670680"/>
          </a:xfrm>
          <a:prstGeom prst="straightConnector1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784" idx="2"/>
            <a:endCxn id="622" idx="0"/>
          </p:cNvCxnSpPr>
          <p:nvPr/>
        </p:nvCxnSpPr>
        <p:spPr>
          <a:xfrm flipH="1">
            <a:off x="189720" y="853920"/>
            <a:ext cx="3243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784" idx="2"/>
            <a:endCxn id="642" idx="0"/>
          </p:cNvCxnSpPr>
          <p:nvPr/>
        </p:nvCxnSpPr>
        <p:spPr>
          <a:xfrm flipH="1">
            <a:off x="696960" y="853920"/>
            <a:ext cx="27370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784" idx="2"/>
            <a:endCxn id="648" idx="0"/>
          </p:cNvCxnSpPr>
          <p:nvPr/>
        </p:nvCxnSpPr>
        <p:spPr>
          <a:xfrm>
            <a:off x="3433680" y="853920"/>
            <a:ext cx="13788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784" idx="2"/>
            <a:endCxn id="650" idx="0"/>
          </p:cNvCxnSpPr>
          <p:nvPr/>
        </p:nvCxnSpPr>
        <p:spPr>
          <a:xfrm>
            <a:off x="3433680" y="853920"/>
            <a:ext cx="20296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784" idx="2"/>
            <a:endCxn id="649" idx="0"/>
          </p:cNvCxnSpPr>
          <p:nvPr/>
        </p:nvCxnSpPr>
        <p:spPr>
          <a:xfrm>
            <a:off x="3433320" y="853920"/>
            <a:ext cx="26391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784" idx="2"/>
            <a:endCxn id="651" idx="0"/>
          </p:cNvCxnSpPr>
          <p:nvPr/>
        </p:nvCxnSpPr>
        <p:spPr>
          <a:xfrm>
            <a:off x="3433320" y="853920"/>
            <a:ext cx="32490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1" name=""/>
          <p:cNvCxnSpPr>
            <a:stCxn id="788" idx="2"/>
            <a:endCxn id="668" idx="0"/>
          </p:cNvCxnSpPr>
          <p:nvPr/>
        </p:nvCxnSpPr>
        <p:spPr>
          <a:xfrm flipH="1">
            <a:off x="190080" y="2758680"/>
            <a:ext cx="316800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902" name=""/>
          <p:cNvCxnSpPr>
            <a:stCxn id="788" idx="2"/>
            <a:endCxn id="688" idx="0"/>
          </p:cNvCxnSpPr>
          <p:nvPr/>
        </p:nvCxnSpPr>
        <p:spPr>
          <a:xfrm flipH="1">
            <a:off x="696240" y="2758680"/>
            <a:ext cx="26614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903" name=""/>
          <p:cNvCxnSpPr>
            <a:stCxn id="788" idx="2"/>
            <a:endCxn id="694" idx="0"/>
          </p:cNvCxnSpPr>
          <p:nvPr/>
        </p:nvCxnSpPr>
        <p:spPr>
          <a:xfrm>
            <a:off x="3357360" y="2758680"/>
            <a:ext cx="14547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904" name=""/>
          <p:cNvCxnSpPr>
            <a:stCxn id="788" idx="2"/>
            <a:endCxn id="696" idx="0"/>
          </p:cNvCxnSpPr>
          <p:nvPr/>
        </p:nvCxnSpPr>
        <p:spPr>
          <a:xfrm>
            <a:off x="3357360" y="2758680"/>
            <a:ext cx="210564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905" name=""/>
          <p:cNvCxnSpPr>
            <a:stCxn id="788" idx="2"/>
            <a:endCxn id="662" idx="0"/>
          </p:cNvCxnSpPr>
          <p:nvPr/>
        </p:nvCxnSpPr>
        <p:spPr>
          <a:xfrm>
            <a:off x="3357360" y="2758680"/>
            <a:ext cx="270108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788" idx="2"/>
            <a:endCxn id="697" idx="0"/>
          </p:cNvCxnSpPr>
          <p:nvPr/>
        </p:nvCxnSpPr>
        <p:spPr>
          <a:xfrm>
            <a:off x="3357720" y="2758680"/>
            <a:ext cx="33249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907" name=""/>
          <p:cNvCxnSpPr>
            <a:stCxn id="792" idx="2"/>
            <a:endCxn id="714" idx="0"/>
          </p:cNvCxnSpPr>
          <p:nvPr/>
        </p:nvCxnSpPr>
        <p:spPr>
          <a:xfrm flipH="1">
            <a:off x="189720" y="4358880"/>
            <a:ext cx="37011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908" name=""/>
          <p:cNvCxnSpPr>
            <a:stCxn id="792" idx="2"/>
            <a:endCxn id="765" idx="0"/>
          </p:cNvCxnSpPr>
          <p:nvPr/>
        </p:nvCxnSpPr>
        <p:spPr>
          <a:xfrm flipH="1">
            <a:off x="696600" y="4358880"/>
            <a:ext cx="31946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792" idx="2"/>
            <a:endCxn id="771" idx="0"/>
          </p:cNvCxnSpPr>
          <p:nvPr/>
        </p:nvCxnSpPr>
        <p:spPr>
          <a:xfrm>
            <a:off x="3890880" y="4358880"/>
            <a:ext cx="92160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910" name=""/>
          <p:cNvCxnSpPr>
            <a:stCxn id="792" idx="2"/>
            <a:endCxn id="773" idx="0"/>
          </p:cNvCxnSpPr>
          <p:nvPr/>
        </p:nvCxnSpPr>
        <p:spPr>
          <a:xfrm>
            <a:off x="3890880" y="4358880"/>
            <a:ext cx="157248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911" name=""/>
          <p:cNvCxnSpPr>
            <a:stCxn id="792" idx="2"/>
            <a:endCxn id="772" idx="0"/>
          </p:cNvCxnSpPr>
          <p:nvPr/>
        </p:nvCxnSpPr>
        <p:spPr>
          <a:xfrm>
            <a:off x="3890520" y="4358880"/>
            <a:ext cx="21819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912" name=""/>
          <p:cNvCxnSpPr>
            <a:stCxn id="792" idx="2"/>
            <a:endCxn id="774" idx="0"/>
          </p:cNvCxnSpPr>
          <p:nvPr/>
        </p:nvCxnSpPr>
        <p:spPr>
          <a:xfrm>
            <a:off x="3890520" y="4358880"/>
            <a:ext cx="279144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913" name=""/>
          <p:cNvSpPr/>
          <p:nvPr/>
        </p:nvSpPr>
        <p:spPr>
          <a:xfrm>
            <a:off x="10724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26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681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91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2492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434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04424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7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44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1354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354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8788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10720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49772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619840" y="64612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00" y="6461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9" name=""/>
          <p:cNvCxnSpPr>
            <a:stCxn id="784" idx="2"/>
            <a:endCxn id="624" idx="0"/>
          </p:cNvCxnSpPr>
          <p:nvPr/>
        </p:nvCxnSpPr>
        <p:spPr>
          <a:xfrm flipH="1">
            <a:off x="1333080" y="853920"/>
            <a:ext cx="2100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784" idx="2"/>
            <a:endCxn id="643" idx="0"/>
          </p:cNvCxnSpPr>
          <p:nvPr/>
        </p:nvCxnSpPr>
        <p:spPr>
          <a:xfrm flipH="1">
            <a:off x="1915560" y="853920"/>
            <a:ext cx="151812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788" idx="2"/>
            <a:endCxn id="687" idx="0"/>
          </p:cNvCxnSpPr>
          <p:nvPr/>
        </p:nvCxnSpPr>
        <p:spPr>
          <a:xfrm flipH="1">
            <a:off x="1306080" y="2758680"/>
            <a:ext cx="205200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932" name=""/>
          <p:cNvCxnSpPr>
            <a:stCxn id="788" idx="2"/>
            <a:endCxn id="689" idx="0"/>
          </p:cNvCxnSpPr>
          <p:nvPr/>
        </p:nvCxnSpPr>
        <p:spPr>
          <a:xfrm flipH="1">
            <a:off x="1915920" y="2758680"/>
            <a:ext cx="1442160" cy="6706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933" name=""/>
          <p:cNvCxnSpPr>
            <a:stCxn id="792" idx="2"/>
            <a:endCxn id="764" idx="0"/>
          </p:cNvCxnSpPr>
          <p:nvPr/>
        </p:nvCxnSpPr>
        <p:spPr>
          <a:xfrm flipH="1">
            <a:off x="1305720" y="4358880"/>
            <a:ext cx="258516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934" name=""/>
          <p:cNvCxnSpPr>
            <a:stCxn id="792" idx="2"/>
            <a:endCxn id="766" idx="0"/>
          </p:cNvCxnSpPr>
          <p:nvPr/>
        </p:nvCxnSpPr>
        <p:spPr>
          <a:xfrm flipH="1">
            <a:off x="1915560" y="4358880"/>
            <a:ext cx="1975320" cy="670680"/>
          </a:xfrm>
          <a:prstGeom prst="straightConnector1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201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22960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7631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6483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25780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4771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623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95480" y="35812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053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480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4300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752480" y="35812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1" name=""/>
          <p:cNvCxnSpPr>
            <a:stCxn id="947" idx="6"/>
            <a:endCxn id="948" idx="2"/>
          </p:cNvCxnSpPr>
          <p:nvPr/>
        </p:nvCxnSpPr>
        <p:spPr>
          <a:xfrm>
            <a:off x="380880" y="37717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52" name=""/>
          <p:cNvCxnSpPr>
            <a:stCxn id="948" idx="6"/>
            <a:endCxn id="949" idx="2"/>
          </p:cNvCxnSpPr>
          <p:nvPr/>
        </p:nvCxnSpPr>
        <p:spPr>
          <a:xfrm>
            <a:off x="91404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53" name=""/>
          <p:cNvCxnSpPr>
            <a:stCxn id="949" idx="6"/>
            <a:endCxn id="950" idx="2"/>
          </p:cNvCxnSpPr>
          <p:nvPr/>
        </p:nvCxnSpPr>
        <p:spPr>
          <a:xfrm>
            <a:off x="152352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54" name=""/>
          <p:cNvCxnSpPr>
            <a:stCxn id="950" idx="6"/>
            <a:endCxn id="943" idx="2"/>
          </p:cNvCxnSpPr>
          <p:nvPr/>
        </p:nvCxnSpPr>
        <p:spPr>
          <a:xfrm>
            <a:off x="213336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55" name=""/>
          <p:cNvCxnSpPr>
            <a:stCxn id="943" idx="6"/>
            <a:endCxn id="944" idx="2"/>
          </p:cNvCxnSpPr>
          <p:nvPr/>
        </p:nvCxnSpPr>
        <p:spPr>
          <a:xfrm>
            <a:off x="2742840" y="37717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56" name=""/>
          <p:cNvCxnSpPr>
            <a:stCxn id="944" idx="6"/>
            <a:endCxn id="945" idx="2"/>
          </p:cNvCxnSpPr>
          <p:nvPr/>
        </p:nvCxnSpPr>
        <p:spPr>
          <a:xfrm>
            <a:off x="327636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45" idx="6"/>
            <a:endCxn id="946" idx="2"/>
          </p:cNvCxnSpPr>
          <p:nvPr/>
        </p:nvCxnSpPr>
        <p:spPr>
          <a:xfrm>
            <a:off x="388584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46" idx="6"/>
            <a:endCxn id="939" idx="2"/>
          </p:cNvCxnSpPr>
          <p:nvPr/>
        </p:nvCxnSpPr>
        <p:spPr>
          <a:xfrm>
            <a:off x="4495680" y="37717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39" idx="6"/>
            <a:endCxn id="940" idx="2"/>
          </p:cNvCxnSpPr>
          <p:nvPr/>
        </p:nvCxnSpPr>
        <p:spPr>
          <a:xfrm>
            <a:off x="502884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40" idx="6"/>
            <a:endCxn id="941" idx="2"/>
          </p:cNvCxnSpPr>
          <p:nvPr/>
        </p:nvCxnSpPr>
        <p:spPr>
          <a:xfrm>
            <a:off x="563832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41" idx="6"/>
            <a:endCxn id="942" idx="2"/>
          </p:cNvCxnSpPr>
          <p:nvPr/>
        </p:nvCxnSpPr>
        <p:spPr>
          <a:xfrm>
            <a:off x="624816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42" idx="6"/>
            <a:endCxn id="935" idx="2"/>
          </p:cNvCxnSpPr>
          <p:nvPr/>
        </p:nvCxnSpPr>
        <p:spPr>
          <a:xfrm>
            <a:off x="6857640" y="37717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63" name=""/>
          <p:cNvCxnSpPr>
            <a:stCxn id="935" idx="6"/>
            <a:endCxn id="936" idx="2"/>
          </p:cNvCxnSpPr>
          <p:nvPr/>
        </p:nvCxnSpPr>
        <p:spPr>
          <a:xfrm>
            <a:off x="739116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64" name=""/>
          <p:cNvCxnSpPr>
            <a:stCxn id="936" idx="6"/>
            <a:endCxn id="937" idx="2"/>
          </p:cNvCxnSpPr>
          <p:nvPr/>
        </p:nvCxnSpPr>
        <p:spPr>
          <a:xfrm>
            <a:off x="800064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65" name=""/>
          <p:cNvCxnSpPr>
            <a:stCxn id="937" idx="6"/>
            <a:endCxn id="938" idx="2"/>
          </p:cNvCxnSpPr>
          <p:nvPr/>
        </p:nvCxnSpPr>
        <p:spPr>
          <a:xfrm>
            <a:off x="8610480" y="37717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966" name=""/>
          <p:cNvSpPr/>
          <p:nvPr/>
        </p:nvSpPr>
        <p:spPr>
          <a:xfrm>
            <a:off x="107136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6152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8084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29032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2384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43332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04316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57632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960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18976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908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4260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16156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55208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67456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010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0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2296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763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648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57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867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477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362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895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05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114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35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430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752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7" name=""/>
          <p:cNvCxnSpPr>
            <a:stCxn id="993" idx="6"/>
            <a:endCxn id="994" idx="2"/>
          </p:cNvCxnSpPr>
          <p:nvPr/>
        </p:nvCxnSpPr>
        <p:spPr>
          <a:xfrm>
            <a:off x="3808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98" name=""/>
          <p:cNvCxnSpPr>
            <a:stCxn id="994" idx="6"/>
            <a:endCxn id="995" idx="2"/>
          </p:cNvCxnSpPr>
          <p:nvPr/>
        </p:nvCxnSpPr>
        <p:spPr>
          <a:xfrm>
            <a:off x="9140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99" name=""/>
          <p:cNvCxnSpPr>
            <a:stCxn id="995" idx="6"/>
            <a:endCxn id="996" idx="2"/>
          </p:cNvCxnSpPr>
          <p:nvPr/>
        </p:nvCxnSpPr>
        <p:spPr>
          <a:xfrm>
            <a:off x="15235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0" name=""/>
          <p:cNvCxnSpPr>
            <a:stCxn id="996" idx="6"/>
            <a:endCxn id="989" idx="2"/>
          </p:cNvCxnSpPr>
          <p:nvPr/>
        </p:nvCxnSpPr>
        <p:spPr>
          <a:xfrm>
            <a:off x="2133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1" name=""/>
          <p:cNvCxnSpPr>
            <a:stCxn id="989" idx="6"/>
            <a:endCxn id="990" idx="2"/>
          </p:cNvCxnSpPr>
          <p:nvPr/>
        </p:nvCxnSpPr>
        <p:spPr>
          <a:xfrm>
            <a:off x="27428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2" name=""/>
          <p:cNvCxnSpPr>
            <a:stCxn id="990" idx="6"/>
            <a:endCxn id="991" idx="2"/>
          </p:cNvCxnSpPr>
          <p:nvPr/>
        </p:nvCxnSpPr>
        <p:spPr>
          <a:xfrm>
            <a:off x="3276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3" name=""/>
          <p:cNvCxnSpPr>
            <a:stCxn id="991" idx="6"/>
            <a:endCxn id="992" idx="2"/>
          </p:cNvCxnSpPr>
          <p:nvPr/>
        </p:nvCxnSpPr>
        <p:spPr>
          <a:xfrm>
            <a:off x="3885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4" name=""/>
          <p:cNvCxnSpPr>
            <a:stCxn id="992" idx="6"/>
            <a:endCxn id="985" idx="2"/>
          </p:cNvCxnSpPr>
          <p:nvPr/>
        </p:nvCxnSpPr>
        <p:spPr>
          <a:xfrm>
            <a:off x="44956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5" name=""/>
          <p:cNvCxnSpPr>
            <a:stCxn id="985" idx="6"/>
            <a:endCxn id="986" idx="2"/>
          </p:cNvCxnSpPr>
          <p:nvPr/>
        </p:nvCxnSpPr>
        <p:spPr>
          <a:xfrm>
            <a:off x="5028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6" name=""/>
          <p:cNvCxnSpPr>
            <a:stCxn id="986" idx="6"/>
            <a:endCxn id="987" idx="2"/>
          </p:cNvCxnSpPr>
          <p:nvPr/>
        </p:nvCxnSpPr>
        <p:spPr>
          <a:xfrm>
            <a:off x="56383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7" name=""/>
          <p:cNvCxnSpPr>
            <a:stCxn id="987" idx="6"/>
            <a:endCxn id="988" idx="2"/>
          </p:cNvCxnSpPr>
          <p:nvPr/>
        </p:nvCxnSpPr>
        <p:spPr>
          <a:xfrm>
            <a:off x="6248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8" name=""/>
          <p:cNvCxnSpPr>
            <a:stCxn id="988" idx="6"/>
            <a:endCxn id="981" idx="2"/>
          </p:cNvCxnSpPr>
          <p:nvPr/>
        </p:nvCxnSpPr>
        <p:spPr>
          <a:xfrm>
            <a:off x="68576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09" name=""/>
          <p:cNvCxnSpPr>
            <a:stCxn id="981" idx="6"/>
            <a:endCxn id="982" idx="2"/>
          </p:cNvCxnSpPr>
          <p:nvPr/>
        </p:nvCxnSpPr>
        <p:spPr>
          <a:xfrm>
            <a:off x="7391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10" name=""/>
          <p:cNvCxnSpPr>
            <a:stCxn id="982" idx="6"/>
            <a:endCxn id="983" idx="2"/>
          </p:cNvCxnSpPr>
          <p:nvPr/>
        </p:nvCxnSpPr>
        <p:spPr>
          <a:xfrm>
            <a:off x="80006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11" name=""/>
          <p:cNvCxnSpPr>
            <a:stCxn id="983" idx="6"/>
            <a:endCxn id="984" idx="2"/>
          </p:cNvCxnSpPr>
          <p:nvPr/>
        </p:nvCxnSpPr>
        <p:spPr>
          <a:xfrm>
            <a:off x="86104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012" name=""/>
          <p:cNvSpPr/>
          <p:nvPr/>
        </p:nvSpPr>
        <p:spPr>
          <a:xfrm>
            <a:off x="4267080" y="914400"/>
            <a:ext cx="38124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69240" y="914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410080" y="2286000"/>
            <a:ext cx="38124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35200" y="2286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01480" y="2286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8" name=""/>
          <p:cNvCxnSpPr>
            <a:stCxn id="1013" idx="1"/>
            <a:endCxn id="1017" idx="0"/>
          </p:cNvCxnSpPr>
          <p:nvPr/>
        </p:nvCxnSpPr>
        <p:spPr>
          <a:xfrm flipH="1">
            <a:off x="3432960" y="1112400"/>
            <a:ext cx="834120" cy="11739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13" idx="3"/>
            <a:endCxn id="1016" idx="0"/>
          </p:cNvCxnSpPr>
          <p:nvPr/>
        </p:nvCxnSpPr>
        <p:spPr>
          <a:xfrm>
            <a:off x="4621320" y="1112400"/>
            <a:ext cx="961200" cy="11739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967" idx="2"/>
            <a:endCxn id="994" idx="0"/>
          </p:cNvCxnSpPr>
          <p:nvPr/>
        </p:nvCxnSpPr>
        <p:spPr>
          <a:xfrm>
            <a:off x="69660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949" idx="4"/>
            <a:endCxn id="995" idx="0"/>
          </p:cNvCxnSpPr>
          <p:nvPr/>
        </p:nvCxnSpPr>
        <p:spPr>
          <a:xfrm>
            <a:off x="1333080" y="3962520"/>
            <a:ext cx="1080" cy="1235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2" name=""/>
          <p:cNvCxnSpPr>
            <a:stCxn id="968" idx="2"/>
            <a:endCxn id="996" idx="0"/>
          </p:cNvCxnSpPr>
          <p:nvPr/>
        </p:nvCxnSpPr>
        <p:spPr>
          <a:xfrm>
            <a:off x="191592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3" name=""/>
          <p:cNvCxnSpPr>
            <a:stCxn id="969" idx="2"/>
            <a:endCxn id="989" idx="0"/>
          </p:cNvCxnSpPr>
          <p:nvPr/>
        </p:nvCxnSpPr>
        <p:spPr>
          <a:xfrm>
            <a:off x="252540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4" name=""/>
          <p:cNvCxnSpPr>
            <a:stCxn id="970" idx="2"/>
            <a:endCxn id="990" idx="0"/>
          </p:cNvCxnSpPr>
          <p:nvPr/>
        </p:nvCxnSpPr>
        <p:spPr>
          <a:xfrm>
            <a:off x="305892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5" name=""/>
          <p:cNvCxnSpPr>
            <a:stCxn id="971" idx="2"/>
            <a:endCxn id="991" idx="0"/>
          </p:cNvCxnSpPr>
          <p:nvPr/>
        </p:nvCxnSpPr>
        <p:spPr>
          <a:xfrm>
            <a:off x="366840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6" name=""/>
          <p:cNvCxnSpPr>
            <a:stCxn id="972" idx="2"/>
            <a:endCxn id="992" idx="0"/>
          </p:cNvCxnSpPr>
          <p:nvPr/>
        </p:nvCxnSpPr>
        <p:spPr>
          <a:xfrm>
            <a:off x="427788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7" name=""/>
          <p:cNvCxnSpPr>
            <a:stCxn id="973" idx="2"/>
            <a:endCxn id="985" idx="0"/>
          </p:cNvCxnSpPr>
          <p:nvPr/>
        </p:nvCxnSpPr>
        <p:spPr>
          <a:xfrm>
            <a:off x="481140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8" name=""/>
          <p:cNvCxnSpPr>
            <a:stCxn id="975" idx="2"/>
            <a:endCxn id="986" idx="0"/>
          </p:cNvCxnSpPr>
          <p:nvPr/>
        </p:nvCxnSpPr>
        <p:spPr>
          <a:xfrm flipH="1">
            <a:off x="5447880" y="3978360"/>
            <a:ext cx="151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9" name=""/>
          <p:cNvCxnSpPr>
            <a:stCxn id="941" idx="4"/>
            <a:endCxn id="987" idx="0"/>
          </p:cNvCxnSpPr>
          <p:nvPr/>
        </p:nvCxnSpPr>
        <p:spPr>
          <a:xfrm>
            <a:off x="6057720" y="3962520"/>
            <a:ext cx="1080" cy="1235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30" name=""/>
          <p:cNvCxnSpPr>
            <a:stCxn id="976" idx="2"/>
            <a:endCxn id="988" idx="0"/>
          </p:cNvCxnSpPr>
          <p:nvPr/>
        </p:nvCxnSpPr>
        <p:spPr>
          <a:xfrm flipH="1">
            <a:off x="6667200" y="3978360"/>
            <a:ext cx="151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31" name=""/>
          <p:cNvCxnSpPr>
            <a:stCxn id="977" idx="2"/>
            <a:endCxn id="981" idx="0"/>
          </p:cNvCxnSpPr>
          <p:nvPr/>
        </p:nvCxnSpPr>
        <p:spPr>
          <a:xfrm flipH="1">
            <a:off x="7200360" y="3978360"/>
            <a:ext cx="1476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32" name=""/>
          <p:cNvCxnSpPr>
            <a:stCxn id="979" idx="2"/>
            <a:endCxn id="982" idx="0"/>
          </p:cNvCxnSpPr>
          <p:nvPr/>
        </p:nvCxnSpPr>
        <p:spPr>
          <a:xfrm flipH="1">
            <a:off x="7810200" y="3978360"/>
            <a:ext cx="151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33" name=""/>
          <p:cNvCxnSpPr>
            <a:stCxn id="978" idx="2"/>
            <a:endCxn id="983" idx="0"/>
          </p:cNvCxnSpPr>
          <p:nvPr/>
        </p:nvCxnSpPr>
        <p:spPr>
          <a:xfrm flipH="1">
            <a:off x="8419680" y="3978360"/>
            <a:ext cx="151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34" name=""/>
          <p:cNvCxnSpPr>
            <a:stCxn id="980" idx="2"/>
            <a:endCxn id="984" idx="0"/>
          </p:cNvCxnSpPr>
          <p:nvPr/>
        </p:nvCxnSpPr>
        <p:spPr>
          <a:xfrm>
            <a:off x="8947080" y="3978360"/>
            <a:ext cx="720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stCxn id="1016" idx="2"/>
            <a:endCxn id="947" idx="0"/>
          </p:cNvCxnSpPr>
          <p:nvPr/>
        </p:nvCxnSpPr>
        <p:spPr>
          <a:xfrm flipH="1">
            <a:off x="190080" y="2682720"/>
            <a:ext cx="5392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36" name=""/>
          <p:cNvCxnSpPr>
            <a:stCxn id="1016" idx="2"/>
            <a:endCxn id="967" idx="0"/>
          </p:cNvCxnSpPr>
          <p:nvPr/>
        </p:nvCxnSpPr>
        <p:spPr>
          <a:xfrm flipH="1">
            <a:off x="696240" y="2682720"/>
            <a:ext cx="48855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37" name=""/>
          <p:cNvCxnSpPr>
            <a:stCxn id="1016" idx="2"/>
            <a:endCxn id="966" idx="0"/>
          </p:cNvCxnSpPr>
          <p:nvPr/>
        </p:nvCxnSpPr>
        <p:spPr>
          <a:xfrm flipH="1">
            <a:off x="1306080" y="2682720"/>
            <a:ext cx="4276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38" name=""/>
          <p:cNvCxnSpPr>
            <a:stCxn id="1016" idx="2"/>
            <a:endCxn id="968" idx="0"/>
          </p:cNvCxnSpPr>
          <p:nvPr/>
        </p:nvCxnSpPr>
        <p:spPr>
          <a:xfrm flipH="1">
            <a:off x="1915920" y="2682720"/>
            <a:ext cx="3666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39" name=""/>
          <p:cNvCxnSpPr>
            <a:stCxn id="1016" idx="2"/>
            <a:endCxn id="969" idx="0"/>
          </p:cNvCxnSpPr>
          <p:nvPr/>
        </p:nvCxnSpPr>
        <p:spPr>
          <a:xfrm flipH="1">
            <a:off x="2525040" y="2682720"/>
            <a:ext cx="305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0" name=""/>
          <p:cNvCxnSpPr>
            <a:stCxn id="1016" idx="2"/>
            <a:endCxn id="970" idx="0"/>
          </p:cNvCxnSpPr>
          <p:nvPr/>
        </p:nvCxnSpPr>
        <p:spPr>
          <a:xfrm flipH="1">
            <a:off x="3058560" y="2682720"/>
            <a:ext cx="2523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1" name=""/>
          <p:cNvCxnSpPr>
            <a:stCxn id="1016" idx="2"/>
            <a:endCxn id="945" idx="0"/>
          </p:cNvCxnSpPr>
          <p:nvPr/>
        </p:nvCxnSpPr>
        <p:spPr>
          <a:xfrm flipH="1">
            <a:off x="3695040" y="2682720"/>
            <a:ext cx="188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stCxn id="1016" idx="2"/>
            <a:endCxn id="946" idx="0"/>
          </p:cNvCxnSpPr>
          <p:nvPr/>
        </p:nvCxnSpPr>
        <p:spPr>
          <a:xfrm flipH="1">
            <a:off x="4305240" y="2682720"/>
            <a:ext cx="127692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3" name=""/>
          <p:cNvCxnSpPr>
            <a:stCxn id="1016" idx="2"/>
            <a:endCxn id="939" idx="0"/>
          </p:cNvCxnSpPr>
          <p:nvPr/>
        </p:nvCxnSpPr>
        <p:spPr>
          <a:xfrm flipH="1">
            <a:off x="4838400" y="2682720"/>
            <a:ext cx="743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1016" idx="2"/>
            <a:endCxn id="940" idx="0"/>
          </p:cNvCxnSpPr>
          <p:nvPr/>
        </p:nvCxnSpPr>
        <p:spPr>
          <a:xfrm flipH="1">
            <a:off x="5447520" y="2682720"/>
            <a:ext cx="1342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5" name=""/>
          <p:cNvCxnSpPr>
            <a:stCxn id="1016" idx="2"/>
            <a:endCxn id="941" idx="0"/>
          </p:cNvCxnSpPr>
          <p:nvPr/>
        </p:nvCxnSpPr>
        <p:spPr>
          <a:xfrm>
            <a:off x="5581440" y="2682720"/>
            <a:ext cx="477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6" name=""/>
          <p:cNvCxnSpPr>
            <a:stCxn id="1016" idx="2"/>
            <a:endCxn id="942" idx="0"/>
          </p:cNvCxnSpPr>
          <p:nvPr/>
        </p:nvCxnSpPr>
        <p:spPr>
          <a:xfrm>
            <a:off x="5581800" y="2682720"/>
            <a:ext cx="10864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7" name=""/>
          <p:cNvCxnSpPr>
            <a:stCxn id="1016" idx="2"/>
            <a:endCxn id="935" idx="0"/>
          </p:cNvCxnSpPr>
          <p:nvPr/>
        </p:nvCxnSpPr>
        <p:spPr>
          <a:xfrm>
            <a:off x="5581800" y="2682720"/>
            <a:ext cx="1620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8" name=""/>
          <p:cNvCxnSpPr>
            <a:stCxn id="1016" idx="2"/>
            <a:endCxn id="979" idx="0"/>
          </p:cNvCxnSpPr>
          <p:nvPr/>
        </p:nvCxnSpPr>
        <p:spPr>
          <a:xfrm>
            <a:off x="5581440" y="2682720"/>
            <a:ext cx="22438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49" name=""/>
          <p:cNvCxnSpPr>
            <a:stCxn id="1016" idx="2"/>
            <a:endCxn id="978" idx="0"/>
          </p:cNvCxnSpPr>
          <p:nvPr/>
        </p:nvCxnSpPr>
        <p:spPr>
          <a:xfrm>
            <a:off x="5581800" y="2682720"/>
            <a:ext cx="28533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0" name=""/>
          <p:cNvCxnSpPr>
            <a:stCxn id="1016" idx="2"/>
            <a:endCxn id="980" idx="0"/>
          </p:cNvCxnSpPr>
          <p:nvPr/>
        </p:nvCxnSpPr>
        <p:spPr>
          <a:xfrm>
            <a:off x="5581800" y="2682720"/>
            <a:ext cx="3366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051" name=""/>
          <p:cNvCxnSpPr>
            <a:stCxn id="1017" idx="2"/>
            <a:endCxn id="947" idx="0"/>
          </p:cNvCxnSpPr>
          <p:nvPr/>
        </p:nvCxnSpPr>
        <p:spPr>
          <a:xfrm flipH="1">
            <a:off x="189720" y="2682720"/>
            <a:ext cx="3243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52" name=""/>
          <p:cNvCxnSpPr>
            <a:stCxn id="1017" idx="2"/>
            <a:endCxn id="967" idx="0"/>
          </p:cNvCxnSpPr>
          <p:nvPr/>
        </p:nvCxnSpPr>
        <p:spPr>
          <a:xfrm flipH="1">
            <a:off x="696960" y="2682720"/>
            <a:ext cx="27370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53" name=""/>
          <p:cNvCxnSpPr>
            <a:stCxn id="1017" idx="2"/>
            <a:endCxn id="973" idx="0"/>
          </p:cNvCxnSpPr>
          <p:nvPr/>
        </p:nvCxnSpPr>
        <p:spPr>
          <a:xfrm>
            <a:off x="3433680" y="2682720"/>
            <a:ext cx="13788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54" name=""/>
          <p:cNvCxnSpPr>
            <a:stCxn id="1017" idx="2"/>
            <a:endCxn id="975" idx="0"/>
          </p:cNvCxnSpPr>
          <p:nvPr/>
        </p:nvCxnSpPr>
        <p:spPr>
          <a:xfrm>
            <a:off x="3433680" y="2682720"/>
            <a:ext cx="20296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55" name=""/>
          <p:cNvCxnSpPr>
            <a:stCxn id="1017" idx="2"/>
            <a:endCxn id="974" idx="0"/>
          </p:cNvCxnSpPr>
          <p:nvPr/>
        </p:nvCxnSpPr>
        <p:spPr>
          <a:xfrm>
            <a:off x="3433320" y="2682720"/>
            <a:ext cx="26391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56" name=""/>
          <p:cNvCxnSpPr>
            <a:stCxn id="1017" idx="2"/>
            <a:endCxn id="976" idx="0"/>
          </p:cNvCxnSpPr>
          <p:nvPr/>
        </p:nvCxnSpPr>
        <p:spPr>
          <a:xfrm>
            <a:off x="3433320" y="2682720"/>
            <a:ext cx="32490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7" name=""/>
          <p:cNvSpPr/>
          <p:nvPr/>
        </p:nvSpPr>
        <p:spPr>
          <a:xfrm>
            <a:off x="10724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26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81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91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824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434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0442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77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44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1354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54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87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1072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497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61984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3" name=""/>
          <p:cNvCxnSpPr>
            <a:stCxn id="947" idx="4"/>
            <a:endCxn id="1072" idx="0"/>
          </p:cNvCxnSpPr>
          <p:nvPr/>
        </p:nvCxnSpPr>
        <p:spPr>
          <a:xfrm>
            <a:off x="190080" y="3962520"/>
            <a:ext cx="3564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074" name=""/>
          <p:cNvSpPr/>
          <p:nvPr/>
        </p:nvSpPr>
        <p:spPr>
          <a:xfrm>
            <a:off x="79246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781320" y="1905120"/>
            <a:ext cx="22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6" name=""/>
          <p:cNvCxnSpPr>
            <a:stCxn id="1017" idx="2"/>
            <a:endCxn id="966" idx="0"/>
          </p:cNvCxnSpPr>
          <p:nvPr/>
        </p:nvCxnSpPr>
        <p:spPr>
          <a:xfrm flipH="1">
            <a:off x="1305720" y="2682720"/>
            <a:ext cx="2127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77" name=""/>
          <p:cNvCxnSpPr>
            <a:stCxn id="1017" idx="2"/>
            <a:endCxn id="968" idx="0"/>
          </p:cNvCxnSpPr>
          <p:nvPr/>
        </p:nvCxnSpPr>
        <p:spPr>
          <a:xfrm flipH="1">
            <a:off x="1915560" y="2682720"/>
            <a:ext cx="151812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78" name=""/>
          <p:cNvSpPr/>
          <p:nvPr/>
        </p:nvSpPr>
        <p:spPr>
          <a:xfrm>
            <a:off x="0" y="1828800"/>
            <a:ext cx="91440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201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22960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7631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483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25780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4771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3623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95480" y="35812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053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3352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143000" y="3581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752480" y="35812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5" name=""/>
          <p:cNvCxnSpPr>
            <a:stCxn id="1091" idx="6"/>
            <a:endCxn id="1092" idx="2"/>
          </p:cNvCxnSpPr>
          <p:nvPr/>
        </p:nvCxnSpPr>
        <p:spPr>
          <a:xfrm>
            <a:off x="380880" y="37717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96" name=""/>
          <p:cNvCxnSpPr>
            <a:stCxn id="1092" idx="6"/>
            <a:endCxn id="1093" idx="2"/>
          </p:cNvCxnSpPr>
          <p:nvPr/>
        </p:nvCxnSpPr>
        <p:spPr>
          <a:xfrm>
            <a:off x="91404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97" name=""/>
          <p:cNvCxnSpPr>
            <a:stCxn id="1093" idx="6"/>
            <a:endCxn id="1094" idx="2"/>
          </p:cNvCxnSpPr>
          <p:nvPr/>
        </p:nvCxnSpPr>
        <p:spPr>
          <a:xfrm>
            <a:off x="152352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98" name=""/>
          <p:cNvCxnSpPr>
            <a:stCxn id="1094" idx="6"/>
            <a:endCxn id="1087" idx="2"/>
          </p:cNvCxnSpPr>
          <p:nvPr/>
        </p:nvCxnSpPr>
        <p:spPr>
          <a:xfrm>
            <a:off x="213336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99" name=""/>
          <p:cNvCxnSpPr>
            <a:stCxn id="1087" idx="6"/>
            <a:endCxn id="1088" idx="2"/>
          </p:cNvCxnSpPr>
          <p:nvPr/>
        </p:nvCxnSpPr>
        <p:spPr>
          <a:xfrm>
            <a:off x="2742840" y="37717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0" name=""/>
          <p:cNvCxnSpPr>
            <a:stCxn id="1088" idx="6"/>
            <a:endCxn id="1089" idx="2"/>
          </p:cNvCxnSpPr>
          <p:nvPr/>
        </p:nvCxnSpPr>
        <p:spPr>
          <a:xfrm>
            <a:off x="327636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1" name=""/>
          <p:cNvCxnSpPr>
            <a:stCxn id="1089" idx="6"/>
            <a:endCxn id="1090" idx="2"/>
          </p:cNvCxnSpPr>
          <p:nvPr/>
        </p:nvCxnSpPr>
        <p:spPr>
          <a:xfrm>
            <a:off x="388584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2" name=""/>
          <p:cNvCxnSpPr>
            <a:stCxn id="1090" idx="6"/>
            <a:endCxn id="1083" idx="2"/>
          </p:cNvCxnSpPr>
          <p:nvPr/>
        </p:nvCxnSpPr>
        <p:spPr>
          <a:xfrm>
            <a:off x="4495680" y="37717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3" name=""/>
          <p:cNvCxnSpPr>
            <a:stCxn id="1083" idx="6"/>
            <a:endCxn id="1084" idx="2"/>
          </p:cNvCxnSpPr>
          <p:nvPr/>
        </p:nvCxnSpPr>
        <p:spPr>
          <a:xfrm>
            <a:off x="502884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4" name=""/>
          <p:cNvCxnSpPr>
            <a:stCxn id="1084" idx="6"/>
            <a:endCxn id="1085" idx="2"/>
          </p:cNvCxnSpPr>
          <p:nvPr/>
        </p:nvCxnSpPr>
        <p:spPr>
          <a:xfrm>
            <a:off x="563832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5" name=""/>
          <p:cNvCxnSpPr>
            <a:stCxn id="1085" idx="6"/>
            <a:endCxn id="1086" idx="2"/>
          </p:cNvCxnSpPr>
          <p:nvPr/>
        </p:nvCxnSpPr>
        <p:spPr>
          <a:xfrm>
            <a:off x="624816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6" name=""/>
          <p:cNvCxnSpPr>
            <a:stCxn id="1086" idx="6"/>
            <a:endCxn id="1079" idx="2"/>
          </p:cNvCxnSpPr>
          <p:nvPr/>
        </p:nvCxnSpPr>
        <p:spPr>
          <a:xfrm>
            <a:off x="6857640" y="3771720"/>
            <a:ext cx="15300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7" name=""/>
          <p:cNvCxnSpPr>
            <a:stCxn id="1079" idx="6"/>
            <a:endCxn id="1080" idx="2"/>
          </p:cNvCxnSpPr>
          <p:nvPr/>
        </p:nvCxnSpPr>
        <p:spPr>
          <a:xfrm>
            <a:off x="739116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8" name=""/>
          <p:cNvCxnSpPr>
            <a:stCxn id="1080" idx="6"/>
            <a:endCxn id="1081" idx="2"/>
          </p:cNvCxnSpPr>
          <p:nvPr/>
        </p:nvCxnSpPr>
        <p:spPr>
          <a:xfrm>
            <a:off x="8000640" y="3771720"/>
            <a:ext cx="2293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09" name=""/>
          <p:cNvCxnSpPr>
            <a:stCxn id="1081" idx="6"/>
            <a:endCxn id="1082" idx="2"/>
          </p:cNvCxnSpPr>
          <p:nvPr/>
        </p:nvCxnSpPr>
        <p:spPr>
          <a:xfrm>
            <a:off x="8610480" y="3771720"/>
            <a:ext cx="1533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110" name=""/>
          <p:cNvSpPr/>
          <p:nvPr/>
        </p:nvSpPr>
        <p:spPr>
          <a:xfrm>
            <a:off x="107136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6152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68084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29032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82384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3332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04316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576320" y="35812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79960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8976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0908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94260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16156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55208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674560" y="35812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10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20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2296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763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648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257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8672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4771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362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895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5053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1148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3352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143000" y="5197320"/>
            <a:ext cx="38088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752480" y="5197320"/>
            <a:ext cx="381240" cy="3812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1" name=""/>
          <p:cNvCxnSpPr>
            <a:stCxn id="1137" idx="6"/>
            <a:endCxn id="1138" idx="2"/>
          </p:cNvCxnSpPr>
          <p:nvPr/>
        </p:nvCxnSpPr>
        <p:spPr>
          <a:xfrm>
            <a:off x="3808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42" name=""/>
          <p:cNvCxnSpPr>
            <a:stCxn id="1138" idx="6"/>
            <a:endCxn id="1139" idx="2"/>
          </p:cNvCxnSpPr>
          <p:nvPr/>
        </p:nvCxnSpPr>
        <p:spPr>
          <a:xfrm>
            <a:off x="9140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43" name=""/>
          <p:cNvCxnSpPr>
            <a:stCxn id="1139" idx="6"/>
            <a:endCxn id="1140" idx="2"/>
          </p:cNvCxnSpPr>
          <p:nvPr/>
        </p:nvCxnSpPr>
        <p:spPr>
          <a:xfrm>
            <a:off x="15235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44" name=""/>
          <p:cNvCxnSpPr>
            <a:stCxn id="1140" idx="6"/>
            <a:endCxn id="1133" idx="2"/>
          </p:cNvCxnSpPr>
          <p:nvPr/>
        </p:nvCxnSpPr>
        <p:spPr>
          <a:xfrm>
            <a:off x="2133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45" name=""/>
          <p:cNvCxnSpPr>
            <a:stCxn id="1133" idx="6"/>
            <a:endCxn id="1134" idx="2"/>
          </p:cNvCxnSpPr>
          <p:nvPr/>
        </p:nvCxnSpPr>
        <p:spPr>
          <a:xfrm>
            <a:off x="27428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46" name=""/>
          <p:cNvCxnSpPr>
            <a:stCxn id="1134" idx="6"/>
            <a:endCxn id="1135" idx="2"/>
          </p:cNvCxnSpPr>
          <p:nvPr/>
        </p:nvCxnSpPr>
        <p:spPr>
          <a:xfrm>
            <a:off x="32763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47" name=""/>
          <p:cNvCxnSpPr>
            <a:stCxn id="1135" idx="6"/>
            <a:endCxn id="1136" idx="2"/>
          </p:cNvCxnSpPr>
          <p:nvPr/>
        </p:nvCxnSpPr>
        <p:spPr>
          <a:xfrm>
            <a:off x="3885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48" name=""/>
          <p:cNvCxnSpPr>
            <a:stCxn id="1136" idx="6"/>
            <a:endCxn id="1129" idx="2"/>
          </p:cNvCxnSpPr>
          <p:nvPr/>
        </p:nvCxnSpPr>
        <p:spPr>
          <a:xfrm>
            <a:off x="44956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49" name=""/>
          <p:cNvCxnSpPr>
            <a:stCxn id="1129" idx="6"/>
            <a:endCxn id="1130" idx="2"/>
          </p:cNvCxnSpPr>
          <p:nvPr/>
        </p:nvCxnSpPr>
        <p:spPr>
          <a:xfrm>
            <a:off x="50288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50" name=""/>
          <p:cNvCxnSpPr>
            <a:stCxn id="1130" idx="6"/>
            <a:endCxn id="1131" idx="2"/>
          </p:cNvCxnSpPr>
          <p:nvPr/>
        </p:nvCxnSpPr>
        <p:spPr>
          <a:xfrm>
            <a:off x="563832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51" name=""/>
          <p:cNvCxnSpPr>
            <a:stCxn id="1131" idx="6"/>
            <a:endCxn id="1132" idx="2"/>
          </p:cNvCxnSpPr>
          <p:nvPr/>
        </p:nvCxnSpPr>
        <p:spPr>
          <a:xfrm>
            <a:off x="6248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52" name=""/>
          <p:cNvCxnSpPr>
            <a:stCxn id="1132" idx="6"/>
            <a:endCxn id="1125" idx="2"/>
          </p:cNvCxnSpPr>
          <p:nvPr/>
        </p:nvCxnSpPr>
        <p:spPr>
          <a:xfrm>
            <a:off x="6857640" y="5387760"/>
            <a:ext cx="153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53" name=""/>
          <p:cNvCxnSpPr>
            <a:stCxn id="1125" idx="6"/>
            <a:endCxn id="1126" idx="2"/>
          </p:cNvCxnSpPr>
          <p:nvPr/>
        </p:nvCxnSpPr>
        <p:spPr>
          <a:xfrm>
            <a:off x="739116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54" name=""/>
          <p:cNvCxnSpPr>
            <a:stCxn id="1126" idx="6"/>
            <a:endCxn id="1127" idx="2"/>
          </p:cNvCxnSpPr>
          <p:nvPr/>
        </p:nvCxnSpPr>
        <p:spPr>
          <a:xfrm>
            <a:off x="8000640" y="5387760"/>
            <a:ext cx="22932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55" name=""/>
          <p:cNvCxnSpPr>
            <a:stCxn id="1127" idx="6"/>
            <a:endCxn id="1128" idx="2"/>
          </p:cNvCxnSpPr>
          <p:nvPr/>
        </p:nvCxnSpPr>
        <p:spPr>
          <a:xfrm>
            <a:off x="8610480" y="5387760"/>
            <a:ext cx="15336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156" name=""/>
          <p:cNvSpPr/>
          <p:nvPr/>
        </p:nvSpPr>
        <p:spPr>
          <a:xfrm>
            <a:off x="4267080" y="914400"/>
            <a:ext cx="381240" cy="380880"/>
          </a:xfrm>
          <a:prstGeom prst="ellipse">
            <a:avLst/>
          </a:prstGeom>
          <a:solidFill>
            <a:srgbClr val="c18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269240" y="914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10080" y="2286000"/>
            <a:ext cx="381240" cy="380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0" y="2286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201480" y="2286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2" name=""/>
          <p:cNvCxnSpPr>
            <a:stCxn id="1157" idx="1"/>
            <a:endCxn id="1161" idx="0"/>
          </p:cNvCxnSpPr>
          <p:nvPr/>
        </p:nvCxnSpPr>
        <p:spPr>
          <a:xfrm flipH="1">
            <a:off x="3432960" y="1112400"/>
            <a:ext cx="834120" cy="11739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163" name=""/>
          <p:cNvCxnSpPr>
            <a:stCxn id="1157" idx="3"/>
            <a:endCxn id="1160" idx="0"/>
          </p:cNvCxnSpPr>
          <p:nvPr/>
        </p:nvCxnSpPr>
        <p:spPr>
          <a:xfrm>
            <a:off x="4621320" y="1112400"/>
            <a:ext cx="961200" cy="1173960"/>
          </a:xfrm>
          <a:prstGeom prst="straightConnector1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</p:cxnSp>
      <p:cxnSp>
        <p:nvCxnSpPr>
          <p:cNvPr id="1164" name=""/>
          <p:cNvCxnSpPr>
            <a:stCxn id="1111" idx="2"/>
            <a:endCxn id="1138" idx="0"/>
          </p:cNvCxnSpPr>
          <p:nvPr/>
        </p:nvCxnSpPr>
        <p:spPr>
          <a:xfrm>
            <a:off x="69660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65" name=""/>
          <p:cNvCxnSpPr>
            <a:stCxn id="1093" idx="4"/>
            <a:endCxn id="1139" idx="0"/>
          </p:cNvCxnSpPr>
          <p:nvPr/>
        </p:nvCxnSpPr>
        <p:spPr>
          <a:xfrm>
            <a:off x="1333080" y="3962520"/>
            <a:ext cx="1080" cy="1235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66" name=""/>
          <p:cNvCxnSpPr>
            <a:stCxn id="1112" idx="2"/>
            <a:endCxn id="1140" idx="0"/>
          </p:cNvCxnSpPr>
          <p:nvPr/>
        </p:nvCxnSpPr>
        <p:spPr>
          <a:xfrm>
            <a:off x="191592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67" name=""/>
          <p:cNvCxnSpPr>
            <a:stCxn id="1113" idx="2"/>
            <a:endCxn id="1133" idx="0"/>
          </p:cNvCxnSpPr>
          <p:nvPr/>
        </p:nvCxnSpPr>
        <p:spPr>
          <a:xfrm>
            <a:off x="252540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68" name=""/>
          <p:cNvCxnSpPr>
            <a:stCxn id="1114" idx="2"/>
            <a:endCxn id="1134" idx="0"/>
          </p:cNvCxnSpPr>
          <p:nvPr/>
        </p:nvCxnSpPr>
        <p:spPr>
          <a:xfrm>
            <a:off x="305892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69" name=""/>
          <p:cNvCxnSpPr>
            <a:stCxn id="1115" idx="2"/>
            <a:endCxn id="1135" idx="0"/>
          </p:cNvCxnSpPr>
          <p:nvPr/>
        </p:nvCxnSpPr>
        <p:spPr>
          <a:xfrm>
            <a:off x="366840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0" name=""/>
          <p:cNvCxnSpPr>
            <a:stCxn id="1116" idx="2"/>
            <a:endCxn id="1136" idx="0"/>
          </p:cNvCxnSpPr>
          <p:nvPr/>
        </p:nvCxnSpPr>
        <p:spPr>
          <a:xfrm>
            <a:off x="427788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1" name=""/>
          <p:cNvCxnSpPr>
            <a:stCxn id="1117" idx="2"/>
            <a:endCxn id="1129" idx="0"/>
          </p:cNvCxnSpPr>
          <p:nvPr/>
        </p:nvCxnSpPr>
        <p:spPr>
          <a:xfrm>
            <a:off x="4811400" y="3978360"/>
            <a:ext cx="277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2" name=""/>
          <p:cNvCxnSpPr>
            <a:stCxn id="1119" idx="2"/>
            <a:endCxn id="1130" idx="0"/>
          </p:cNvCxnSpPr>
          <p:nvPr/>
        </p:nvCxnSpPr>
        <p:spPr>
          <a:xfrm flipH="1">
            <a:off x="5447880" y="3978360"/>
            <a:ext cx="151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3" name=""/>
          <p:cNvCxnSpPr>
            <a:stCxn id="1085" idx="4"/>
            <a:endCxn id="1131" idx="0"/>
          </p:cNvCxnSpPr>
          <p:nvPr/>
        </p:nvCxnSpPr>
        <p:spPr>
          <a:xfrm>
            <a:off x="6057720" y="3962520"/>
            <a:ext cx="1080" cy="1235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4" name=""/>
          <p:cNvCxnSpPr>
            <a:stCxn id="1120" idx="2"/>
            <a:endCxn id="1132" idx="0"/>
          </p:cNvCxnSpPr>
          <p:nvPr/>
        </p:nvCxnSpPr>
        <p:spPr>
          <a:xfrm flipH="1">
            <a:off x="6667200" y="3978360"/>
            <a:ext cx="151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5" name=""/>
          <p:cNvCxnSpPr>
            <a:stCxn id="1121" idx="2"/>
            <a:endCxn id="1125" idx="0"/>
          </p:cNvCxnSpPr>
          <p:nvPr/>
        </p:nvCxnSpPr>
        <p:spPr>
          <a:xfrm flipH="1">
            <a:off x="7200360" y="3978360"/>
            <a:ext cx="1476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6" name=""/>
          <p:cNvCxnSpPr>
            <a:stCxn id="1123" idx="2"/>
            <a:endCxn id="1126" idx="0"/>
          </p:cNvCxnSpPr>
          <p:nvPr/>
        </p:nvCxnSpPr>
        <p:spPr>
          <a:xfrm flipH="1">
            <a:off x="7810200" y="3978360"/>
            <a:ext cx="151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7" name=""/>
          <p:cNvCxnSpPr>
            <a:stCxn id="1122" idx="2"/>
            <a:endCxn id="1127" idx="0"/>
          </p:cNvCxnSpPr>
          <p:nvPr/>
        </p:nvCxnSpPr>
        <p:spPr>
          <a:xfrm flipH="1">
            <a:off x="8419680" y="3978360"/>
            <a:ext cx="1512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8" name=""/>
          <p:cNvCxnSpPr>
            <a:stCxn id="1124" idx="2"/>
            <a:endCxn id="1128" idx="0"/>
          </p:cNvCxnSpPr>
          <p:nvPr/>
        </p:nvCxnSpPr>
        <p:spPr>
          <a:xfrm>
            <a:off x="8947080" y="3978360"/>
            <a:ext cx="720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79" name=""/>
          <p:cNvCxnSpPr>
            <a:stCxn id="1160" idx="2"/>
            <a:endCxn id="1091" idx="0"/>
          </p:cNvCxnSpPr>
          <p:nvPr/>
        </p:nvCxnSpPr>
        <p:spPr>
          <a:xfrm flipH="1">
            <a:off x="190080" y="2682720"/>
            <a:ext cx="5392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0" name=""/>
          <p:cNvCxnSpPr>
            <a:stCxn id="1160" idx="2"/>
            <a:endCxn id="1111" idx="0"/>
          </p:cNvCxnSpPr>
          <p:nvPr/>
        </p:nvCxnSpPr>
        <p:spPr>
          <a:xfrm flipH="1">
            <a:off x="696240" y="2682720"/>
            <a:ext cx="48855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1" name=""/>
          <p:cNvCxnSpPr>
            <a:stCxn id="1160" idx="2"/>
            <a:endCxn id="1110" idx="0"/>
          </p:cNvCxnSpPr>
          <p:nvPr/>
        </p:nvCxnSpPr>
        <p:spPr>
          <a:xfrm flipH="1">
            <a:off x="1306080" y="2682720"/>
            <a:ext cx="42760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2" name=""/>
          <p:cNvCxnSpPr>
            <a:stCxn id="1160" idx="2"/>
            <a:endCxn id="1112" idx="0"/>
          </p:cNvCxnSpPr>
          <p:nvPr/>
        </p:nvCxnSpPr>
        <p:spPr>
          <a:xfrm flipH="1">
            <a:off x="1915920" y="2682720"/>
            <a:ext cx="3666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3" name=""/>
          <p:cNvCxnSpPr>
            <a:stCxn id="1160" idx="2"/>
            <a:endCxn id="1113" idx="0"/>
          </p:cNvCxnSpPr>
          <p:nvPr/>
        </p:nvCxnSpPr>
        <p:spPr>
          <a:xfrm flipH="1">
            <a:off x="2525040" y="2682720"/>
            <a:ext cx="305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60" idx="2"/>
            <a:endCxn id="1114" idx="0"/>
          </p:cNvCxnSpPr>
          <p:nvPr/>
        </p:nvCxnSpPr>
        <p:spPr>
          <a:xfrm flipH="1">
            <a:off x="3058560" y="2682720"/>
            <a:ext cx="252324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5" name=""/>
          <p:cNvCxnSpPr>
            <a:stCxn id="1160" idx="2"/>
            <a:endCxn id="1089" idx="0"/>
          </p:cNvCxnSpPr>
          <p:nvPr/>
        </p:nvCxnSpPr>
        <p:spPr>
          <a:xfrm flipH="1">
            <a:off x="3695040" y="2682720"/>
            <a:ext cx="1886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6" name=""/>
          <p:cNvCxnSpPr>
            <a:stCxn id="1160" idx="2"/>
            <a:endCxn id="1090" idx="0"/>
          </p:cNvCxnSpPr>
          <p:nvPr/>
        </p:nvCxnSpPr>
        <p:spPr>
          <a:xfrm flipH="1">
            <a:off x="4305240" y="2682720"/>
            <a:ext cx="127692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7" name=""/>
          <p:cNvCxnSpPr>
            <a:stCxn id="1160" idx="2"/>
            <a:endCxn id="1083" idx="0"/>
          </p:cNvCxnSpPr>
          <p:nvPr/>
        </p:nvCxnSpPr>
        <p:spPr>
          <a:xfrm flipH="1">
            <a:off x="4838400" y="2682720"/>
            <a:ext cx="7437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8" name=""/>
          <p:cNvCxnSpPr>
            <a:stCxn id="1160" idx="2"/>
            <a:endCxn id="1084" idx="0"/>
          </p:cNvCxnSpPr>
          <p:nvPr/>
        </p:nvCxnSpPr>
        <p:spPr>
          <a:xfrm flipH="1">
            <a:off x="5447520" y="2682720"/>
            <a:ext cx="1342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89" name=""/>
          <p:cNvCxnSpPr>
            <a:stCxn id="1160" idx="2"/>
            <a:endCxn id="1085" idx="0"/>
          </p:cNvCxnSpPr>
          <p:nvPr/>
        </p:nvCxnSpPr>
        <p:spPr>
          <a:xfrm>
            <a:off x="5581440" y="2682720"/>
            <a:ext cx="477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90" name=""/>
          <p:cNvCxnSpPr>
            <a:stCxn id="1160" idx="2"/>
            <a:endCxn id="1086" idx="0"/>
          </p:cNvCxnSpPr>
          <p:nvPr/>
        </p:nvCxnSpPr>
        <p:spPr>
          <a:xfrm>
            <a:off x="5581800" y="2682720"/>
            <a:ext cx="10864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91" name=""/>
          <p:cNvCxnSpPr>
            <a:stCxn id="1160" idx="2"/>
            <a:endCxn id="1079" idx="0"/>
          </p:cNvCxnSpPr>
          <p:nvPr/>
        </p:nvCxnSpPr>
        <p:spPr>
          <a:xfrm>
            <a:off x="5581800" y="2682720"/>
            <a:ext cx="1620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92" name=""/>
          <p:cNvCxnSpPr>
            <a:stCxn id="1160" idx="2"/>
            <a:endCxn id="1123" idx="0"/>
          </p:cNvCxnSpPr>
          <p:nvPr/>
        </p:nvCxnSpPr>
        <p:spPr>
          <a:xfrm>
            <a:off x="5581440" y="2682720"/>
            <a:ext cx="224388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93" name=""/>
          <p:cNvCxnSpPr>
            <a:stCxn id="1160" idx="2"/>
            <a:endCxn id="1122" idx="0"/>
          </p:cNvCxnSpPr>
          <p:nvPr/>
        </p:nvCxnSpPr>
        <p:spPr>
          <a:xfrm>
            <a:off x="5581800" y="2682720"/>
            <a:ext cx="285336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94" name=""/>
          <p:cNvCxnSpPr>
            <a:stCxn id="1160" idx="2"/>
            <a:endCxn id="1124" idx="0"/>
          </p:cNvCxnSpPr>
          <p:nvPr/>
        </p:nvCxnSpPr>
        <p:spPr>
          <a:xfrm>
            <a:off x="5581800" y="2682720"/>
            <a:ext cx="3366000" cy="899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195" name=""/>
          <p:cNvCxnSpPr>
            <a:stCxn id="1161" idx="2"/>
            <a:endCxn id="1091" idx="0"/>
          </p:cNvCxnSpPr>
          <p:nvPr/>
        </p:nvCxnSpPr>
        <p:spPr>
          <a:xfrm flipH="1">
            <a:off x="189720" y="2682720"/>
            <a:ext cx="3243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6" name=""/>
          <p:cNvCxnSpPr>
            <a:stCxn id="1161" idx="2"/>
            <a:endCxn id="1111" idx="0"/>
          </p:cNvCxnSpPr>
          <p:nvPr/>
        </p:nvCxnSpPr>
        <p:spPr>
          <a:xfrm flipH="1">
            <a:off x="696960" y="2682720"/>
            <a:ext cx="27370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7" name=""/>
          <p:cNvCxnSpPr>
            <a:stCxn id="1161" idx="2"/>
            <a:endCxn id="1117" idx="0"/>
          </p:cNvCxnSpPr>
          <p:nvPr/>
        </p:nvCxnSpPr>
        <p:spPr>
          <a:xfrm>
            <a:off x="3433680" y="2682720"/>
            <a:ext cx="13788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stCxn id="1161" idx="2"/>
            <a:endCxn id="1119" idx="0"/>
          </p:cNvCxnSpPr>
          <p:nvPr/>
        </p:nvCxnSpPr>
        <p:spPr>
          <a:xfrm>
            <a:off x="3433680" y="2682720"/>
            <a:ext cx="202968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9" name=""/>
          <p:cNvCxnSpPr>
            <a:stCxn id="1161" idx="2"/>
            <a:endCxn id="1118" idx="0"/>
          </p:cNvCxnSpPr>
          <p:nvPr/>
        </p:nvCxnSpPr>
        <p:spPr>
          <a:xfrm>
            <a:off x="3433320" y="2682720"/>
            <a:ext cx="26391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00" name=""/>
          <p:cNvCxnSpPr>
            <a:stCxn id="1161" idx="2"/>
            <a:endCxn id="1120" idx="0"/>
          </p:cNvCxnSpPr>
          <p:nvPr/>
        </p:nvCxnSpPr>
        <p:spPr>
          <a:xfrm>
            <a:off x="3433320" y="2682720"/>
            <a:ext cx="324900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01" name=""/>
          <p:cNvSpPr/>
          <p:nvPr/>
        </p:nvSpPr>
        <p:spPr>
          <a:xfrm>
            <a:off x="10724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626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681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91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82492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34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04424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577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44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354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354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88788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10720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49772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619840" y="518148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400" y="5181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7" name=""/>
          <p:cNvCxnSpPr>
            <a:stCxn id="1091" idx="4"/>
            <a:endCxn id="1216" idx="0"/>
          </p:cNvCxnSpPr>
          <p:nvPr/>
        </p:nvCxnSpPr>
        <p:spPr>
          <a:xfrm>
            <a:off x="190080" y="3962520"/>
            <a:ext cx="35640" cy="1219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218" name=""/>
          <p:cNvSpPr/>
          <p:nvPr/>
        </p:nvSpPr>
        <p:spPr>
          <a:xfrm>
            <a:off x="79246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780960" y="190512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0" name=""/>
          <p:cNvCxnSpPr>
            <a:stCxn id="1161" idx="2"/>
            <a:endCxn id="1110" idx="0"/>
          </p:cNvCxnSpPr>
          <p:nvPr/>
        </p:nvCxnSpPr>
        <p:spPr>
          <a:xfrm flipH="1">
            <a:off x="1305720" y="2682720"/>
            <a:ext cx="212796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21" name=""/>
          <p:cNvCxnSpPr>
            <a:stCxn id="1161" idx="2"/>
            <a:endCxn id="1112" idx="0"/>
          </p:cNvCxnSpPr>
          <p:nvPr/>
        </p:nvCxnSpPr>
        <p:spPr>
          <a:xfrm flipH="1">
            <a:off x="1915560" y="2682720"/>
            <a:ext cx="1518120" cy="899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2" name=""/>
          <p:cNvSpPr/>
          <p:nvPr/>
        </p:nvSpPr>
        <p:spPr>
          <a:xfrm>
            <a:off x="0" y="1905120"/>
            <a:ext cx="9144000" cy="304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010280" y="4267080"/>
            <a:ext cx="38124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62012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22960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76312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25780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67280" y="4267080"/>
            <a:ext cx="38124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47712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95480" y="4267080"/>
            <a:ext cx="38124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0532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1480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43000" y="4267080"/>
            <a:ext cx="38088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752480" y="4267080"/>
            <a:ext cx="381240" cy="3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9" name=""/>
          <p:cNvCxnSpPr>
            <a:stCxn id="1235" idx="6"/>
            <a:endCxn id="1236" idx="2"/>
          </p:cNvCxnSpPr>
          <p:nvPr/>
        </p:nvCxnSpPr>
        <p:spPr>
          <a:xfrm>
            <a:off x="380880" y="4457520"/>
            <a:ext cx="15336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0" name=""/>
          <p:cNvCxnSpPr>
            <a:stCxn id="1236" idx="6"/>
            <a:endCxn id="1237" idx="2"/>
          </p:cNvCxnSpPr>
          <p:nvPr/>
        </p:nvCxnSpPr>
        <p:spPr>
          <a:xfrm>
            <a:off x="91404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1" name=""/>
          <p:cNvCxnSpPr>
            <a:stCxn id="1237" idx="6"/>
            <a:endCxn id="1238" idx="2"/>
          </p:cNvCxnSpPr>
          <p:nvPr/>
        </p:nvCxnSpPr>
        <p:spPr>
          <a:xfrm>
            <a:off x="152352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2" name=""/>
          <p:cNvCxnSpPr>
            <a:stCxn id="1238" idx="6"/>
            <a:endCxn id="1231" idx="2"/>
          </p:cNvCxnSpPr>
          <p:nvPr/>
        </p:nvCxnSpPr>
        <p:spPr>
          <a:xfrm>
            <a:off x="213336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3" name=""/>
          <p:cNvCxnSpPr>
            <a:stCxn id="1231" idx="6"/>
            <a:endCxn id="1232" idx="2"/>
          </p:cNvCxnSpPr>
          <p:nvPr/>
        </p:nvCxnSpPr>
        <p:spPr>
          <a:xfrm>
            <a:off x="2742840" y="4457520"/>
            <a:ext cx="15300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4" name=""/>
          <p:cNvCxnSpPr>
            <a:stCxn id="1232" idx="6"/>
            <a:endCxn id="1233" idx="2"/>
          </p:cNvCxnSpPr>
          <p:nvPr/>
        </p:nvCxnSpPr>
        <p:spPr>
          <a:xfrm>
            <a:off x="327636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5" name=""/>
          <p:cNvCxnSpPr>
            <a:stCxn id="1233" idx="6"/>
            <a:endCxn id="1234" idx="2"/>
          </p:cNvCxnSpPr>
          <p:nvPr/>
        </p:nvCxnSpPr>
        <p:spPr>
          <a:xfrm>
            <a:off x="388584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6" name=""/>
          <p:cNvCxnSpPr>
            <a:stCxn id="1234" idx="6"/>
            <a:endCxn id="1227" idx="2"/>
          </p:cNvCxnSpPr>
          <p:nvPr/>
        </p:nvCxnSpPr>
        <p:spPr>
          <a:xfrm>
            <a:off x="4495680" y="4457520"/>
            <a:ext cx="15336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7" name=""/>
          <p:cNvCxnSpPr>
            <a:stCxn id="1227" idx="6"/>
            <a:endCxn id="1228" idx="2"/>
          </p:cNvCxnSpPr>
          <p:nvPr/>
        </p:nvCxnSpPr>
        <p:spPr>
          <a:xfrm>
            <a:off x="502884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8" name=""/>
          <p:cNvCxnSpPr>
            <a:stCxn id="1228" idx="6"/>
            <a:endCxn id="1229" idx="2"/>
          </p:cNvCxnSpPr>
          <p:nvPr/>
        </p:nvCxnSpPr>
        <p:spPr>
          <a:xfrm>
            <a:off x="563832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49" name=""/>
          <p:cNvCxnSpPr>
            <a:stCxn id="1229" idx="6"/>
            <a:endCxn id="1230" idx="2"/>
          </p:cNvCxnSpPr>
          <p:nvPr/>
        </p:nvCxnSpPr>
        <p:spPr>
          <a:xfrm>
            <a:off x="624816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50" name=""/>
          <p:cNvCxnSpPr>
            <a:stCxn id="1230" idx="6"/>
            <a:endCxn id="1223" idx="2"/>
          </p:cNvCxnSpPr>
          <p:nvPr/>
        </p:nvCxnSpPr>
        <p:spPr>
          <a:xfrm>
            <a:off x="6857640" y="4457520"/>
            <a:ext cx="15300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51" name=""/>
          <p:cNvCxnSpPr>
            <a:stCxn id="1223" idx="6"/>
            <a:endCxn id="1224" idx="2"/>
          </p:cNvCxnSpPr>
          <p:nvPr/>
        </p:nvCxnSpPr>
        <p:spPr>
          <a:xfrm>
            <a:off x="739116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52" name=""/>
          <p:cNvCxnSpPr>
            <a:stCxn id="1224" idx="6"/>
            <a:endCxn id="1225" idx="2"/>
          </p:cNvCxnSpPr>
          <p:nvPr/>
        </p:nvCxnSpPr>
        <p:spPr>
          <a:xfrm>
            <a:off x="8000640" y="4457520"/>
            <a:ext cx="22932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1253" name=""/>
          <p:cNvCxnSpPr>
            <a:stCxn id="1225" idx="6"/>
            <a:endCxn id="1226" idx="2"/>
          </p:cNvCxnSpPr>
          <p:nvPr/>
        </p:nvCxnSpPr>
        <p:spPr>
          <a:xfrm>
            <a:off x="8610480" y="4457520"/>
            <a:ext cx="153360" cy="1080"/>
          </a:xfrm>
          <a:prstGeom prst="straightConnector1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1254" name=""/>
          <p:cNvSpPr/>
          <p:nvPr/>
        </p:nvSpPr>
        <p:spPr>
          <a:xfrm>
            <a:off x="1071720" y="42670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2240" y="42670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81560" y="42670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91040" y="42670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824560" y="42670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434040" y="42670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043520" y="42670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77040" y="42670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799960" y="426708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190480" y="426708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409440" y="426708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942960" y="426708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62280" y="426708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52440" y="426708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695440" y="426708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147600" y="4267080"/>
            <a:ext cx="63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0" name=""/>
          <p:cNvCxnSpPr>
            <a:stCxn id="1091" idx="4"/>
            <a:endCxn id="1235" idx="1"/>
          </p:cNvCxnSpPr>
          <p:nvPr/>
        </p:nvCxnSpPr>
        <p:spPr>
          <a:xfrm flipH="1">
            <a:off x="54720" y="3962160"/>
            <a:ext cx="135720" cy="36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1" name=""/>
          <p:cNvCxnSpPr>
            <a:stCxn id="1111" idx="2"/>
            <a:endCxn id="1236" idx="1"/>
          </p:cNvCxnSpPr>
          <p:nvPr/>
        </p:nvCxnSpPr>
        <p:spPr>
          <a:xfrm flipH="1">
            <a:off x="588600" y="3978000"/>
            <a:ext cx="1087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2" name=""/>
          <p:cNvCxnSpPr>
            <a:stCxn id="1110" idx="2"/>
            <a:endCxn id="1237" idx="1"/>
          </p:cNvCxnSpPr>
          <p:nvPr/>
        </p:nvCxnSpPr>
        <p:spPr>
          <a:xfrm flipH="1">
            <a:off x="1198080" y="3978000"/>
            <a:ext cx="1087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3" name=""/>
          <p:cNvCxnSpPr>
            <a:stCxn id="1112" idx="2"/>
            <a:endCxn id="1238" idx="1"/>
          </p:cNvCxnSpPr>
          <p:nvPr/>
        </p:nvCxnSpPr>
        <p:spPr>
          <a:xfrm flipH="1">
            <a:off x="1807920" y="3978000"/>
            <a:ext cx="1087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stCxn id="1113" idx="2"/>
            <a:endCxn id="1231" idx="1"/>
          </p:cNvCxnSpPr>
          <p:nvPr/>
        </p:nvCxnSpPr>
        <p:spPr>
          <a:xfrm flipH="1">
            <a:off x="2417400" y="3978000"/>
            <a:ext cx="1087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5" name=""/>
          <p:cNvCxnSpPr>
            <a:stCxn id="1114" idx="2"/>
            <a:endCxn id="1232" idx="1"/>
          </p:cNvCxnSpPr>
          <p:nvPr/>
        </p:nvCxnSpPr>
        <p:spPr>
          <a:xfrm flipH="1">
            <a:off x="2950920" y="3978000"/>
            <a:ext cx="1087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6" name=""/>
          <p:cNvCxnSpPr>
            <a:stCxn id="1115" idx="2"/>
            <a:endCxn id="1233" idx="1"/>
          </p:cNvCxnSpPr>
          <p:nvPr/>
        </p:nvCxnSpPr>
        <p:spPr>
          <a:xfrm flipH="1">
            <a:off x="3560400" y="3978000"/>
            <a:ext cx="1087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7" name=""/>
          <p:cNvCxnSpPr>
            <a:stCxn id="1116" idx="2"/>
            <a:endCxn id="1234" idx="1"/>
          </p:cNvCxnSpPr>
          <p:nvPr/>
        </p:nvCxnSpPr>
        <p:spPr>
          <a:xfrm flipH="1">
            <a:off x="4169880" y="3978000"/>
            <a:ext cx="1087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8" name=""/>
          <p:cNvCxnSpPr>
            <a:stCxn id="1117" idx="2"/>
            <a:endCxn id="1227" idx="1"/>
          </p:cNvCxnSpPr>
          <p:nvPr/>
        </p:nvCxnSpPr>
        <p:spPr>
          <a:xfrm flipH="1">
            <a:off x="4703400" y="3978000"/>
            <a:ext cx="1087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9" name=""/>
          <p:cNvCxnSpPr>
            <a:stCxn id="1119" idx="2"/>
            <a:endCxn id="1228" idx="1"/>
          </p:cNvCxnSpPr>
          <p:nvPr/>
        </p:nvCxnSpPr>
        <p:spPr>
          <a:xfrm flipH="1">
            <a:off x="5312520" y="3978000"/>
            <a:ext cx="1501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80" name=""/>
          <p:cNvCxnSpPr>
            <a:stCxn id="1118" idx="2"/>
            <a:endCxn id="1229" idx="1"/>
          </p:cNvCxnSpPr>
          <p:nvPr/>
        </p:nvCxnSpPr>
        <p:spPr>
          <a:xfrm flipH="1">
            <a:off x="5922720" y="3978000"/>
            <a:ext cx="14976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81" name=""/>
          <p:cNvCxnSpPr>
            <a:stCxn id="1120" idx="2"/>
            <a:endCxn id="1230" idx="1"/>
          </p:cNvCxnSpPr>
          <p:nvPr/>
        </p:nvCxnSpPr>
        <p:spPr>
          <a:xfrm flipH="1">
            <a:off x="6531840" y="3978000"/>
            <a:ext cx="1501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82" name=""/>
          <p:cNvCxnSpPr>
            <a:stCxn id="1121" idx="2"/>
            <a:endCxn id="1223" idx="1"/>
          </p:cNvCxnSpPr>
          <p:nvPr/>
        </p:nvCxnSpPr>
        <p:spPr>
          <a:xfrm flipH="1">
            <a:off x="7065720" y="3978000"/>
            <a:ext cx="14976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83" name=""/>
          <p:cNvCxnSpPr>
            <a:stCxn id="1123" idx="2"/>
            <a:endCxn id="1224" idx="1"/>
          </p:cNvCxnSpPr>
          <p:nvPr/>
        </p:nvCxnSpPr>
        <p:spPr>
          <a:xfrm flipH="1">
            <a:off x="7674840" y="3978000"/>
            <a:ext cx="1501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84" name=""/>
          <p:cNvCxnSpPr>
            <a:stCxn id="1122" idx="2"/>
            <a:endCxn id="1225" idx="1"/>
          </p:cNvCxnSpPr>
          <p:nvPr/>
        </p:nvCxnSpPr>
        <p:spPr>
          <a:xfrm flipH="1">
            <a:off x="8284320" y="3978000"/>
            <a:ext cx="15012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85" name=""/>
          <p:cNvCxnSpPr>
            <a:stCxn id="1124" idx="2"/>
            <a:endCxn id="1226" idx="1"/>
          </p:cNvCxnSpPr>
          <p:nvPr/>
        </p:nvCxnSpPr>
        <p:spPr>
          <a:xfrm flipH="1">
            <a:off x="8817840" y="3978000"/>
            <a:ext cx="129240" cy="345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010280" y="57150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62012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22960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76312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4832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25780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867280" y="57150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47712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36232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895480" y="57150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50532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1480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3352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715000"/>
            <a:ext cx="38088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57150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3" name=""/>
          <p:cNvCxnSpPr>
            <a:stCxn id="1299" idx="6"/>
            <a:endCxn id="1300" idx="2"/>
          </p:cNvCxnSpPr>
          <p:nvPr/>
        </p:nvCxnSpPr>
        <p:spPr>
          <a:xfrm>
            <a:off x="380880" y="59050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04" name=""/>
          <p:cNvCxnSpPr>
            <a:stCxn id="1300" idx="6"/>
            <a:endCxn id="1301" idx="2"/>
          </p:cNvCxnSpPr>
          <p:nvPr/>
        </p:nvCxnSpPr>
        <p:spPr>
          <a:xfrm>
            <a:off x="91404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05" name=""/>
          <p:cNvCxnSpPr>
            <a:stCxn id="1301" idx="6"/>
            <a:endCxn id="1302" idx="2"/>
          </p:cNvCxnSpPr>
          <p:nvPr/>
        </p:nvCxnSpPr>
        <p:spPr>
          <a:xfrm>
            <a:off x="152352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06" name=""/>
          <p:cNvCxnSpPr>
            <a:stCxn id="1302" idx="6"/>
            <a:endCxn id="1295" idx="2"/>
          </p:cNvCxnSpPr>
          <p:nvPr/>
        </p:nvCxnSpPr>
        <p:spPr>
          <a:xfrm>
            <a:off x="213336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07" name=""/>
          <p:cNvCxnSpPr>
            <a:stCxn id="1295" idx="6"/>
            <a:endCxn id="1296" idx="2"/>
          </p:cNvCxnSpPr>
          <p:nvPr/>
        </p:nvCxnSpPr>
        <p:spPr>
          <a:xfrm>
            <a:off x="2742840" y="59050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08" name=""/>
          <p:cNvCxnSpPr>
            <a:stCxn id="1296" idx="6"/>
            <a:endCxn id="1297" idx="2"/>
          </p:cNvCxnSpPr>
          <p:nvPr/>
        </p:nvCxnSpPr>
        <p:spPr>
          <a:xfrm>
            <a:off x="327636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09" name=""/>
          <p:cNvCxnSpPr>
            <a:stCxn id="1297" idx="6"/>
            <a:endCxn id="1298" idx="2"/>
          </p:cNvCxnSpPr>
          <p:nvPr/>
        </p:nvCxnSpPr>
        <p:spPr>
          <a:xfrm>
            <a:off x="388584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98" idx="6"/>
            <a:endCxn id="1291" idx="2"/>
          </p:cNvCxnSpPr>
          <p:nvPr/>
        </p:nvCxnSpPr>
        <p:spPr>
          <a:xfrm>
            <a:off x="4495680" y="59050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11" name=""/>
          <p:cNvCxnSpPr>
            <a:stCxn id="1291" idx="6"/>
            <a:endCxn id="1292" idx="2"/>
          </p:cNvCxnSpPr>
          <p:nvPr/>
        </p:nvCxnSpPr>
        <p:spPr>
          <a:xfrm>
            <a:off x="502884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12" name=""/>
          <p:cNvCxnSpPr>
            <a:stCxn id="1292" idx="6"/>
            <a:endCxn id="1293" idx="2"/>
          </p:cNvCxnSpPr>
          <p:nvPr/>
        </p:nvCxnSpPr>
        <p:spPr>
          <a:xfrm>
            <a:off x="563832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13" name=""/>
          <p:cNvCxnSpPr>
            <a:stCxn id="1293" idx="6"/>
            <a:endCxn id="1294" idx="2"/>
          </p:cNvCxnSpPr>
          <p:nvPr/>
        </p:nvCxnSpPr>
        <p:spPr>
          <a:xfrm>
            <a:off x="624816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14" name=""/>
          <p:cNvCxnSpPr>
            <a:stCxn id="1294" idx="6"/>
            <a:endCxn id="1287" idx="2"/>
          </p:cNvCxnSpPr>
          <p:nvPr/>
        </p:nvCxnSpPr>
        <p:spPr>
          <a:xfrm>
            <a:off x="6857640" y="5905080"/>
            <a:ext cx="15300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287" idx="6"/>
            <a:endCxn id="1288" idx="2"/>
          </p:cNvCxnSpPr>
          <p:nvPr/>
        </p:nvCxnSpPr>
        <p:spPr>
          <a:xfrm>
            <a:off x="739116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16" name=""/>
          <p:cNvCxnSpPr>
            <a:stCxn id="1288" idx="6"/>
            <a:endCxn id="1289" idx="2"/>
          </p:cNvCxnSpPr>
          <p:nvPr/>
        </p:nvCxnSpPr>
        <p:spPr>
          <a:xfrm>
            <a:off x="8000640" y="5905080"/>
            <a:ext cx="22932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cxnSp>
        <p:nvCxnSpPr>
          <p:cNvPr id="1317" name=""/>
          <p:cNvCxnSpPr>
            <a:stCxn id="1289" idx="6"/>
            <a:endCxn id="1290" idx="2"/>
          </p:cNvCxnSpPr>
          <p:nvPr/>
        </p:nvCxnSpPr>
        <p:spPr>
          <a:xfrm>
            <a:off x="8610480" y="5905080"/>
            <a:ext cx="153360" cy="1080"/>
          </a:xfrm>
          <a:prstGeom prst="straightConnector1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</p:cxnSp>
      <p:sp>
        <p:nvSpPr>
          <p:cNvPr id="1318" name=""/>
          <p:cNvSpPr/>
          <p:nvPr/>
        </p:nvSpPr>
        <p:spPr>
          <a:xfrm>
            <a:off x="1147320" y="5181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7840" y="5181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757160" y="5181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366640" y="5181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900160" y="5181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09640" y="5181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119120" y="5181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652640" y="5181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875560" y="5181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266080" y="5181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485400" y="5181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018560" y="5181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237880" y="5181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628400" y="5181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750520" y="5181480"/>
            <a:ext cx="5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320" y="518148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148400" y="2819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8920" y="2819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758240" y="2819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367720" y="2819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901240" y="2819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510720" y="2819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20200" y="2819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53720" y="2819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876640" y="281952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267160" y="281952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486480" y="281952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019640" y="281952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238960" y="281952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629480" y="281952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751600" y="2819520"/>
            <a:ext cx="51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400" y="2819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989280" y="39625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9800" y="39625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598760" y="39625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08600" y="39625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741760" y="39625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351600" y="39625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961080" y="39625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494600" y="39625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717520" y="39625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107680" y="39625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327000" y="39625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60520" y="39625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9480" y="39625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470000" y="39625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8592480" y="3962520"/>
            <a:ext cx="64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-153720" y="396252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4:59:59Z</dcterms:created>
  <dc:creator>Morningside Gang</dc:creator>
  <dc:description/>
  <dc:language>en-US</dc:language>
  <cp:lastModifiedBy>Morningside Gang</cp:lastModifiedBy>
  <dcterms:modified xsi:type="dcterms:W3CDTF">2005-10-18T17:09:56Z</dcterms:modified>
  <cp:revision>42</cp:revision>
  <dc:subject/>
  <dc:title>PowerPoint Presentation</dc:title>
</cp:coreProperties>
</file>